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2CB76-AEEE-4CD6-A888-26CCEC5DC2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C4BD2-4449-4AC7-8C12-DB059514A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18981-A80D-4CCC-9B7A-5F9BF31EC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D9D41-99C1-421C-912D-303ADCEBC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63371-90B5-4EA5-B323-99C872249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685A5-F36B-4FDD-B5A0-A25FD0550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08EC1-6F3B-48CE-9527-360C225CD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CB9F2-0DB5-4A46-AE43-B55CB8903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AA0B6-69C2-48FC-9053-6014E1A51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7772B-F222-4AC3-BFDC-1EFC2062C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1846B-F248-4EA6-9B88-FA09E2EF3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71BF1-5CD4-4370-A9D3-E66CD0D85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AA957-DA95-4267-8859-585777FE8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BFDBE-89FB-4364-8A82-0AD17EEB6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8F9B0-AE09-4A22-AE6F-4C529BE16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5931B-95FB-48FA-8ECD-05E046176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914D9-D345-4A8D-B4F8-402AE7C37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0963C-2FE9-4916-A857-932DD61B7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77785-5D72-4E24-A990-9E3EB1DA3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E8AC9-4ECF-4ABC-ABA1-525363378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C0ECE-CDB8-4357-A15A-B88DE0800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6AAC0-ECD2-4361-9961-060225EA0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D9452-5231-4797-AD75-184CBFEF7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PLAYED LEAD GUITAR FOR THE YARDBIRDS, AFTER ERIC CLAPTON, WITH JIMMY PAGE, AND WAS INFLUENTIAL IN THE BEGINNING OF HEAVY METAL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TER  SELL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15920" y="762120"/>
            <a:ext cx="7086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THE ORIGINAL PINK PANTHER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RESS FOR "MOONSTRUCK" AND HAS SOLD OVER 100 MILLION RECO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LEN  KEL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80880" y="762120"/>
            <a:ext cx="838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BLIND &amp; DEAF PERSON TO EARN A BACHELOR OF ARTS DEGRE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NÉE  ZELLWE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CHICAGO", "JERRY MAGUIRE", AND "BRIDGET JONES' DIA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TE  SEE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LK SINGER AND SONGWRITER WROTE "TURN, TURN, TURN", "WHERE HAVE ALL THE FLOWERS GONE?", AND "IF I HAD A HAMM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NN  &amp;  TEL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14400" y="762120"/>
            <a:ext cx="73152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UO, ONLY ONE OF WHICH EVER TALKS, ARE FAMOUS FOR COMBINING MAGIC AND COMED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LEN  DEGENE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ESBIAN HAS HOSTED HER OWN DAYTIME TV SHOW SINCE 200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THE ORIGINAL PINK PANTHER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  VER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90440" y="762120"/>
            <a:ext cx="87631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LACK ACTOR WAS NOMINATED FOR A TONY FOR "JESUS CHRIST SUPERSTAR", AND WON A TONY AWARD THE FOLLOWING YEAR FOR "PIPPI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FF  BE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47640" y="762120"/>
            <a:ext cx="78487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PLAYED LEAD GUITAR FOR THE YARDBIRDS, AFTER ERIC CLAPTON, WITH JIMMY PAGE, AND WAS INFLUENTIAL IN THE BEGINNING OF HEAVY MET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676520" y="4343400"/>
            <a:ext cx="5790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ONLY  VOWEL  IN  THEIR  NAMES  IS  "E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RESS FOR "MOONSTRUCK" AND HAS SOLD OVER 100 MILLION RECO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80880" y="762120"/>
            <a:ext cx="838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BLIND &amp; DEAF PERSON TO EARN A BACHELOR OF ARTS DEGRE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CHICAGO", "JERRY MAGUIRE", AND "BRIDGET JONES' DIAR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80880" y="723960"/>
            <a:ext cx="83822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LK SINGER AND SONGWRITER WROTE "TURN, TURN, TURN", "WHERE HAVE ALL THE FLOWERS GONE?", AND "IF I HAD A HAMM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UO, ONLY ONE OF WHICH EVER TALKS, ARE FAMOUS FOR COMBINING MAGIC AND COMED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ESBIAN HAS HOSTED HER OWN DAYTIME TV SHOW SINCE 200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90440" y="762120"/>
            <a:ext cx="87631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LACK ACTOR WAS NOMINATED FOR A TONY FOR "JESUS CHRIST SUPERSTAR", AND WON A TONY AWARD THE FOLLOWING YEAR FOR "PIPPI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7T21:59:24Z</dcterms:created>
  <dc:creator>Jennifer Budzinski</dc:creator>
  <dc:description/>
  <dc:language>en-US</dc:language>
  <cp:lastModifiedBy>Erich Friedman</cp:lastModifiedBy>
  <dcterms:modified xsi:type="dcterms:W3CDTF">2020-08-23T16:54:10Z</dcterms:modified>
  <cp:revision>329</cp:revision>
  <dc:subject/>
  <dc:title>Slide 1</dc:title>
</cp:coreProperties>
</file>