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2553-FFC1-4138-9BDB-BA52335B1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63DF-4131-4915-A922-FCF0CE5D2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349E-1BC2-4707-B94C-47A92D751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4B1C-0B2E-424C-A2D6-4DDA19E2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A919-B64B-4747-A869-EA541FDF8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FC7-2182-43BD-A8FA-19A22421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3C51-0DDD-4947-9D54-C2C4F292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FB75-5D37-4F80-8740-17C0C09A2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E8B3-4910-42CD-B33B-585AF6C28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57FE-AEF1-420E-9FD6-E638BCC62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9EAC-78B2-4E55-A81C-F5AE17AB9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724A-37C3-44E5-9F92-9C9D15DAF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50685-9D88-499E-9722-FEF840685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5DF3-3417-47D7-B380-88AF2992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723-82AA-4B51-BBC9-B3309FAF6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1343-B550-4E69-AFC0-1BE3EB7B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7335-0534-489A-B454-D0414DD41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175F-25E2-4D83-8641-4803F156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6720-65E7-4A27-B8BA-1137370A6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0F4F-C635-454E-A8C8-D48AA491F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55A8-9EDF-4AB6-A975-20F85666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40E-E6A7-409E-B413-E649395DF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3D9D-6CB3-419C-8AD8-3AC37A90A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SE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592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K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ÉE  ZELLW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  SEE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  &amp;  T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EN  DEGEN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ORIGINAL PINK PANTHER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VE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PLAYED LEAD GUITAR FOR THE YARDBIRDS, AFTER ERIC CLAPTON, WITH JIMMY PAGE, AND WAS INFLUENTIAL IN THE BEGINNING OF HEAVY MET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76520" y="4343400"/>
            <a:ext cx="5790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LY  VOWEL  IN  THEIR  NAMES  IS  "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MOONSTRUCK" AND HAS SOLD OVER 100 MILLION REC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IND &amp; DEAF PERSON TO EARN A BACHELOR OF ARTS DEGR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HICAGO", "JERRY MAGUIRE", AND "BRIDGET JONES' DIA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LK SINGER AND SONGWRITER WROTE "TURN, TURN, TURN", "WHERE HAVE ALL THE FLOWERS GONE?", AND "IF I HAD A HAMM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UO, ONLY ONE OF WHICH EVER TALKS, ARE FAMOUS FOR COMBINING MAGIC AND COM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SBIAN HAS HOSTED HER OWN DAYTIME TV SHOW SINCE 200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LACK ACTOR WAS NOMINATED FOR A TONY FOR "JESUS CHRIST SUPERSTAR", AND WON A TONY AWARD THE FOLLOWING YEAR FOR "PIPP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21:59:24Z</dcterms:created>
  <dc:creator>Jennifer Budzinski</dc:creator>
  <dc:description/>
  <dc:language>en-US</dc:language>
  <cp:lastModifiedBy>Erich Friedman</cp:lastModifiedBy>
  <dcterms:modified xsi:type="dcterms:W3CDTF">2020-08-23T16:54:10Z</dcterms:modified>
  <cp:revision>329</cp:revision>
  <dc:subject/>
  <dc:title>Slide 1</dc:title>
</cp:coreProperties>
</file>