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8639-5824-4998-AA03-8443EBFF6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D4C6-16EE-413A-BE95-BD7C5D72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ADD7-334B-4E93-A24B-919692963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24B5-2B34-4638-A5EB-92F54087B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0516-DFF7-4EF8-989C-F6F53FC2E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2D88-27E8-4CC5-9AA8-74B5134E0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F7C6-3CA2-4CA9-B4F9-AB74ABD99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10D7-FBD3-4932-9A8B-44FD092A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F827-7179-4560-9073-B9278B4DF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C0AF-0760-445D-A058-81AF803DE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11DA-E71E-486F-B34C-6DE85DEB6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3563-AEB5-4519-B363-64E77D492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08A9-BE5F-4610-A1FE-1F8C04CEB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FF2F-F27D-4BE2-BB86-19A903AB7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890A-9419-42C8-8920-54B66F306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7C64-F504-44BD-AF69-142FDA541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8490-6832-4E9C-BA72-A7651E661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ACD3-6CC7-4F61-A646-2569F940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71AF-42C8-4103-9ECE-F7A555429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EC1-0D79-4756-80EB-8BE8E8658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C2F9-768C-4862-A9D2-9FD271B14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9836-C70B-4CB6-9C0D-B4B78D301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7740-DE13-4334-A891-D144001F0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LAYED LEAD GUITAR FOR THE YARDBIRDS, AFTER ERIC CLAPTON, WITH JIMMY PAGE, AND WAS INFLUENTIAL IN THE BEGINNING OF HEAVY MET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SE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1592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ORIGINAL PINK PANTHER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MOONSTRUCK" AND HAS SOLD OVER 100 M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K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IND &amp; DEAF PERSON TO EARN A BACHELOR OF ARTS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ÉE  ZELLW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CHICAGO", "JERRY MAGUIRE", AND "BRIDGET JONES' DI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SE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AND SONGWRITER WROTE "TURN, TURN, TURN", "WHERE HAVE ALL THE FLOWERS GONE?", AND "IF I HAD A HA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  &amp;  T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O, ONLY ONE OF WHICH EVER TALKS, ARE FAMOUS FOR COMBINING MAGIC AND COM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EN  DEGEN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SBIAN HAS HOSTED HER OWN DAYTIME TV SHOW SINCE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ORIGINAL PINK PANTHER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VE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ACTOR WAS NOMINATED FOR A TONY FOR "JESUS CHRIST SUPERSTAR", AND WON A TONY AWARD THE FOLLOWING YEAR FOR "PIPP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LAYED LEAD GUITAR FOR THE YARDBIRDS, AFTER ERIC CLAPTON, WITH JIMMY PAGE, AND WAS INFLUENTIAL IN THE BEGINNING OF HEAVY MET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76520" y="4343400"/>
            <a:ext cx="579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IN  THEIR  NAMES  IS  "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MOONSTRUCK" AND HAS SOLD OVER 100 MILLION REC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IND &amp; DEAF PERSON TO EARN A BACHELOR OF ARTS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CHICAGO", "JERRY MAGUIRE", AND "BRIDGET JONES' DI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2396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AND SONGWRITER WROTE "TURN, TURN, TURN", "WHERE HAVE ALL THE FLOWERS GONE?", AND "IF I HAD A HA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O, ONLY ONE OF WHICH EVER TALKS, ARE FAMOUS FOR COMBINING MAGIC AND COM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SBIAN HAS HOSTED HER OWN DAYTIME TV SHOW SINCE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ACTOR WAS NOMINATED FOR A TONY FOR "JESUS CHRIST SUPERSTAR", AND WON A TONY AWARD THE FOLLOWING YEAR FOR "PIPP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21:59:24Z</dcterms:created>
  <dc:creator>Jennifer Budzinski</dc:creator>
  <dc:description/>
  <dc:language>en-US</dc:language>
  <cp:lastModifiedBy>Erich Friedman</cp:lastModifiedBy>
  <dcterms:modified xsi:type="dcterms:W3CDTF">2020-08-23T16:54:10Z</dcterms:modified>
  <cp:revision>329</cp:revision>
  <dc:subject/>
  <dc:title>Slide 1</dc:title>
</cp:coreProperties>
</file>