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F0F8-1182-4FC7-BF10-E5E10FA4C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4EB3-0FAB-49BB-8F9C-FCE0DDF57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05FC-8770-40FD-9EAB-17F4B87C3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B468-024C-4DB2-95B6-F349F36D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B559-093C-44F9-B2F2-BF4F53BD2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D189-2753-4C3B-881D-AD3BAF324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88FD-9457-4BF6-ACFD-EB42A2554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E03A-0C82-441B-B4ED-26C880479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A566-4196-421D-A977-EB16F76DE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D37-983F-4833-8D08-365B4472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8F5B-255C-4163-BDC8-E66469E05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78FE-0A6C-4A4B-8401-E1858B396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326E-FE23-4C50-B196-333E5802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9886-5DDA-48B7-993C-B7157C02D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A705-E1A1-4462-8DE9-0ACE1DE1B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E13-B2D8-4A84-AF7C-94C78106D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C1C0-D682-4A24-9C09-083BEB9AB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9FF-DC32-49D4-A2EE-A0E876F1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71E7-D35F-4EAD-AF5C-2B4DCB53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A8E7-A656-4D68-8211-8D8E56BB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2167-FD75-488D-96E0-79AFAE16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236A-076A-459D-A001-DF8130B7C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3838-EACC-4D17-9B9F-C3FBD8B4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RN 3% OF BIRTHS, BUT MAKES UP 6% OF THE U.S.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ME  OF  THE  ANCIENT  MAR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POEM BY SAMUEL TAYLOR COLE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MORE  ORI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5240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MARY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GER  RICK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WILDLIFE FEDERATION'S NATURE MAGAZINE FOR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S  IN  THE  OUT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4124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SUPERNATURAL BASEBALL FILM IS A REMAKE OF A 1951 FILM WITH THE SAME TIT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ABOUT RUSSIA STARS WARREN BEATY, JACK NICHOLSON, AND DIANE KEATON, ALL OF WHOM WERE NOMINATED FOR OS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S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PLANETS LIKE JUPITER AND SATURN THAT SEEM TO HAVE NO SOLID CORE ARE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POEM BY SAMUEL TAYLOR COLE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NEW ZEALAND SINGER LOR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RN 3% OF BIRTHS, BUT MAKES UP 6% OF THE U.S.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ASEBALL  TEAM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MARY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WILDLIFE FEDERATION'S NATURE MAGAZINE FOR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SUPERNATURAL BASEBALL FILM IS A REMAKE OF A 1951 FILM WITH THE SAME TITL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ABOUT RUSSIA STARS WARREN BEATY, JACK NICHOLSON, AND DIANE KEATON, ALL OF WHOM WERE NOMINATED FOR OS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PLANETS LIKE JUPITER AND SATURN THAT SEEM TO HAVE NO SOLID CORE ARE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NEW ZEALAND SINGER LOR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7:36:31Z</dcterms:created>
  <dc:creator>Jennifer Budzinski</dc:creator>
  <dc:description/>
  <dc:language>en-US</dc:language>
  <cp:lastModifiedBy>Erich Friedman</cp:lastModifiedBy>
  <dcterms:modified xsi:type="dcterms:W3CDTF">2020-08-24T13:38:11Z</dcterms:modified>
  <cp:revision>355</cp:revision>
  <dc:subject/>
  <dc:title>Slide 1</dc:title>
</cp:coreProperties>
</file>