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2E21-C087-4FA2-BB8B-7DE20A5CF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264B-E4E2-45E8-B197-D0E9A2694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2F39-193E-416D-8B94-5EFC0FA2C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86E-92FB-4867-A5D2-DEDFB03F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F882-61AF-4404-BAF9-A2989A1C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5386-0FA6-443C-AEAD-15736CA57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EFD1-2D98-43CF-BF81-BFCCFC20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24B1-A420-4522-9815-E88C9E4BA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54CD-919E-45DB-87C6-6B9A57C55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1135-B94D-446C-A9F5-1419EC076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8AB1-900D-474B-8F97-7810F4B48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FCE8-F5EC-4EE0-8869-B35C3B690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EA13-8CB8-4B39-8A4F-8B35E7A5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4C0F-F3FE-4F44-9DF4-91735234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8553-DE04-47A6-8D6E-2F373BDEF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28B4-BF9A-407C-8A4F-60D6E921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B6B-CCAE-4911-8940-ECCF4C017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12AC-EB74-42E6-86AB-08CFA9636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54AD-E8B7-47E4-B54E-6A3833F2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45EA-D6C9-4E6B-ADDF-88F90E4A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2EC6-56D4-48B0-BCDE-C676326B2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125E-95BF-4A5C-BEDE-26A85BD6D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E306-A643-4FA9-9942-3C219D9AE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ME  OF  THE  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MORE  ORI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5240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GER  R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  IN  THE  OUT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41240"/>
            <a:ext cx="73915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S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POEM BY SAMUEL TAYLOR COLE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RN 3% OF BIRTHS, BUT MAKES UP 6% OF THE U.S.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ASEBAL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MAR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WILDLIFE FEDERATION'S NATURE MAGAZINE FOR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SUPERNATURAL BASEBALL FILM IS A REMAKE OF A 1951 FILM WITH THE SAM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ABOUT RUSSIA STARS WARREN BEATY, JACK NICHOLSON, AND DIANE KEATON, ALL OF WHOM WERE NOMINATED FOR OS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PLANETS LIKE JUPITER AND SATURN THAT SEEM TO HAVE NO SOLID CORE ARE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NEW ZEALAND SINGER LOR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7:36:31Z</dcterms:created>
  <dc:creator>Jennifer Budzinski</dc:creator>
  <dc:description/>
  <dc:language>en-US</dc:language>
  <cp:lastModifiedBy>Erich Friedman</cp:lastModifiedBy>
  <dcterms:modified xsi:type="dcterms:W3CDTF">2020-08-24T13:38:11Z</dcterms:modified>
  <cp:revision>355</cp:revision>
  <dc:subject/>
  <dc:title>Slide 1</dc:title>
</cp:coreProperties>
</file>