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E994-699B-4D47-B824-BFB6BF17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2003-F308-461D-BCD6-F18D4686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A36D-5C07-415B-A82D-4782DFE27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9205-8FCF-488D-A676-B1EE29C5E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439E-ECD0-4DC5-AB88-1DA840F48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D8CB-49EC-4086-B9CA-65941A37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013B-43E0-432B-88D2-23DDEB5B4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00FB-0DC6-4B2F-8DF4-7E324332A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5A62-C78C-4EB2-80EC-181D29547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1949-59CA-43A6-9E08-86A7AC9B3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D92F-6C53-4E45-8B37-CE84D71E9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16EA-925B-481D-AD01-864E71636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D056-697D-4175-94BB-8B7F7AAF9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364D-6528-4999-BEC8-059D37A94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E8AF-435A-43F5-A758-34A090E3C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241D-0172-4438-9A49-B59862E10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CC95-2B72-4215-BFAA-BD4CC426F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78EB-62B1-451C-890D-C3E2C7DFF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23EA-D9D3-43CF-8D13-9A885F07A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4006-4AC7-40C4-A82A-D461A288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9FBE-26F4-4646-BB45-735F87BDC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EEBF-7DDF-4D37-AE98-B4379D49D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D42E-2FE8-49F1-956F-C79435B8E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RN 3% OF BIRTHS, BUT MAKES UP 6% OF THE U.S.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ME  OF  THE  ANCIENT  MAR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POEM BY SAMUEL TAYLOR COLE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IMORE  ORI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5240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MARY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GER  RICK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ATIONAL WILDLIFE FEDERATION'S NATURE MAGAZINE FOR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S  IN  THE  OUT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41240"/>
            <a:ext cx="7391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SUPERNATURAL BASEBALL FILM IS A REMAKE OF A 1951 FILM WITH THE SAME TIT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ABOUT RUSSIA STARS WARREN BEATY, JACK NICHOLSON, AND DIANE KEATON, ALL OF WHOM WERE NOMINATED FOR OSC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S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PLANETS LIKE JUPITER AND SATURN THAT SEEM TO HAVE NO SOLID CORE ARE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POEM BY SAMUEL TAYLOR COLE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NEW ZEALAND SINGER LOR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RN 3% OF BIRTHS, BUT MAKES UP 6% OF THE U.S.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ASEBALL  TEAM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MARY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ATIONAL WILDLIFE FEDERATION'S NATURE MAGAZINE FOR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SUPERNATURAL BASEBALL FILM IS A REMAKE OF A 1951 FILM WITH THE SAME TITL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ABOUT RUSSIA STARS WARREN BEATY, JACK NICHOLSON, AND DIANE KEATON, ALL OF WHOM WERE NOMINATED FOR OSC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PLANETS LIKE JUPITER AND SATURN THAT SEEM TO HAVE NO SOLID CORE ARE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NEW ZEALAND SINGER LOR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7:36:31Z</dcterms:created>
  <dc:creator>Jennifer Budzinski</dc:creator>
  <dc:description/>
  <dc:language>en-US</dc:language>
  <cp:lastModifiedBy>Erich Friedman</cp:lastModifiedBy>
  <dcterms:modified xsi:type="dcterms:W3CDTF">2020-08-24T13:38:11Z</dcterms:modified>
  <cp:revision>355</cp:revision>
  <dc:subject/>
  <dc:title>Slide 1</dc:title>
</cp:coreProperties>
</file>