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600F-9E20-4394-8257-5C1CB8E82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F29B-4C5A-4B0A-A60E-09E0ABD50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6D67-F6A2-4D05-9B3C-1BBC9EAFF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B0FD-8B40-45F0-9595-F908A28ED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10EA-9963-4CD6-B4A6-FC8CA5D8A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D8B2-D3CC-495A-A763-52F9AF173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896F-C8AF-4129-9DA0-A6EAD7099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7BE6-C9AB-4277-AB73-70E286471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B361-AD10-47E5-A008-7CD625832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6038-34F1-4B98-9EA4-E20DFA5E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B0CB-0A68-4836-9E0A-240ADCBE1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A0D8-D573-4AA9-81A8-18BC77F31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DFE6-5786-4325-B5E1-1240A5DB5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C815-933E-4EA7-A075-343635917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C0265-32FB-48E9-9439-25241E067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8416-8CE2-45EB-A899-EABC7B522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6662-8C3A-44BF-A953-B7706C7EE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BCDC-48FE-4EEE-888E-659E8852D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796F-87EE-49DF-8D69-1490AF755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90C5-8AFF-4749-9DA8-F8E9CBDD6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F474-1466-46BA-983D-6C704BA5A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275E-5872-4B39-9693-977E6BDF1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B7C5-8908-4C60-992B-8ED1D64CD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140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DESCRIBED BY THE ROCK AND ROLL HALL OF FAME AS "ARGUABLY THE GREATEST INSTRUMENTALIST IN THE HISTORY OF ROCK AND ROLL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VI  SHANK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ATHER OF NORAH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LO  GUTH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BEST KNOWN FOR AN 18-MINUTE SONG ABOUT EVENTS THAT HAPPENED ON THANKSGIVING DAY, 19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BA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14400" y="762120"/>
            <a:ext cx="7315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IS JUST A FOUR-LETTER WORD" AND "SWEET SIR GALAH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 ROCK GROUP IS TIED WITH MICHAEL JACKSON IN WINNING THE MOST (8) GRAMMYS IN ONE EVE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TEFUL  D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52280" y="990720"/>
            <a:ext cx="4572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IS ALBUM COV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IS  JO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95320" y="762120"/>
            <a:ext cx="7353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DIED 3 MONTHS BEFORE THE RELEASE OF HER ALBUM "PEARL", HER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ITH MOON PLAYED DRUMS FOR WHA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ATHER OF NORAH J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,  SWEAT  &amp;  T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620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ND WHEN I DIE" AND "SPINNING WHE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I  HEND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DESCRIBED BY THE ROCK AND ROLL HALL OF FAME AS "ARGUABLY THE GREATEST INSTRUMENTALIST IN THE HISTORY OF ROCK AND ROLL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266760" y="4876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PLAYED  AT  WOOD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BEST KNOWN FOR AN 18-MINUTE SONG ABOUT EVENTS THAT HAPPENED ON THANKSGIVING DAY, 196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IS JUST A FOUR-LETTER WORD" AND "SWEET SIR GALAH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 ROCK GROUP IS TIED WITH MICHAEL JACKSON IN WINNING THE MOST (8) GRAMMYS IN ONE EVE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THIS ALBUM COVE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5410080" y="6094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DIED 3 MONTHS BEFORE THE RELEASE OF HER ALBUM "PEARL", HER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ITH MOON PLAYED DRUMS FOR WHAT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ND WHEN I DIE" AND "SPINNING WHE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9T23:53:50Z</dcterms:created>
  <dc:creator>Jennifer Budzinski</dc:creator>
  <dc:description/>
  <dc:language>en-US</dc:language>
  <cp:lastModifiedBy>Erich Friedman</cp:lastModifiedBy>
  <dcterms:modified xsi:type="dcterms:W3CDTF">2020-08-31T00:05:32Z</dcterms:modified>
  <cp:revision>446</cp:revision>
  <dc:subject/>
  <dc:title>Slide 1</dc:title>
</cp:coreProperties>
</file>