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9F5-10CA-43A1-9C2E-A6A73CD0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BFA5-AA07-4092-8267-3C5F28A2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E66-E80A-4C31-BE9D-00413719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AAE4-421C-4FA7-8FE3-8AB72442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E51D-3C9F-4A8F-99D9-669FE508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606D-C874-4AE1-9EDF-55D0F568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3629-B422-4C6B-8F8F-B38E64D3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D4B-418F-41FC-A47E-A42EE7E6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4E6-DA3A-430D-9ACC-EE61351B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F38-43FC-4E5E-976F-5C805DD1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2D5-143B-4E3D-9B55-99324ED5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431-E29D-4387-92A6-2C60C166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5B1-7852-4AB2-B8F3-270D6523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E74-3517-41F3-910E-4CECDC24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994-1911-46F2-AD9B-F6104650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10C2-3284-4B5A-A8D9-31EE67AE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402-4DCE-48D1-A4E6-CAE60B81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380-CDFD-4DDB-B61C-DA107A13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8AC8-0EAF-47EA-9B6C-82AFAA38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FE94-CC4E-4E6C-B33E-73B383AE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9B1-22A0-4958-A43D-C2A65B9E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785-842D-447D-A081-DA81BF58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1B31-B644-49CD-B3D7-522F323F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VI  SHANK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TEFUL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90720"/>
            <a:ext cx="457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,  SWEAT  &amp;  T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PLAYED  AT  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9T23:53:50Z</dcterms:created>
  <dc:creator>Jennifer Budzinski</dc:creator>
  <dc:description/>
  <dc:language>en-US</dc:language>
  <cp:lastModifiedBy>Erich Friedman</cp:lastModifiedBy>
  <dcterms:modified xsi:type="dcterms:W3CDTF">2020-08-31T00:05:32Z</dcterms:modified>
  <cp:revision>446</cp:revision>
  <dc:subject/>
  <dc:title>Slide 1</dc:title>
</cp:coreProperties>
</file>