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29EF2-D60E-429C-98E4-7EE6367CF7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8F427-91BA-49F6-A46D-BEE047AF7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949EB-ACD4-49DB-AAB7-7B512E9D9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03FAA-ACFC-474E-B04E-169586109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29A0D-9D2F-42F4-BC32-907BF16FC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B5737-9B37-43B3-BFDE-3BFC2AE15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230B7-6D2D-4339-AC55-A2BB8FC5D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C66DA-820C-4EC7-97F9-BE131305A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2C119-D896-462E-8F55-71EA25AA0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3F22A-E0CC-42D2-BA78-C10B4698F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89879-8810-441D-B7E1-C1960F956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54BB6-596D-4C66-90A3-4D462A3C6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BBDAA-6353-46BE-8C8C-1F0333BEE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DBA7-2518-4BD4-8185-635F71A35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69C3E-CEBF-4F9B-ACB9-CA80F96C5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B899E-D89A-4F77-B29D-25729B9DE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40514-E72E-45C6-85F8-4CD7B4C9E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B720D-DE07-49BC-B4AA-139C6C933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0578F-2A4C-4E68-B1B8-221891266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2BA3E-27A7-421E-8E75-02F0467FD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8F156-69B6-4D0D-90B1-D286844DE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86A85-0215-4E31-93C8-892ADD571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6B638-9848-4E65-B215-F1AF22941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95280" y="914040"/>
            <a:ext cx="6553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SICAL  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IS DESCRIBED BY THE ROCK AND ROLL HALL OF FAME AS "ARGUABLY THE GREATEST INSTRUMENTALIST IN THE HISTORY OF ROCK AND ROLL"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VI  SHANK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1333440" y="762120"/>
            <a:ext cx="6477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ATHER OF NORAH JO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LO  GUTHR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BEST KNOWN FOR AN 18-MINUTE SONG ABOUT EVENTS THAT HAPPENED ON THANKSGIVING DAY, 196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AN  BA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914400" y="762120"/>
            <a:ext cx="73152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LOVE IS JUST A FOUR-LETTER WORD" AND "SWEET SIR GALAHA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NT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ATIN ROCK GROUP IS TIED WITH MICHAEL JACKSON IN WINNING THE MOST (8) GRAMMYS IN ONE EVEN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TEFUL  D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152280" y="990720"/>
            <a:ext cx="4572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HAD THIS ALBUM COVE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3" descr=""/>
          <p:cNvPicPr/>
          <p:nvPr/>
        </p:nvPicPr>
        <p:blipFill>
          <a:blip r:embed="rId1"/>
          <a:stretch/>
        </p:blipFill>
        <p:spPr>
          <a:xfrm>
            <a:off x="5410080" y="609480"/>
            <a:ext cx="3276720" cy="32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NIS  JOP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95320" y="762120"/>
            <a:ext cx="73533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ARTIST DIED 3 MONTHS BEFORE THE RELEASE OF HER ALBUM "PEARL", HER NICK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W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14400" y="762120"/>
            <a:ext cx="7315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ITH MOON PLAYED DRUMS FOR WHAT B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219320" y="762120"/>
            <a:ext cx="6705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ATHER OF NORAH JON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5720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OOD,  SWEAT  &amp;  T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5800" y="762120"/>
            <a:ext cx="7620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AND WHEN I DIE" AND "SPINNING WHEE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I  HENDR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IS DESCRIBED BY THE ROCK AND ROLL HALL OF FAME AS "ARGUABLY THE GREATEST INSTRUMENTALIST IN THE HISTORY OF ROCK AND ROLL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266760" y="4876920"/>
            <a:ext cx="8610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PLAYED  AT  WOODST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BEST KNOWN FOR AN 18-MINUTE SONG ABOUT EVENTS THAT HAPPENED ON THANKSGIVING DAY, 196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38080" y="762120"/>
            <a:ext cx="74678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LOVE IS JUST A FOUR-LETTER WORD" AND "SWEET SIR GALAHA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ATIN ROCK GROUP IS TIED WITH MICHAEL JACKSON IN WINNING THE MOST (8) GRAMMYS IN ONE EVEN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52280" y="99036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HAD THIS ALBUM COVER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3" descr=""/>
          <p:cNvPicPr/>
          <p:nvPr/>
        </p:nvPicPr>
        <p:blipFill>
          <a:blip r:embed="rId1"/>
          <a:stretch/>
        </p:blipFill>
        <p:spPr>
          <a:xfrm>
            <a:off x="5410080" y="609480"/>
            <a:ext cx="327672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09640" y="762120"/>
            <a:ext cx="75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ARTIST DIED 3 MONTHS BEFORE THE RELEASE OF HER ALBUM "PEARL", HER NICK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ITH MOON PLAYED DRUMS FOR WHAT B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AND WHEN I DIE" AND "SPINNING WHEE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9T23:53:50Z</dcterms:created>
  <dc:creator>Jennifer Budzinski</dc:creator>
  <dc:description/>
  <dc:language>en-US</dc:language>
  <cp:lastModifiedBy>Erich Friedman</cp:lastModifiedBy>
  <dcterms:modified xsi:type="dcterms:W3CDTF">2020-08-31T00:05:32Z</dcterms:modified>
  <cp:revision>446</cp:revision>
  <dc:subject/>
  <dc:title>Slide 1</dc:title>
</cp:coreProperties>
</file>