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954-0504-45AD-AF06-79595857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B7C4-096D-48AD-929A-A1C2395FE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9E46-5807-4B95-91B0-04A96911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49C-1532-4883-890C-008183B68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39CC-6AFB-451A-9687-8946F7CA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958-A8C6-4FE4-A42F-344465F63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3A3F-F978-4984-939A-6B9280AD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A1A-ABF1-4736-90AC-B2F084BA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2061-E2F7-44BB-B97C-B9CD240D4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7812-9642-40CF-8D28-16B727C4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6427-19FD-45DB-98C8-E5E43BEF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140-892E-446E-88BE-CD559066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055-A28F-4132-BE7A-DA0B1077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2BA9-A686-4088-B660-A465079F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47E-F689-4A53-8201-A660A607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051D-8E56-4861-9BF7-1880025A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AA1-68C1-4075-B888-FD570C46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B86-2CF3-4370-8ADB-948C0225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D995-F513-4E39-AE65-2639D0F0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90C-BEDB-47EE-BDB0-34317446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30A9-420C-4A3A-A4AC-7588CFCC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E25E-223A-45CF-928B-D211671D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87EE-2EC8-4F0D-B392-AFA5A918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TV'S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MICHAEL JORDAN'S LAST NAME TO FORM THE NAME OF HIS CLOTHING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WAS NOSTRADAM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BRAZIL, SAUDI ARABIA, AND BANGLADE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UST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NSONANT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WHICH CARDS ARE DE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LACK  LIVES) 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M" STAND FOR IN "BLM", A MOVEMENT STARTED IN 2013 AFTER GEORGE ZIMMERMAN WAS ACQUI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MICHAEL JORDAN'S LAST NAME TO FORM THE NAME OF HIS CLOTHING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8 FANTASY FILM DOES TOM HANKS BECOME AN ADULT OVER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OF THE ACTRESS WHO PLAYED DIANE CHAMBERS ON TV'S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HOR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WAS NOSTRADAM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BRAZIL, SAUDI ARABIA, AND BANGLADE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UST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NSONANT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WHICH CARDS ARE DEA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M" STAND FOR IN "BLM", A MOVEMENT STARTED IN 2013 AFTER GEORGE ZIMMERMAN WAS ACQUIT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8 FANTASY FILM DOES TOM HANKS BECOME AN ADULT OVER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7:25:51Z</dcterms:created>
  <dc:creator>Jennifer Budzinski</dc:creator>
  <dc:description/>
  <dc:language>en-US</dc:language>
  <cp:lastModifiedBy>Erich Friedman</cp:lastModifiedBy>
  <dcterms:modified xsi:type="dcterms:W3CDTF">2020-08-31T00:06:02Z</dcterms:modified>
  <cp:revision>439</cp:revision>
  <dc:subject/>
  <dc:title>Slide 1</dc:title>
</cp:coreProperties>
</file>