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AB85-2F4B-4062-A72D-625FFFD21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3B4F-37E2-47C3-80C8-3352776A8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A780-07E6-44A8-86A4-26B9FE879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F61A-D422-4E54-8640-2E013217B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CC12-DFA3-43F2-BE02-2FFCBC8A4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3DCF-C559-4F35-895C-41D5E6EC3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A752-8594-4BA7-90F6-3D14712FA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121B-ED01-4888-B87E-D2C03A860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2314-ED27-4450-9177-971C2F720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D0EA-BB58-450A-AA82-937E65A47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A149-9DDB-444A-9FD0-E6BDCF6F3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B8DD-6BC3-4889-9E06-55615020D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EF99-8B83-4964-973A-CB9E352C4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CD1C-057F-412A-96B4-225AC6F5C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8168-6AD7-4959-8379-521CE3B9E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AB22-6626-454F-B4AC-0E2D9F35D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A834-5576-446E-B378-AB61EAE63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4F3F-CD02-49C0-B8A3-355C95526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BAB3-916E-471F-A7D4-2C324D25A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BDF7-F741-4BD3-BB88-1A9DDDAFD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02D5-CEE2-46B4-9E9B-68A360423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1910-0699-470C-BBC9-822A8A058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5E29-EB91-494F-9D47-6B9D91681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8116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PLAYED DIANE CHAMBERS ON TV'S "CHE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ADDED TO MICHAEL JORDAN'S LAST NAME TO FORM THE NAME OF HIS CLOTHING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86080" y="762120"/>
            <a:ext cx="6172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WAS NOSTRADAM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286000" y="4876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ACKGROUND COLOR OF THE FLAGS OF BRAZIL, SAUDI ARABIA, AND BANGLADE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E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638360" y="76212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AUSTR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71600" y="762120"/>
            <a:ext cx="6400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ONSONANT 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   BOX ON A BLACKJACK OR BACCARAT TABLE FROM WHICH CARDS ARE DEA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LACK  LIVES)  MA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M" STAND FOR IN "BLM", A MOVEMENT STARTED IN 2013 AFTER GEORGE ZIMMERMAN WAS ACQUIT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ADDED TO MICHAEL JORDAN'S LAST NAME TO FORM THE NAME OF HIS CLOTHING BR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8 FANTASY FILM DOES TOM HANKS BECOME AN ADULT OVERN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HELLEY)  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OF THE ACTRESS WHO PLAYED DIANE CHAMBERS ON TV'S "CHE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95280" y="434340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HOR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WAS NOSTRADAM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ACKGROUND COLOR OF THE FLAGS OF BRAZIL, SAUDI ARABIA, AND BANGLADE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AUSTR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ONSONANT IN ENGL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   BOX ON A BLACKJACK OR BACCARAT TABLE FROM WHICH CARDS ARE DEA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M" STAND FOR IN "BLM", A MOVEMENT STARTED IN 2013 AFTER GEORGE ZIMMERMAN WAS ACQUIT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8 FANTASY FILM DOES TOM HANKS BECOME AN ADULT OVERN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1T17:25:51Z</dcterms:created>
  <dc:creator>Jennifer Budzinski</dc:creator>
  <dc:description/>
  <dc:language>en-US</dc:language>
  <cp:lastModifiedBy>Erich Friedman</cp:lastModifiedBy>
  <dcterms:modified xsi:type="dcterms:W3CDTF">2020-08-31T00:06:02Z</dcterms:modified>
  <cp:revision>439</cp:revision>
  <dc:subject/>
  <dc:title>Slide 1</dc:title>
</cp:coreProperties>
</file>