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0499-5858-40D0-B231-CBCC9D6E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447-2AFF-41E5-864A-F35971CF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B27-51DF-4E21-834C-F1EE0B8E7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1802-1FCD-4DFC-9796-C4FE9D8FC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FB48-64EA-4AA0-9B35-957DE37FF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1B9B-93F1-478C-8FEC-0F0393C3A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B043-8A4F-4AE3-ABE7-E4EFD21A9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FF93-CB3F-4D74-8D7C-A1BF994D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515A-36FD-4B29-8CE3-328EB5AAE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67A8-6CB2-4D2E-A832-C84C5643F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E61F-403B-402E-8640-D4D4250F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3B48-28D3-49B9-8A6E-A7451E77B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BE73-3D64-46A0-AD70-E153AA458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782-5486-434C-BB14-2A0841A43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0F8D-112C-4DF9-A67B-852544F41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D68B-FF46-4127-B115-A6E0D0A6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B3F4-B2EE-439A-8985-8692BA1B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3114-FCBF-44D6-A044-938C91CB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B522-4F6F-4224-A87A-C1CBA66A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BF74-4C30-4D6A-A0CB-CD7BEA7D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B17-3998-419D-ABEC-A29D9D6FD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DF7-2DD5-40DA-98DD-4CBF3480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0B9D-FF20-489D-A695-824D010CE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CHAMBERS ON TV'S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  LIVES)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MICHAEL JORDAN'S LAST NAME TO FORM THE NAME OF HIS CLOTHING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OF THE ACTRESS WHO PLAYED DIANE CHAMBERS ON TV'S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HOR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WAS NOSTRADAM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BRAZIL, SAUDI ARABIA, AND BANGLADE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UST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NSONANT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WHICH CARDS ARE DEA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M" STAND FOR IN "BLM", A MOVEMENT STARTED IN 2013 AFTER GEORGE ZIMMERMAN WAS ACQUIT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8 FANTASY FILM DOES TOM HANKS BECOME AN ADULT OVER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7:25:51Z</dcterms:created>
  <dc:creator>Jennifer Budzinski</dc:creator>
  <dc:description/>
  <dc:language>en-US</dc:language>
  <cp:lastModifiedBy>Erich Friedman</cp:lastModifiedBy>
  <dcterms:modified xsi:type="dcterms:W3CDTF">2020-08-31T00:06:02Z</dcterms:modified>
  <cp:revision>439</cp:revision>
  <dc:subject/>
  <dc:title>Slide 1</dc:title>
</cp:coreProperties>
</file>