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A8C-218B-43B1-9240-75E365FF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C8C2-C533-48D5-984D-FD5032E4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0947-8F3C-462B-975C-CBB01CD81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5FA9-E7B0-47B6-AC95-0E67C4C0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977-835C-4249-9F38-8282CE84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8C31-BC3D-47AE-AF34-696FDF22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DE9C-B76D-43B9-9055-574793F8F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E8DF-1C2E-4B71-89F6-3536A08D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438-44FC-4AF8-B190-4A99313D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BD6-1233-47F9-8927-733E84D9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6459-8A7A-4F38-81E1-0EB882DB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B85-49FD-4CEE-9121-BA4D641B9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E0E2-5961-42E6-AB97-A8311C9F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C0A8-54D3-4742-A167-2EBF3345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FA96-1ED1-4693-99D2-084A1ABB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8B44-9BC2-462B-A5E3-67DC20AE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854-B3FF-4457-AFBE-386D5CA3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21A0-5FA2-4C85-B833-9FC01654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1109-5EA2-4E73-A9CC-FED856F5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011D-8CFB-4FA7-83D6-B4CFB0B5E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902D-D55F-48EF-960B-E5571A20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0422-D216-42D5-A4F1-F0F75ECA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5271-DCB9-467A-BD83-0C99655A7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BECOMES A BRAND OF TOILET TISSUE IF ITS LAST LETTER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KNOWN AS "BROTHER R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BRAVE OR COURAGEOUS HAS ALSO BEEN THE NAME OF 6 DIFFERENT BRITISH SH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SHAMELESS" IS THE HUSBAND OF ACTRESS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SINGER "WILD ABOUT" IN THE THE MOST POPULAR SONG FROM "SHUFFLE ALONG",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UCCESSFUL BROADWAY SHOW WITH AN ALL-BLACK C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CLAPTRAP OR BALDERDASH IS ALSO A BRAND OF CANDIED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RESIDENT OBAMA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P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DOES TURKMENISTAN AND KAZAKHSTAN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KNOWN AS "BROTHER R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MURD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O OF FOX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BECOMES A BRAND OF TOILET TISSUE IF THE LAST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 PRI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BRAVE OR COURAGEOUS HAS ALSO BEEN THE NAME OF 6 DIFFERENT BRITISH SH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SHAMELESS" IS THE HUSBAND OF ACTRESS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SINGER "WILD ABOUT" IN THE THE MOST POPULAR SONG FROM "SHUFFLE ALONG",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UCCESSFUL BROADWAY SHOW WITH AN ALL-BLACK C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CLAPTRAP OR BALDERDASH IS ALSO A BRAND OF CANDIED POP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RESIDENT OBAMA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DOES TURKMENISTAN AND KAZAKHSTAN B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O OF FOX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7:41:58Z</dcterms:created>
  <dc:creator>Jennifer Budzinski</dc:creator>
  <dc:description/>
  <dc:language>en-US</dc:language>
  <cp:lastModifiedBy>Erich Friedman</cp:lastModifiedBy>
  <dcterms:modified xsi:type="dcterms:W3CDTF">2020-08-31T00:06:31Z</dcterms:modified>
  <cp:revision>438</cp:revision>
  <dc:subject/>
  <dc:title>Slide 1</dc:title>
</cp:coreProperties>
</file>