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E58C-8FD3-47D7-BE9B-43F25FAD4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627E-C3F4-46AD-B545-1AA4E4DA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1DD6-A782-44B0-B26C-72722D928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427C-37F8-43F3-86ED-38B86D4FC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EA16-14A8-4412-8969-451A8A83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C494-A750-49B7-ADB6-C22ED70F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747F-8CCD-4D38-BF95-2FE25012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F17F-D711-41CE-B87E-607246539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8581-2E6F-4532-BEFC-4AC38173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72B1-1B8D-47D6-92A2-9D36AFF4B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5A74-40CB-444E-B076-DF29CCEA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3346-0F20-47D0-BF4E-79E8E380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13D-DCBF-4192-9B0D-6ADBD2DEF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6B12-5AE1-45B9-8620-AFB569ED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C483-2517-4394-9F5B-BF85EAD3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ABC6-4045-486D-B6E1-2E194675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385D-D61A-4905-8021-366F0406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17F2-F78A-4868-B96B-5561792A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24CF-1F12-4340-AB09-A62213AAF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534B-18CA-42A1-BBCD-2DD3EF284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0610-4530-47FE-B6BA-EB7AE683F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23C-0B43-4145-B44D-A7C02BBED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6DC5-0FD5-4C1F-8552-FFD45D06B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BECOMES A BRAND OF TOILET TISSUE IF ITS LAST LETTER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KNOWN AS "BROTHER R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BRAVE OR COURAGEOUS HAS ALSO BEEN THE NAME OF 6 DIFFERENT BRITISH SH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SHAMELESS" IS THE HUSBAND OF ACTRESS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SINGER "WILD ABOUT" IN THE THE MOST POPULAR SONG FROM "SHUFFLE ALONG",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UCCESSFUL BROADWAY SHOW WITH AN ALL-BLACK C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PY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CLAPTRAP OR BALDERDASH IS ALSO A BRAND OF CANDIED POP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S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RESIDENT OBAMA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P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19320" y="762120"/>
            <a:ext cx="670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DOES TURKMENISTAN AND KAZAKHSTAN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KNOWN AS "BROTHER R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PERT  MURD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O OF FOX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BECOMES A BRAND OF TOILET TISSUE IF THE LAST LETTER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 PRI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BRAVE OR COURAGEOUS HAS ALSO BEEN THE NAME OF 6 DIFFERENT BRITISH SHI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SHAMELESS" IS THE HUSBAND OF ACTRESS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SINGER "WILD ABOUT" IN THE THE MOST POPULAR SONG FROM "SHUFFLE ALONG",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UCCESSFUL BROADWAY SHOW WITH AN ALL-BLACK CA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CLAPTRAP OR BALDERDASH IS ALSO A BRAND OF CANDIED POPC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RESIDENT OBAMA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DOES TURKMENISTAN AND KAZAKHSTAN B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O OF FOX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17:41:58Z</dcterms:created>
  <dc:creator>Jennifer Budzinski</dc:creator>
  <dc:description/>
  <dc:language>en-US</dc:language>
  <cp:lastModifiedBy>Erich Friedman</cp:lastModifiedBy>
  <dcterms:modified xsi:type="dcterms:W3CDTF">2020-08-31T00:06:31Z</dcterms:modified>
  <cp:revision>438</cp:revision>
  <dc:subject/>
  <dc:title>Slide 1</dc:title>
</cp:coreProperties>
</file>