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33F1-E8A8-4B21-BE1C-EF8ACF0E5C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7473-31C6-4DC6-8D0D-9AEB84D8A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236C-2E10-4A27-995A-EB1AB23B0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CE31-E0ED-4854-843C-E06CAC345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6BB6-D7E5-43BF-87B4-940168C0B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208B-F10A-46CE-9168-71D28EE4D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7015-9BDE-4AFD-BA6D-CBBEB2AFE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0331-CF0D-4A33-94B7-297A011E4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428E-B8E6-4032-A03E-3A3D6DA3A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2BDA-EC95-4994-9F80-9AC893514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6EFF-116F-48C0-A57E-16F455724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F99C-BB04-4101-9949-E92B751AB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1D8D-347C-41C2-8F41-CD459A773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64C4-86E6-4040-AF87-960C5E03B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06B5-06BF-4392-A935-DC9FA8939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EB2D-4EF3-4917-BA44-D80355C26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6A60-E9C1-4059-AABA-3382282E4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1C9B-0AB8-4866-879C-67098DAFD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0594-32A3-43C0-9AC9-03E4E4828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A4AF-CF68-43DD-B7E9-7DA6599E5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D7FD-75C2-4E1C-88B1-890FD4E48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0872-83D5-4752-8324-45FBCFDA9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2B5E-CC57-476B-AFC9-454B39B07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E BECOMES A BRAND OF TOILET TISSUE IF ITS LAST LETTER IS REMOV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  CHAR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IS KNOWN AS "BROTHER R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LI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ING BRAVE OR COURAGEOUS HAS ALSO BEEN THE NAME OF 6 DIFFERENT BRITISH SHI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H.  M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1532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OF "SHAMELESS" IS THE HUSBAND OF ACTRESS FELICITY HUFF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THE SINGER "WILD ABOUT" IN THE THE MOST POPULAR SONG FROM "SHUFFLE ALONG", THE 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UCCESSFUL BROADWAY SHOW WITH AN ALL-BLACK CA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PY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ING CLAPTRAP OR BALDERDASH IS ALSO A BRAND OF CANDIED POPCO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SS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PRESIDENT OBAMA'S MIDDL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P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19320" y="762120"/>
            <a:ext cx="6705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A DOES TURKMENISTAN AND KAZAKHSTAN B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IS KNOWN AS "BROTHER R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9536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PERT  MURDO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EO OF FOX NEW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E BECOMES A BRAND OF TOILET TISSUE IF THE LAST LETTER IS REMOV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619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 PRI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ING BRAVE OR COURAGEOUS HAS ALSO BEEN THE NAME OF 6 DIFFERENT BRITISH SHIP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OF "SHAMELESS" IS THE HUSBAND OF ACTRESS FELICITY HUFF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IS THE SINGER "WILD ABOUT" IN THE THE MOST POPULAR SONG FROM "SHUFFLE ALONG", THE 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SUCCESSFUL BROADWAY SHOW WITH AN ALL-BLACK CAS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ING CLAPTRAP OR BALDERDASH IS ALSO A BRAND OF CANDIED POPCO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PRESIDENT OBAMA'S MIDDL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A DOES TURKMENISTAN AND KAZAKHSTAN BO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14280" y="762120"/>
            <a:ext cx="8515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EO OF FOX NEW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8T17:41:58Z</dcterms:created>
  <dc:creator>Jennifer Budzinski</dc:creator>
  <dc:description/>
  <dc:language>en-US</dc:language>
  <cp:lastModifiedBy>Erich Friedman</cp:lastModifiedBy>
  <dcterms:modified xsi:type="dcterms:W3CDTF">2020-08-31T00:06:31Z</dcterms:modified>
  <cp:revision>438</cp:revision>
  <dc:subject/>
  <dc:title>Slide 1</dc:title>
</cp:coreProperties>
</file>