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A045-5C7A-4821-AB08-DA43295B8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AFE0-4D0D-4447-A622-5DF2DBF69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3EA7-286B-4CB9-A5FD-BFEF799B9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B0DA-0682-4F39-AA3C-2F8E590EB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1CFA-9806-4F19-A115-CFC2D26AD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5E2E-8FFF-43F3-B679-E605743F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B811-1A1D-4D3B-AFF8-2FCF3CDDD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003A-C791-4A4F-B8D9-4EEFDF9E9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E7D5-B277-4096-AC59-C40B7AE60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5297-E826-4F84-90A0-1D634870E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7514-B44F-414C-A2D1-D1CE1D5B3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8983-68EF-4C20-B85C-7342FFC96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E372-21B0-426D-B000-04FCEF8EA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B490-7438-4675-99D2-A6FE9EBAF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950B-D7C9-4E50-A0CB-A21C0B656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68B0-9762-4C25-B61D-1053F3D5C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6C96-DFB4-4631-8795-C426CA740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A7CF-6F8E-4A02-9943-E1844A977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B7AF-5ED0-4081-91B2-E704D5DFA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54EE-F182-4A15-8846-9DDCAD6AA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22C7-DA4F-4A10-ADBE-6C3B9204A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4648-1232-40F0-8967-F1040EF60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5D90-E5A1-4B62-858B-101D4355E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CCENT MARK ABOVE A LETTER SLANTS DOWN FROM LEFT TO RIGHT, LIKE THESE: À È Ì Ò 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GARET) 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HAS WON THE MOST MAJOR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AJORITY OF THE POSITIONS IN AMERICAN FOOTBALL CONTAIN WHAT 4-LETTER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-MOST COUNTRY IN THE UNITED KING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5-LETTER WORD FOR THE PART OF A RIFLE THAT IS HELD AGAINST THE SHOULDER WHEN FI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LLECTIVE NOUN FOR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HINESE SAILING SHIP HAS FULLY BATTENED S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PECIES OF OW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HAS WON THE MOST MAJOR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A    5-LETTER SLANG TERM FOR A SHOT THAT HITS THE RIM AND BOUNCES O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CCENT MARK ABOVE A LETTER SLANTS DOWN FROM LEFT TO RIGHT, LIKE THESE: À È Ì Ò 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YAR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AJORITY OF THE POSITIONS IN AMERICAN FOOTBALL CONTAIN WHAT 4-LETTER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-MOST COUNTRY IN THE UNITED KING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5-LETTER WORD FOR THE PART OF A RIFLE THAT IS HELD AGAINST THE SHOULDER WHEN FI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LLECTIVE NOUN FOR F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HINESE SAILING SHIP HAS FULLY BATTENED SAI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PECIES OF OW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A    5-LETTER SLANG TERM FOR A SHOT THAT HITS THE RIM AND BOUNCES OF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4T19:37:00Z</dcterms:created>
  <dc:creator>Jennifer Budzinski</dc:creator>
  <dc:description/>
  <dc:language>en-US</dc:language>
  <cp:lastModifiedBy>Erich Friedman</cp:lastModifiedBy>
  <dcterms:modified xsi:type="dcterms:W3CDTF">2020-08-31T00:06:58Z</dcterms:modified>
  <cp:revision>439</cp:revision>
  <dc:subject/>
  <dc:title>Slide 1</dc:title>
</cp:coreProperties>
</file>