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A245-8B36-4F7D-BC1D-AB5D07D1C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1DFF-681B-44E7-B01C-9E74586A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3EED-9C8E-41B9-90C9-B1DA05973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31C3-0A25-43CD-A92A-A9EBB94BA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E1C1-2EB6-4DCF-B1C6-655F1A73D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EB91-09EC-49CA-8024-37BD63BDF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E677-645E-4B27-9CF8-FB545EB3B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55E-4AAE-4E66-B18C-2C2D7169D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3211-8BA0-4353-8471-DC9708318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2995-B08C-4447-93F3-2432EDCB5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254C-5009-4938-BB3C-F80B9743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2994-D3C1-427B-9DBC-2CA64E2B7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3BE1-178D-4B99-9829-F657DAB8F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B8ED-80B2-4591-859E-D36C3C4C1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C1B0-E3BC-4FBC-8428-CF04C695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A9A5-D161-4CAF-AF15-993D7D8EE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CD9A-FF65-4DD4-AE93-341A82C7D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2579-46BB-448A-8B8A-5FC25344E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598F-E358-44CA-8128-6E5F607A8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972E-BD10-452F-BAE6-82B766C1B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13EB-EEDE-4992-B0D2-9C82F2A18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324B-9035-4C43-A769-23C065D8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69AD-6179-40BF-8E9A-A5DDAAE86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ENT MARK ABOVE A LETTER SLANTS DOWN FROM LEFT TO RIGHT, LIKE THESE: À È Ì Ò 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GARET)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AJORITY OF THE POSITIONS IN AMERICAN FOOTBALL CONTAIN WHAT 4-LETTER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COUNTRY IN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PART OF A RIFLE THAT IS HELD AGAINST THE SHOULDER WHEN FI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LLECTIVE NOUN FOR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HINESE SAILING SHIP HAS FULLY BATTENED S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A    5-LETTER SLANG TERM FOR A SHOT THAT HITS THE RIM AND BOUNCES O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ENT MARK ABOVE A LETTER SLANTS DOWN FROM LEFT TO RIGHT, LIKE THESE: À È Ì Ò 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YAR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AJORITY OF THE POSITIONS IN AMERICAN FOOTBALL CONTAIN WHAT 4-LETTER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COUNTRY IN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PART OF A RIFLE THAT IS HELD AGAINST THE SHOULDER WHEN FI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LLECTIVE NOUN FOR F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HINESE SAILING SHIP HAS FULLY BATTENED SAI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OW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A    5-LETTER SLANG TERM FOR A SHOT THAT HITS THE RIM AND BOUNCES OF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4T19:37:00Z</dcterms:created>
  <dc:creator>Jennifer Budzinski</dc:creator>
  <dc:description/>
  <dc:language>en-US</dc:language>
  <cp:lastModifiedBy>Erich Friedman</cp:lastModifiedBy>
  <dcterms:modified xsi:type="dcterms:W3CDTF">2020-08-31T00:06:58Z</dcterms:modified>
  <cp:revision>439</cp:revision>
  <dc:subject/>
  <dc:title>Slide 1</dc:title>
</cp:coreProperties>
</file>