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DB86-DF9D-4DFA-A732-4F50C4824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B2E4-EDE1-4FE2-9629-48117BA4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576F-B5D1-415B-B343-CC5876BD1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D18A-4972-4AC4-A161-8DF25FA82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25CC-03D0-451B-8ACA-B7ACCEB1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9BF9-3318-4229-A62F-8A5A20025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D216-CC74-48BC-A18B-73C51899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EDBB-69E4-4C28-AF63-2E5D779DD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B3F4-051A-4835-8A35-72F0D1BC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87AB-431A-4E2A-AD91-565D845EE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318C-9252-4690-AA50-A30B6EAC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A22-A29B-487D-B6B8-D3BAC6554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DD72-8DDF-4CFC-A7DA-7EB94FBF8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B69-AC01-4589-954E-8183F124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AEA7-E061-40AA-A4A3-563474884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4754-531E-4F88-932D-3A9644D3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A880-F987-4915-9B37-476361484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7E39-5DCA-413E-8AAA-9FA6F49B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2EC9-557B-406D-A669-1FCB97CB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D87-7CB1-4581-B1CA-1F23E2CE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39AE-A772-4DCA-8A28-ABF4C4E3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3FE-F3FE-40B4-B85E-C1DD78272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178-3807-4482-AD5F-96DEC6DC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ENT MARK ABOVE A LETTER SLANTS DOWN FROM LEFT TO RIGHT, LIKE THESE: À È Ì Ò 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AJORITY OF THE POSITIONS IN AMERICAN FOOTBALL CONTAIN WHAT 4-LETTER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COUNTRY IN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PART OF A RIFLE THAT IS HELD AGAINST THE SHOULDER WHEN FI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A    5-LETTER SLANG TERM FOR A SHOT THAT HITS THE RIM AND BOUNCES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ENT MARK ABOVE A LETTER SLANTS DOWN FROM LEFT TO RIGHT, LIKE THESE: À È Ì Ò 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Y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AJORITY OF THE POSITIONS IN AMERICAN FOOTBALL CONTAIN WHAT 4-LETTER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COUNTRY IN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PART OF A RIFLE THAT IS HELD AGAINST THE SHOULDER WHEN FI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OW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A    5-LETTER SLANG TERM FOR A SHOT THAT HITS THE RIM AND BOUNCES O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19:37:00Z</dcterms:created>
  <dc:creator>Jennifer Budzinski</dc:creator>
  <dc:description/>
  <dc:language>en-US</dc:language>
  <cp:lastModifiedBy>Erich Friedman</cp:lastModifiedBy>
  <dcterms:modified xsi:type="dcterms:W3CDTF">2020-08-31T00:06:58Z</dcterms:modified>
  <cp:revision>439</cp:revision>
  <dc:subject/>
  <dc:title>Slide 1</dc:title>
</cp:coreProperties>
</file>