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4A11-2909-4D45-88CB-B32C81231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EFAB-1405-4B72-9CC9-B6FC492F0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7BC1-9677-4B1F-A3A1-826A36565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8A98-54FA-40FA-9E45-5E8751AB0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CE48-80A3-4F81-9E58-0AAF90AD6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83EB-3592-4198-A0FD-E8A799CC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296F-EFD8-48E7-94F1-B37A55BF5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05A1-8E06-413C-B00F-6E1381587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2B66-984B-46CE-BC3B-966886F4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87A4-3146-49EA-8FDA-0073BD83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85F7-9CBA-4BFC-B955-67C7EBC7D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751F-C234-446D-A880-05F63B34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BB1A-5EEF-4581-8AB2-1F2EEB0BC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4C8B-9042-4095-8EF6-467D98F65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3D9B-5DC1-40AE-8099-F704C352F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54D8-2435-4670-A6C8-2D901265D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06FD-2704-4779-A4DE-B0B7BF824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30A6-38A6-4A85-91F1-EF2B99591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FDB5-65EA-4A9C-974F-4C0CB4EFE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FD4D-0937-4405-8C5C-770B553CA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C97D-7627-4E6E-A371-995C2B64D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63AE-657C-45A2-A8F2-E9A706CD1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C235-C0C2-4626-A94D-D9A0AD645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, STARRED IN, AND EVEN WROTE THE THEME MUSIC FOR "THE HONEYMOON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KR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MCDONALD'S RESTAUR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WENDY'S RESTAUR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20-1934 NY YANKEES OUTFIELDER STILL HOLDS THE RECORD FOR SLUGGING PERCENT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KACZYN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"UNABOM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  W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RODUCER OF "PULP FICTION" AND "SHAKESPEARE IN LOVE" WAS EXPELLED FROM THE MOTION PICTURE ACADEMY AFTER SEXUAL ABUSE ALLEG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LI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ON TV'S "ELEMEN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WAR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FROM MASSACHUSETTS IS RUNNING F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MCDONALD'S RESTAUR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ECCA  DE  MORN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M CRUISE'S LOVE INTEREST IN "RISKY BUS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IE  GL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, STARRED IN, AND EVEN WROTE THE THEME MUSIC FOR "THE HONEYMOON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 NAMES  OF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WENDY'S RESTAUR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20-1934 NY YANKEES OUTFIELDER STILL HOLDS THE RECORD FOR SLUGGING PERCENT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"UNABOM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RODUCER OF "PULP FICTION" AND "SHAKESPEARE IN LOVE" WAS EXPELLED FROM THE MOTION PICTURE ACADEMY AFTER SEXUAL ABUSE ALLEGA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ON TV'S "ELEMEN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FROM MASSACHUSETTS IS RUNNING F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M CRUISE'S LOVE INTEREST IN "RISKY BUSI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3T23:32:16Z</dcterms:created>
  <dc:creator>Jennifer Budzinski</dc:creator>
  <dc:description/>
  <dc:language>en-US</dc:language>
  <cp:lastModifiedBy>Erich Friedman</cp:lastModifiedBy>
  <dcterms:modified xsi:type="dcterms:W3CDTF">2020-08-31T00:07:32Z</dcterms:modified>
  <cp:revision>440</cp:revision>
  <dc:subject/>
  <dc:title>Slide 1</dc:title>
</cp:coreProperties>
</file>