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21F41-0D48-4AC3-A8A7-3805740EF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AFFD7-7F71-4F57-9761-082C0F386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0FAA2-7B78-4B29-836B-8161B9CD8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A89CF-6C74-4EA4-A359-EE1CA8DB5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6500E-0325-473C-A838-25C43CF3D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BB2AC-45A0-47DB-AE4A-F41D6E1A7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9AEEA-46BB-4570-8458-74017BA6A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BBC75-0153-4DB6-9A3A-26362FD20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2F4F4-794D-4065-8196-8613A86A5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75BBD-A7A3-4F24-A43C-965C608BF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6784F-E87C-4DA2-A732-708F19F53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00CD6-9E6A-4E2C-BED2-9A984F71E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3981C-6733-42ED-921B-13BD17FF9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C6367-4994-48C1-864B-7290859C3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3DEB3-6238-407F-89CC-64203583C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39947-CA16-4F0F-AB44-13185C7C6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2A605-1503-42A4-B4B0-5C651CD1C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50CC5-8962-471D-A837-4275C8571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9AF93-FDB5-4E9A-B3DB-4EFD6819A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B6AE1-5F96-4088-86A5-3161791B2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5DE2-3675-4DFB-B138-1444D377D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43E65-9501-4DBE-AE7F-20F185759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09B63-8B89-4EDA-873E-632FAF191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95280" y="914040"/>
            <a:ext cx="65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  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858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REATED, STARRED IN, AND EVEN WROTE THE THEME MUSIC FOR "THE HONEYMOONER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Y  KRO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OUNDED MCDONALD'S RESTAURA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VE  THO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OUNDED WENDY'S RESTAURA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BE  RU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47640" y="762120"/>
            <a:ext cx="78487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20-1934 NY YANKEES OUTFIELDER STILL HOLDS THE RECORD FOR SLUGGING PERCENTA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D  KACZYNS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333440" y="762120"/>
            <a:ext cx="6477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"UNABOMB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VEY  WEINSTE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04920" y="762120"/>
            <a:ext cx="8534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PRODUCER OF "PULP FICTION" AND "SHAKESPEARE IN LOVE" WAS EXPELLED FROM THE MOTION PICTURE ACADEMY AFTER SEXUAL ABUSE ALLEGA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UCY  LI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90720" y="762120"/>
            <a:ext cx="71625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DR. WATSON ON TV'S "ELEMENTA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IZABETH  WAR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09480" y="762120"/>
            <a:ext cx="7925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MOCRATIC SENATOR FROM MASSACHUSETTS IS RUNNING FOR PRESI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OUNDED MCDONALD'S RESTAURAN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BECCA  DE  MORN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OM CRUISE'S LOVE INTEREST IN "RISKY BUSINES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IE  GLEA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028880" y="762120"/>
            <a:ext cx="7086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REATED, STARRED IN, AND EVEN WROTE THE THEME MUSIC FOR "THE HONEYMOONE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486080" y="4343400"/>
            <a:ext cx="6172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IR  FIRST  NAMES  ARE  NAMES  OF  FIL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2396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OUNDED WENDY'S RESTAURAN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20-1934 NY YANKEES OUTFIELDER STILL HOLDS THE RECORD FOR SLUGGING PERCENTA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333440" y="762120"/>
            <a:ext cx="6477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"UNABOMB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266760" y="76212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PRODUCER OF "PULP FICTION" AND "SHAKESPEARE IN LOVE" WAS EXPELLED FROM THE MOTION PICTURE ACADEMY AFTER SEXUAL ABUSE ALLEGATION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DR. WATSON ON TV'S "ELEMENTAR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MOCRATIC SENATOR FROM MASSACHUSETTS IS RUNNING FOR PRESID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OM CRUISE'S LOVE INTEREST IN "RISKY BUSINES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3T23:32:16Z</dcterms:created>
  <dc:creator>Jennifer Budzinski</dc:creator>
  <dc:description/>
  <dc:language>en-US</dc:language>
  <cp:lastModifiedBy>Erich Friedman</cp:lastModifiedBy>
  <dcterms:modified xsi:type="dcterms:W3CDTF">2020-08-31T00:07:32Z</dcterms:modified>
  <cp:revision>440</cp:revision>
  <dc:subject/>
  <dc:title>Slide 1</dc:title>
</cp:coreProperties>
</file>