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841C-55CC-4BEF-91C9-C6431AA0D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7956-E233-44CB-8171-CED2A5B8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DBC1-DA5B-4605-98AF-E9750854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91F-1BB0-4178-A758-58E5F5DA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245C-E70C-4310-9A3C-C9CF225F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1799-4367-4C7A-9715-BF0EEC05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DB8-C8E1-450C-959C-0DC38AFA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E234-4363-4D9A-9024-9F662FF4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5B6E-9F27-46AC-9662-DD5CADC7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EFB-A792-41EF-8C87-679400C2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86C-A699-4884-91AC-6C80106F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A14-FC75-4763-9E07-7DAC1E00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F872-527E-42DA-B694-7BAF0D30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284C-BF2F-435C-85F2-5C3D93A2F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9E3-AB24-4523-A336-51CB5F8C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EAFE-01E2-405B-AC47-627311C7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006F-6FCD-4466-8C7D-0891EF1BD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EE5-5ECB-417B-B783-24AC4A1C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AE18-8340-431C-ABB7-D1F6C7A8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89DD-0699-4598-81EC-7AD19FC4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EC46-54FC-4D94-B8A0-2898C3FC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F8FC-0797-47B5-B0B1-AE0D31DA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1BF-540F-4689-ABE6-C0648F34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, STARRED IN, AND EVEN WROTE THE THEME MUSIC FOR "THE HONEYMOON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K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MCDONALD'S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WENDY'S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0-1934 NY YANKEES OUTFIELDER STILL HOLDS THE RECORD FOR SLUGGING 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"UNABO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W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ODUCER OF "PULP FICTION" AND "SHAKESPEARE IN LOVE" WAS EXPELLED FROM THE MOTION PICTURE ACADEMY AFTER SEXUAL ABUSE ALLEG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WA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FROM MASSACHUSETTS IS RUNNING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MCDONALD'S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  DE  MORN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M CRUISE'S LOVE INTEREST IN "RISKY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GL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, STARRED IN, AND EVEN WROTE THE THEME MUSIC FOR "THE HONEYMOON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NAMES  OF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WENDY'S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0-1934 NY YANKEES OUTFIELDER STILL HOLDS THE RECORD FOR SLUGGING 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"UNABO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ODUCER OF "PULP FICTION" AND "SHAKESPEARE IN LOVE" WAS EXPELLED FROM THE MOTION PICTURE ACADEMY AFTER SEXUAL ABUSE ALLEG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FROM MASSACHUSETTS IS RUNNING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M CRUISE'S LOVE INTEREST IN "RISKY BUSI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3T23:32:16Z</dcterms:created>
  <dc:creator>Jennifer Budzinski</dc:creator>
  <dc:description/>
  <dc:language>en-US</dc:language>
  <cp:lastModifiedBy>Erich Friedman</cp:lastModifiedBy>
  <dcterms:modified xsi:type="dcterms:W3CDTF">2020-08-31T00:07:32Z</dcterms:modified>
  <cp:revision>440</cp:revision>
  <dc:subject/>
  <dc:title>Slide 1</dc:title>
</cp:coreProperties>
</file>