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E80B-89A9-4091-88FE-87BF44C75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109F-E54C-41A5-8CDC-9C0D1019E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1256-7C38-4AD6-A726-BBAF1AEB1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787F-4F6C-450B-8FBD-F39B71541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5198-48AA-42C3-B157-53738277E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633E-B320-4BD7-87DC-FFC3A8568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FE3F-AB38-4C6A-9817-50DC28023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77DC-61A6-490C-8597-DBBB9A858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BB8C-E708-4445-ADDC-915862819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7934-DD4F-49B0-8FE6-7218D9CE0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EF54-D14E-49BF-B795-B80B85D3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E73C-08AD-4EB0-A7A4-BB5063503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4410-53AF-45D8-9B4F-45BBF8694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3276-8CC6-4EB1-AE95-E5DD75EAA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CF01-3651-4BD1-B5E1-AFC42D636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0294-D07C-4DE9-A54F-68D4BE83C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A7A8-6986-425F-B8B5-95735992B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93D8-450D-4117-97E2-389E53161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1BED-AC75-4845-9E2F-C0D389B3A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4A4F-53E8-4CD1-ADDD-99FAB6352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4C3A-0E7D-4817-9BC2-CC1A7AC8E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6586-B6C2-4E0D-A21E-B9F55542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3CCD-F89F-4FEC-9B09-C2A7D4B78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ENGLISH BARON SHOULD BE ADDRESSED AS "LORD".  WHAT SHOULD A BARONESS BE ADDRESSED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77 FILM ABOUT THE LIFE OF MUHAMMAD ALI IN WHICH ALI PLAYS HIMSE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ZE  OF 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ON BON JOVI'S FIRST SOLO ALBUM, INSPIRED BY THE FILM "YOUNG GUNS 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IED  TREA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990720"/>
            <a:ext cx="4800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ICON INDICATE IN THE GAME OF MINECRA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5410080" y="9907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AND 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MOST-USED PRONOUNS, BOTH IN WRITTEN AND SPOKE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  YOU  GO 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OF RONALD REAGAN DURING HIS LAST PRESIDENTIAL DEBATE WITH JIMMY CAR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18440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TIME SERIES STARS CLAIRE DANES AS A CIA OFFICER WITH BIPOLAR DIS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THE MOST EXPENSIVE SLIPPERS EVER USED IN A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77 FILM ABOUT THE LIFE OF MUHAMMAD ALI IN WHICH ALI PLAYS HIMSE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762120"/>
            <a:ext cx="495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HOSTESS WAS PORTRAYED BY CASSANDRA  PETE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"/>
          <p:cNvPicPr/>
          <p:nvPr/>
        </p:nvPicPr>
        <p:blipFill>
          <a:blip r:embed="rId1"/>
          <a:stretch/>
        </p:blipFill>
        <p:spPr>
          <a:xfrm>
            <a:off x="5029200" y="765000"/>
            <a:ext cx="3637080" cy="36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ENGLISH BARON SHOULD BE ADDRESSED AS "LORD".  WHAT SHOULD A BARONESS BE ADDRESSED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266760" y="48769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KENNY  ROGERS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ON BON JOVI'S FIRST SOLO ALBUM, INSPIRED BY THE FILM "YOUNG GUNS I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1143000"/>
            <a:ext cx="4724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ICON INDICATE IN THE GAME OF MINECRA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MOST-USED PRONOUNS, BOTH IN WRITTEN AND SPOKEN ENG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OF RONALD REAGAN DURING HIS LAST PRESIDENTIAL DEBATE WITH JIMMY CAR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TIME SERIES STARS CLAIRE DANES AS A CIA OFFICER WITH BIPOLAR DIS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THE MOST EXPENSIVE SLIPPERS EVER USED IN A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HOSTESS WAS PORTRAYED BY CASSANDRA  PETE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5029200" y="838080"/>
            <a:ext cx="3637080" cy="363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8T18:14:57Z</dcterms:created>
  <dc:creator>Jennifer Budzinski</dc:creator>
  <dc:description/>
  <dc:language>en-US</dc:language>
  <cp:lastModifiedBy>Erich Friedman</cp:lastModifiedBy>
  <dcterms:modified xsi:type="dcterms:W3CDTF">2020-08-31T00:08:38Z</dcterms:modified>
  <cp:revision>440</cp:revision>
  <dc:subject/>
  <dc:title>Slide 1</dc:title>
</cp:coreProperties>
</file>