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3C0C-2976-475D-9D3C-9F39BD01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9FF58-6729-4C21-A038-DD77630A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F6D6-FE93-41EB-8EEB-A9FA613D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B19B-3454-4627-8FC9-9BD50F28B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BB69-2E87-4024-99AC-0DC5C30F5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5E21-8ADF-4AC3-B17E-1896F443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146-E9D0-496E-9F83-679756917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1C67-419C-4363-866B-22DAD79F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BAC1-300C-4B2D-B02A-380B35B4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63BC-694F-4A9C-9FE6-C301D22CB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F2FC-D6FD-4CE3-B606-7FCDB945A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DBC4-A479-451D-9F5E-45F9124B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D62A-225C-4377-A7CE-79AA4852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2B0E-2A20-414D-8124-ADCCEEEBF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662A-9299-461E-8541-42249AEFB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ACF8E-6021-4F70-93AF-BCBAAEC17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49B-31C6-4200-9EDF-5B43D9D0B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2C03-9BB6-43B0-9832-92AF811E8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BA97-550D-4311-ABB3-9CF0F0D9E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5DF1-0738-41A0-A97E-65F5552C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4522-BB33-4F23-AAEB-C42E6A23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8DC9-6416-4018-ADB1-0A33B5C3E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DC74-7EBF-45FC-B0B4-75074CFAD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ZE  OF  GL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IED  TREA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990720"/>
            <a:ext cx="4800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5410080" y="99072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ND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YOU  GO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8440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7 FILM ABOUT THE LIFE OF MUHAMMAD ALI IN WHICH ALI PLAYS HIM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762120"/>
            <a:ext cx="49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029200" y="76500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NGLISH BARON SHOULD BE ADDRESSED AS "LORD".  WHAT SHOULD A BARONESS BE ADDRESSED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KENNY  ROGER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ON BON JOVI'S FIRST SOLO ALBUM, INSPIRED BY THE FILM "YOUNG GUNS 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143000"/>
            <a:ext cx="4724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ICON INDICATE IN THE GAME OF MINECR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1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-USED PRONOUNS, BOTH IN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OF RONALD REAGAN DURING HIS LAST PRESIDENTIAL DEBATE WITH JIMMY CAR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TIME SERIES STARS CLAIRE DANES AS A CIA OFFICER WITH BIPOLAR DIS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MOST EXPENSIVE SLIPPERS EVER USED IN A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4876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HOSTESS WAS PORTRAYED BY CASSANDRA  PET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029200" y="838080"/>
            <a:ext cx="3637080" cy="36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8:14:57Z</dcterms:created>
  <dc:creator>Jennifer Budzinski</dc:creator>
  <dc:description/>
  <dc:language>en-US</dc:language>
  <cp:lastModifiedBy>Erich Friedman</cp:lastModifiedBy>
  <dcterms:modified xsi:type="dcterms:W3CDTF">2020-08-31T00:08:38Z</dcterms:modified>
  <cp:revision>440</cp:revision>
  <dc:subject/>
  <dc:title>Slide 1</dc:title>
</cp:coreProperties>
</file>