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0BF-01BF-4927-9C43-F4CAB812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FEB2-A90C-406E-868E-F0AD0EB5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BB6B-E5B6-476C-9430-D6AF86E94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B68B-9AC5-40C2-80C8-E7B683A1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35D2-FDCF-4717-A94D-AB62D7B8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F4B7-9260-4CFA-BD92-A5275F561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296-6C59-4E76-9569-7E660131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2EB-6548-4F12-B534-D7FFDC3B6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7638-6126-4A9C-BC22-E6589153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637-0469-4A84-89C9-69C31BF9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B65B-74CB-432B-9DC5-727843F3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4D0-7FDB-4A64-A9AF-A2AE4BE9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E2E5-3A60-4E96-82F0-B9886406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C27-2122-4FFD-97A7-1A952376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EA5-1B8B-4445-AC42-B7A4D248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72E-2DFC-4047-B4D5-D02DA7AB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A1D-1CEC-4A81-AFF8-D1676A24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9854-CAFB-4703-A217-DE9E03A5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BE0-3AEE-4396-90C7-F03F8E7C1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6844-738F-492F-B0F2-9F00EB23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05F8-669D-4104-AEE3-79963AC52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05AE-C8A4-48C7-84C6-9C444D59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23B6-F953-4111-B511-A6287686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NGLISH BARON SHOULD BE ADDRESSED AS "LORD".  WHAT SHOULD A BARONESS BE ADDRESSED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7 FILM ABOUT THE LIFE OF MUHAMMAD ALI IN WHICH ALI PLAYS HIM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ZE  OF 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N BON JOVI'S FIRST SOLO ALBUM, INSPIRED BY THE FILM "YOUNG GUNS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IED  TR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990720"/>
            <a:ext cx="4800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ICON INDICATE IN THE GAME OF MINECR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ND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-USED PRONOUNS, BOTH IN WRITTEN AND SPOKE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 YOU  GO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RONALD REAGAN DURING HIS LAST PRESIDENTIAL DEBATE WITH JIMMY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18440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ERIES STARS CLAIRE DANES AS A CIA OFFICER WITH BIPOLAR DIS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MOST EXPENSIVE SLIPPERS EVER USED IN A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7 FILM ABOUT THE LIFE OF MUHAMMAD ALI IN WHICH ALI PLAYS HIM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762120"/>
            <a:ext cx="495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HOSTESS WAS PORTRAYED BY CASSANDRA  PET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5029200" y="765000"/>
            <a:ext cx="3637080" cy="36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NGLISH BARON SHOULD BE ADDRESSED AS "LORD".  WHAT SHOULD A BARONESS BE ADDRESSED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KENNY  ROGER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N BON JOVI'S FIRST SOLO ALBUM, INSPIRED BY THE FILM "YOUNG GUNS 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14300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ICON INDICATE IN THE GAME OF MINECR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-USED PRONOUNS, BOTH IN WRITTEN AND SPOKE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RONALD REAGAN DURING HIS LAST PRESIDENTIAL DEBATE WITH JIMMY CAR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ERIES STARS CLAIRE DANES AS A CIA OFFICER WITH BIPOLAR DIS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MOST EXPENSIVE SLIPPERS EVER USED IN A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HOSTESS WAS PORTRAYED BY CASSANDRA  PET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3637080" cy="36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8:14:57Z</dcterms:created>
  <dc:creator>Jennifer Budzinski</dc:creator>
  <dc:description/>
  <dc:language>en-US</dc:language>
  <cp:lastModifiedBy>Erich Friedman</cp:lastModifiedBy>
  <dcterms:modified xsi:type="dcterms:W3CDTF">2020-08-31T00:08:38Z</dcterms:modified>
  <cp:revision>440</cp:revision>
  <dc:subject/>
  <dc:title>Slide 1</dc:title>
</cp:coreProperties>
</file>