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B5B8-9E04-4A0C-B9E5-0E3BEE7CD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ED20-88CB-4899-AE51-7D4395D11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0131-28B4-4091-A9DB-3EB88FE29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A0D6-8A7C-4CC5-8295-9E070E40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08A7-BB19-47FA-998A-B1192E889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DE62-CCFD-4BD0-9ED2-84EC95B70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D03-E6F5-4CAB-96B3-23CB90B4F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EFD8-CF04-4C3C-AF10-3AEA02F8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9CC2-FA70-4932-B1CB-32847107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D01F-FB60-494F-B4E5-9604AF2D8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6C01-0BB2-4782-9509-6403BD870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555B-AC30-42D5-8437-0D8F6468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56EA-C63E-4022-98C8-821C3524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8305-3140-4529-AA3C-802A6CDC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876E-989F-444E-AFB0-8717D3DAD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4ACF-56E9-41ED-A188-5000E05FF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0835-FCF3-457C-AA22-785EA5DD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D176-FDE9-4508-A25D-B0CA60DC4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E754-AB86-4242-8C3A-27494EDBB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7C3A-EABD-45E3-AB18-D6654DD4C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C620-1274-446F-BA2B-4AC122D9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39B-CA13-45CF-B570-BA44F5E5D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F1A3-1BFA-40B8-BB9D-C156AD414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ERNETIC ORGANISMS WITH A HIVE MIND WERE MAJOR ANTAGONISTS FOR TWO "STAR TREK"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RAY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PERSTAR" (FROM THE ROCK OPERA "JESUS CHRIST SUPERSTAR") AND  "ONE NIGHT IN BANGKOK" (FROM THE MUSICAL "CHESS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CO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LOTHING MANUFACTURER HAS A GREEN CROCODILE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90400" y="762120"/>
            <a:ext cx="796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WAS RESPONSIBLE FOR "THE RUMBLE IN THE JUNGLE" AND "THE THRILLA IN MANI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N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D CITIES ON THE ILLINOIS-IOWA BORDER ARE BETTENDORF, MOLINE, ROCK ISLAND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"ROSANNE" WAS CANCELED, ABC REPLACED IT WITH WHAT SHOW, WITH ALMOST THE SAM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NEWCOM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AS THE FIRST TO WIN ALL 3 OF: ROOKIE OF THE YEAR (1949), NL MVP (1956), AND THE CY YOUNG AWARD (195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PERSTAR" (FROM THE ROCK OPERA "JESUS CHRIST SUPERSTAR") AND  "ONE NIGHT IN BANGKOK" (FROM THE MUSICAL "CHESS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ERSON,  LAKE  &amp;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GROUP SANG "LUCK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ERNETIC ORGANISMS WITH A HIVE MIND WERE MAJOR ANTAGONISTS FOR TWO "STAR TREK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LAST  NAMES  OF  FAMOUS  TENNIS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LOTHING MANUFACTURER HAS A GREEN CROCODILE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WAS RESPONSIBLE FOR "THE RUMBLE IN THE JUNGLE" AND "THE THRILLA IN MANI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D CITIES ON THE ILLINOIS-IOWA BORDER ARE BETTENDORF, MOLINE, ROCK ISLAND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"ROSANNE" WAS CANCELED, ABC REPLACED IT WITH WHAT SHOW, WITH ALMOST THE SAME C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AS THE FIRST TO WIN ALL 3 OF: ROOKIE OF THE YEAR (1949), NL MVP (1956), AND THE CY YOUNG AWARD (195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POPEYE" AND "MRS. DOUBT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GROUP SANG "LUCK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13:47:43Z</dcterms:created>
  <dc:creator>Jennifer Budzinski</dc:creator>
  <dc:description/>
  <dc:language>en-US</dc:language>
  <cp:lastModifiedBy>Erich Friedman</cp:lastModifiedBy>
  <dcterms:modified xsi:type="dcterms:W3CDTF">2020-08-31T08:59:41Z</dcterms:modified>
  <cp:revision>438</cp:revision>
  <dc:subject/>
  <dc:title>Slide 1</dc:title>
</cp:coreProperties>
</file>