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8AA80-0814-4CB0-ABB0-9E29ED5D6B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1BCBC-216C-4AF1-A50C-B4C2371A2C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33C3A-B74F-42AB-946E-7171D94208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EEA9F-A6B9-48DD-9545-AFCE7BB24A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1D264-83F1-4318-AB04-A99EFCE74F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CD257-345B-4225-9653-B8822DE85F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58C0B-746D-476E-AEE8-EC4EEFEF3F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CB0C5-DB1A-4C28-AE04-3860776C71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B61B0-0B94-4ACB-9344-F8CE532540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9F653-95AB-4A34-B2A7-6E6932CD58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0B39F-13F0-4563-BEE7-E344C367E5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C2AC6-6CBE-4048-98DA-0C8356D372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3BBC3-F24A-45EC-A251-A1408CF311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62592-BF72-4D65-98E1-65E37D6E39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BE379-AB1D-430B-A33E-E98346624A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624FE-3AB1-46EA-8745-951180DF0F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6C560-D27A-4098-A67C-6FE11DF8FB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E3044-5ED8-4B23-80E2-666E5BA633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0D1CB-A98B-4855-9E31-B914793084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441E7-DAE1-424B-A5CE-6BE0A7D8F1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095B4-D5F2-4D9E-8496-00176327F3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84FC7-A357-4FE3-8C26-2267765621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971E0-F292-4AF4-8DBB-8D0508C0D3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295280" y="1371240"/>
            <a:ext cx="65534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YBERNETIC ORGANISMS WITH A HIVE MIND WERE MAJOR ANTAGONISTS FOR TWO "STAR TREK" SERI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URRAY  HE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266760" y="762120"/>
            <a:ext cx="86104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SUPERSTAR" (FROM THE ROCK OPERA "JESUS CHRIST SUPERSTAR") AND  "ONE NIGHT IN BANGKOK" (FROM THE MUSICAL "CHESS"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ACOS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838080" y="762120"/>
            <a:ext cx="74678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RENCH CLOTHING MANUFACTURER HAS A GREEN CROCODILE LOG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N  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590400" y="762120"/>
            <a:ext cx="79632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OXING PROMOTER WAS RESPONSIBLE FOR "THE RUMBLE IN THE JUNGLE" AND "THE THRILLA IN MANILA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VENPO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762120" y="762120"/>
            <a:ext cx="7619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QUAD CITIES ON THE ILLINOIS-IOWA BORDER ARE BETTENDORF, MOLINE, ROCK ISLAND, AND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CONN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609480" y="762120"/>
            <a:ext cx="79250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FTER "ROSANNE" WAS CANCELED, ABC REPLACED IT WITH WHAT SHOW, WITH ALMOST THE SAME CA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257480" y="4876920"/>
            <a:ext cx="6629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N  NEWCOMB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28560" y="762120"/>
            <a:ext cx="78868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LB PITCHER WAS THE FIRST TO WIN ALL 3 OF: ROOKIE OF THE YEAR (1949), NL MVP (1956), AND THE CY YOUNG AWARD (1956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04840" y="4876920"/>
            <a:ext cx="6934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BIN  WILLI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143000" y="762120"/>
            <a:ext cx="68580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TITLE ROLES IN "POPEYE" AND "MRS. DOUBTFIR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90440" y="762120"/>
            <a:ext cx="87631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SUPERSTAR" (FROM THE ROCK OPERA "JESUS CHRIST SUPERSTAR") AND  "ONE NIGHT IN BANGKOK" (FROM THE MUSICAL "CHESS"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153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MERSON,  LAKE  &amp;  PALM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295280" y="762120"/>
            <a:ext cx="65534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UPERGROUP SANG "LUCKY MA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BOR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876240" y="762120"/>
            <a:ext cx="73915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YBERNETIC ORGANISMS WITH A HIVE MIND WERE MAJOR ANTAGONISTS FOR TWO "STAR TREK" SERI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685800" y="4343400"/>
            <a:ext cx="7772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THE  LAST  NAMES  OF  FAMOUS  TENNIS  PLAY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RENCH CLOTHING MANUFACTURER HAS A GREEN CROCODILE LOG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571680" y="762120"/>
            <a:ext cx="80010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OXING PROMOTER WAS RESPONSIBLE FOR "THE RUMBLE IN THE JUNGLE" AND "THE THRILLA IN MANILA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QUAD CITIES ON THE ILLINOIS-IOWA BORDER ARE BETTENDORF, MOLINE, ROCK ISLAND, AND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FTER "ROSANNE" WAS CANCELED, ABC REPLACED IT WITH WHAT SHOW, WITH ALMOST THE SAME CAS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66720" y="761760"/>
            <a:ext cx="78105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LB PITCHER WAS THE FIRST TO WIN ALL 3 OF: ROOKIE OF THE YEAR (1949), NL MVP (1956), AND THE CY YOUNG AWARD (1956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143000" y="762120"/>
            <a:ext cx="67816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TITLE ROLES IN "POPEYE" AND "MRS. DOUBTFIR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104840" y="762120"/>
            <a:ext cx="6934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UPERGROUP SANG "LUCKY MA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11T13:47:43Z</dcterms:created>
  <dc:creator>Jennifer Budzinski</dc:creator>
  <dc:description/>
  <dc:language>en-US</dc:language>
  <cp:lastModifiedBy>Erich Friedman</cp:lastModifiedBy>
  <dcterms:modified xsi:type="dcterms:W3CDTF">2020-08-31T08:59:41Z</dcterms:modified>
  <cp:revision>438</cp:revision>
  <dc:subject/>
  <dc:title>Slide 1</dc:title>
</cp:coreProperties>
</file>