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69B4-8D24-47DF-8F87-881407980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962A-C79F-4CE1-9CFA-30DA06DF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3783-85D2-4A38-8CB4-7F96DA5F2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7A7F-FC8E-4CB4-97A7-A3C69DFB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BEF5-4EF3-4D4B-BB53-ADF2A791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94AE-037C-48E5-9739-16EA4430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2EE3-03D0-4793-B19C-3F9099E9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7A8F-571C-4AEE-8AC4-5FFED5A86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6736-8AE5-4433-A7CA-833244CF1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013E-2C4A-4FAE-AF79-B6B0F4D6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707A-9691-4125-8DCD-9351E1CA5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21A8-F66D-401B-95A4-4E4CD024E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B65B-2F63-4CD4-BC96-523F99F7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A821-DC3C-4F6B-8BDB-8F9EB1CD4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3E5F-3288-46D3-8A3B-FB9D8A2D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4317-E102-49AA-B50D-F0B036D78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1DC8-CF56-4C90-8A98-501C32B2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3E44-7F48-426D-80CC-73976F88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A623-0226-4F6D-9936-E89F71CFE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E9B1-CA4C-43AD-A429-25C93C281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8F09-5B0E-468B-A779-787BD5DB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B2F9-DE84-439B-AAC2-77812532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D139-9FB0-4513-A3BA-350876EAD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ERNETIC ORGANISMS WITH A HIVE MIND WERE MAJOR ANTAGONISTS FOR TWO "STAR TREK"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RAY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PERSTAR" (FROM THE ROCK OPERA "JESUS CHRIST SUPERSTAR") AND  "ONE NIGHT IN BANGKOK" (FROM THE MUSICAL "CHESS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C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LOTHING MANUFACTURER HAS A GREEN CROCODILE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90400" y="762120"/>
            <a:ext cx="796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WAS RESPONSIBLE FOR "THE RUMBLE IN THE JUNGLE" AND "THE THRILLA IN MANI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N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D CITIES ON THE ILLINOIS-IOWA BORDER ARE BETTENDORF, MOLINE, ROCK ISLAND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"ROSANNE" WAS CANCELED, ABC REPLACED IT WITH WHAT SHOW, WITH ALMOST THE SAM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NEWCOM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AS THE FIRST TO WIN ALL 3 OF: ROOKIE OF THE YEAR (1949), NL MVP (1956), AND THE CY YOUNG AWARD (195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PERSTAR" (FROM THE ROCK OPERA "JESUS CHRIST SUPERSTAR") AND  "ONE NIGHT IN BANGKOK" (FROM THE MUSICAL "CHESS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ERSON,  LAKE  &amp;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GROUP SANG "LUCK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ERNETIC ORGANISMS WITH A HIVE MIND WERE MAJOR ANTAGONISTS FOR TWO "STAR TREK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343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E  LAST  NAMES  OF  FAMOUS  TENNIS 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LOTHING MANUFACTURER HAS A GREEN CROCODILE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WAS RESPONSIBLE FOR "THE RUMBLE IN THE JUNGLE" AND "THE THRILLA IN MANI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D CITIES ON THE ILLINOIS-IOWA BORDER ARE BETTENDORF, MOLINE, ROCK ISLAND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"ROSANNE" WAS CANCELED, ABC REPLACED IT WITH WHAT SHOW, WITH ALMOST THE SAME C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AS THE FIRST TO WIN ALL 3 OF: ROOKIE OF THE YEAR (1949), NL MVP (1956), AND THE CY YOUNG AWARD (195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GROUP SANG "LUCK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13:47:43Z</dcterms:created>
  <dc:creator>Jennifer Budzinski</dc:creator>
  <dc:description/>
  <dc:language>en-US</dc:language>
  <cp:lastModifiedBy>Erich Friedman</cp:lastModifiedBy>
  <dcterms:modified xsi:type="dcterms:W3CDTF">2020-08-31T08:59:41Z</dcterms:modified>
  <cp:revision>438</cp:revision>
  <dc:subject/>
  <dc:title>Slide 1</dc:title>
</cp:coreProperties>
</file>