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0517-2418-4C2D-9DFE-EE59D9EE2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E120-0FA3-40C2-9192-1D2E002EE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2BCC-84D5-4F83-8A58-03A5A8E8E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D81C-DFAA-4843-BA69-503F3C5A3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00D7-B5D1-4A1D-8BE2-629AEB6E1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2C18-0832-4174-8201-622882A20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D938-A9E5-4A26-AF14-CC315A17A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B215-B010-4EE5-94C0-99F34BCB1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C450-BF06-461E-95AD-62C03530F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7350-B333-44B3-82AC-0A9483C3F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A8F7-BF19-4A14-BA61-552A3340E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804D-10B4-421F-B45A-7FE5277FF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398A-876B-4038-89A4-8F4A999EB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DB65-3BF8-4EDF-9007-8E1450F5F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3946-38F1-4C4D-8F4D-9AAACDE50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7A96-ADB1-4D79-BC52-8E43A37CB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475E-5552-4B5A-BEB9-1C5C735BA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B64E-661E-415F-ABBE-5101BDB07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59B5-2DFA-44DA-89BC-68877447D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9C17-F722-40C0-8387-EEE8FD397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F20A-BCCB-48C5-A34E-867159103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C724-C42F-407A-8950-5E3317435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71F0-0225-498E-8C3C-A47AF721F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447560"/>
            <a:ext cx="7391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RIED COUPLE WON A NOBEL PRIZE IN 1903 FOR THE DISCOVERY OF RADIOACTIV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OLOR OF THE RAINBOW IS NAMED FOR A DYE THAT THE ANCIENT GREEKS IMPORTED FROM AS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OSER FRÉDÉRIC CHOPIN IS BURIED IN PARIS, BUT HIS HEART WAS RETURNED TO WHAT COUNTRY OF HIS BI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FRED  NOB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762120" y="762120"/>
            <a:ext cx="76197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ENDOWED 5 AWARDS IN HOPES HE WOULDN'T BE REMEMBERED AS A "MERCHANT OF DEATH" FOR INVENTING DYNAM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U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ET WAS DEMOTED TO "DWARF" STATUS BY THE IAU IN 200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LIFOR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 CONTAINS THE MOST SWIMMING POO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293840" y="4884840"/>
            <a:ext cx="6553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1293840" y="762120"/>
            <a:ext cx="6553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THE MOST POPULAR TOURIST DESTIN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ORTHWEST AND MIDWEST CALL IT "POP".  THE SOUTH CALLS IT "COKE".  WHAT DOES NEW ENGLAND CALL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OLOR OF THE  RAINBOW IS NAMED FOR A DYE THAT THE ANCIENT GREEKS IMPORTED FROM AS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066680" y="4876920"/>
            <a:ext cx="4038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76320" y="838080"/>
            <a:ext cx="60195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 ROMAN GODDESS OF AGRICULTURE, WHO HAS AN ASTEROID NAMED FOR 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"/>
          <p:cNvPicPr/>
          <p:nvPr/>
        </p:nvPicPr>
        <p:blipFill>
          <a:blip r:embed="rId1"/>
          <a:stretch/>
        </p:blipFill>
        <p:spPr>
          <a:xfrm>
            <a:off x="6172200" y="685800"/>
            <a:ext cx="2646360" cy="464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E  AND  PIERRE  CU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RIED COUPLE WON A NOBEL PRIZE IN 1903 FOR THE DISCOVERY OF RADIOACTIV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371600" y="434340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MICAL  ELEMENTS  ARE  NAMED  FOR  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OSER FRÉDÉRIC CHOPIN IS BURIED IN PARIS, BUT HIS HEART WAS RETURNED TO WHAT COUNTRY OF HIS BIR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ENDOWED 5 AWARDS IN HOPES HE WOULDN'T BE REMEMBERED AS A "MERCHANT OF DEATH" FOR INVENTING DYNAM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ET WAS DEMOTED TO "DWARF" STATUS BY THE IAU IN 200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 CONTAINS THE MOST SWIMMING POO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THE MOST POPULAR TOURIST DESTIN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ORTHWEST AND MIDWEST CALL IT "POP".  THE SOUTH CALLS IT "COKE".  WHAT DOES NEW ENGLAND CALL 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5960" y="838080"/>
            <a:ext cx="6019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 ROMAN GODDESS OF AGRICULTURE, WHO HAS AN ASTEROID NAMED FOR 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6172200" y="685800"/>
            <a:ext cx="2646360" cy="4648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8T18:32:16Z</dcterms:created>
  <dc:creator>Jennifer Budzinski</dc:creator>
  <dc:description/>
  <dc:language>en-US</dc:language>
  <cp:lastModifiedBy>Erich Friedman</cp:lastModifiedBy>
  <dcterms:modified xsi:type="dcterms:W3CDTF">2020-08-31T08:59:29Z</dcterms:modified>
  <cp:revision>427</cp:revision>
  <dc:subject/>
  <dc:title>Slide 1</dc:title>
</cp:coreProperties>
</file>