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B5E1-5467-4571-9558-E866F42ED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8229-CFD9-4E59-97A1-E97EA4528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B603-68EB-437D-9D64-BEDB0C205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FC5D-D9A2-4145-9536-9CD38E211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653F-284A-4449-AEE5-E947FEF28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99DF-F9B6-4305-9DD1-2F4B1272E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2A51-1B37-43D4-920C-C30CDE421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2EC0-96BF-4B6E-9167-C83EA3F18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615F-44C4-4FD8-9AAF-D6183A546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ADD2-6335-4C6F-BA9F-685B4C5E1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BAE4-3045-448B-A281-CB732A6A6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5E54-81FA-43B5-8062-B1FBBFD47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0B4B-143F-42B8-9A88-855F28BC0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41AE-4E21-4F6A-8E4A-B65B54EE3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56F1-B69B-4A24-BB81-4567BB226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4607-12CA-4AB6-B237-55D2DFF78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47F1-079C-4BA6-B40D-DDEA3C1F6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AC27-145B-4A49-B644-E97C6882D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5A78-E7BA-4A20-8DE0-65D43844A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C8F3-CA93-4A16-8800-32389EA6C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5DE9-B16E-4FB1-8D4C-E073F00A4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D5ED-7A60-41DB-B776-01590CD7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C994-2C93-453E-B505-BEF4AC8F3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4475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RIED COUPLE WON A NOBEL PRIZE IN 1903 FOR THE DISCOVERY OF RADIOAC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LOR OF THE RAINBOW IS NAMED FOR A DYE THAT THE ANCIENT GREEKS IMPORTED FROM A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SER FRÉDÉRIC CHOPIN IS BURIED IN PARIS, BUT HIS HEART WAS RETURNED TO WHAT COUNTRY OF HIS BI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  NO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762120" y="762120"/>
            <a:ext cx="761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ENDOWED 5 AWARDS IN HOPES HE WOULDN'T BE REMEMBERED AS A "MERCHANT OF DEATH" FOR INVENTING DYNAM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 WAS DEMOTED TO "DWARF" STATUS BY THE IAU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CONTAINS THE MOST SWIMMING PO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93840" y="488484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293840" y="762120"/>
            <a:ext cx="65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MOST POPULAR TOURIST DESTI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THWEST AND MIDWEST CALL IT "POP".  THE SOUTH CALLS IT "COKE".  WHAT DOES NEW ENGLAND CALL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LOR OF THE  RAINBOW IS NAMED FOR A DYE THAT THE ANCIENT GREEKS IMPORTED FROM A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4038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6320" y="838080"/>
            <a:ext cx="6019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 ROMAN GODDESS OF AGRICULTURE, WHO HAS AN ASTEROID NAMED FOR 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6172200" y="685800"/>
            <a:ext cx="264636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AND  PIERRE  CU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RIED COUPLE WON A NOBEL PRIZE IN 1903 FOR THE DISCOVERY OF RADIOAC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71600" y="434340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MICAL  ELEMENTS  ARE  NAMED  FOR 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SER FRÉDÉRIC CHOPIN IS BURIED IN PARIS, BUT HIS HEART WAS RETURNED TO WHAT COUNTRY OF HIS BI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ENDOWED 5 AWARDS IN HOPES HE WOULDN'T BE REMEMBERED AS A "MERCHANT OF DEATH" FOR INVENTING DYNAM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 WAS DEMOTED TO "DWARF" STATUS BY THE IAU IN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CONTAINS THE MOST SWIMMING POO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MOST POPULAR TOURIST DESTIN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THWEST AND MIDWEST CALL IT "POP".  THE SOUTH CALLS IT "COKE".  WHAT DOES NEW ENGLAND CALL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5960" y="838080"/>
            <a:ext cx="601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 ROMAN GODDESS OF AGRICULTURE, WHO HAS AN ASTEROID NAMED FOR 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6172200" y="685800"/>
            <a:ext cx="26463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8T18:32:16Z</dcterms:created>
  <dc:creator>Jennifer Budzinski</dc:creator>
  <dc:description/>
  <dc:language>en-US</dc:language>
  <cp:lastModifiedBy>Erich Friedman</cp:lastModifiedBy>
  <dcterms:modified xsi:type="dcterms:W3CDTF">2020-08-31T08:59:29Z</dcterms:modified>
  <cp:revision>427</cp:revision>
  <dc:subject/>
  <dc:title>Slide 1</dc:title>
</cp:coreProperties>
</file>