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9C5F-D014-4A9B-B55C-60DE561D6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37B5-372A-45A0-94D0-69BA6767B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06A3-9234-49A7-9B31-E92811B0E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8DDB-E1ED-4B71-8CC6-262CA2275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8488-477F-4927-87FA-70695E452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5820-90E9-49B5-A4E8-82D087DEC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8222-2D77-4D16-BE7F-491065B12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6377-27C5-4D77-BA1D-307F96B2C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667C-756A-4A27-8214-E3FEBC30A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ADE7-340D-481C-A735-C89BF2170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7456-A2DC-42A1-BB6A-80D2408C9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8C3F-5B06-477C-9DD9-3819A0416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02F9-143B-4072-B9B9-B637C33D5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2DC8-CBEF-4757-AAE0-8BDC4327F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7A47-118D-424F-A0DE-C2F0AAE7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C3EF-E5BB-4B89-B01D-6AC06288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B20B-7916-440A-B098-1A577460F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9B11-6BD4-48E8-B029-DBE839E77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BF63-E4F4-42F7-976F-671BD902C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22E7-4736-49E1-9A30-60974D4E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A08E-0143-457C-BF3D-7E0262167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4248-5831-41E0-B92C-CD1BFFC31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4626-259D-4C96-9ECC-1145D1B99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4475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RIED COUPLE WON A NOBEL PRIZE IN 1903 FOR THE DISCOVERY OF RADIOAC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OR OF THE RAINBOW IS NAMED FOR A DYE THAT THE ANCIENT GREEKS IMPORTED FROM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SER FRÉDÉRIC CHOPIN IS BURIED IN PARIS, BUT HIS HEART WAS RETURNED TO WHAT COUNTRY OF HIS BI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NO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62120" y="76212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ENDOWED 5 AWARDS IN HOPES HE WOULDN'T BE REMEMBERED AS A "MERCHANT OF DEATH" FOR INVENTING DYNAM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"DWARF" STATUS BY THE IAU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NTAINS THE MOST SWIMMING PO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3840" y="4884840"/>
            <a:ext cx="6553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293840" y="762120"/>
            <a:ext cx="655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MOST POPULAR TOURIST DESTI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WEST AND MIDWEST CALL IT "POP".  THE SOUTH CALLS IT "COKE".  WHAT DOES NEW ENGLAND CALL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OR OF THE  RAINBOW IS NAMED FOR A DYE THAT THE ANCIENT GREEKS IMPORTED FROM A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4038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320" y="838080"/>
            <a:ext cx="6019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 ROMAN GODDESS OF AGRICULTURE, WHO HAS AN ASTEROID NAMED FOR 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264636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AND  PIERR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RIED COUPLE WON A NOBEL PRIZE IN 1903 FOR THE DISCOVERY OF RADIOAC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3434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MICAL  ELEMENTS  ARE  NAMED  FOR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SER FRÉDÉRIC CHOPIN IS BURIED IN PARIS, BUT HIS HEART WAS RETURNED TO WHAT COUNTRY OF HIS BI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ENDOWED 5 AWARDS IN HOPES HE WOULDN'T BE REMEMBERED AS A "MERCHANT OF DEATH" FOR INVENTING DYNAM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 WAS DEMOTED TO "DWARF" STATUS BY THE IAU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CONTAINS THE MOST SWIMMING PO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MOST POPULAR TOURIST DESTIN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WEST AND MIDWEST CALL IT "POP".  THE SOUTH CALLS IT "COKE".  WHAT DOES NEW ENGLAND CALL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5960" y="838080"/>
            <a:ext cx="601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 ROMAN GODDESS OF AGRICULTURE, WHO HAS AN ASTEROID NAMED FOR 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6172200" y="685800"/>
            <a:ext cx="2646360" cy="464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8T18:32:16Z</dcterms:created>
  <dc:creator>Jennifer Budzinski</dc:creator>
  <dc:description/>
  <dc:language>en-US</dc:language>
  <cp:lastModifiedBy>Erich Friedman</cp:lastModifiedBy>
  <dcterms:modified xsi:type="dcterms:W3CDTF">2020-08-31T08:59:29Z</dcterms:modified>
  <cp:revision>427</cp:revision>
  <dc:subject/>
  <dc:title>Slide 1</dc:title>
</cp:coreProperties>
</file>