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69AC-D283-411F-AD4E-59D5F4B4C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BC5A-3B37-4F53-A136-AAC4A76C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D04-F650-47B6-97C3-3E2D7A99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620A-2B5A-483C-B87C-C827E7DC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81B3-6317-4B56-8730-B82F4F6B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621F-BC40-433C-BE41-CA686270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3A18-D7CD-420D-8918-79423C1BD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E080-6568-4A6F-A246-509C3FC1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0FF-EEAF-4EF0-939D-1ACE74B70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E4C3-10A6-4DC9-9B52-DCC52A24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82D6-E317-4DC2-B4A0-3F492C80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41CF-7206-4D02-8223-B004C280B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E50A-F7D4-465F-B680-403553B4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A891-8F08-458A-9F62-0141C2A4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3877-E727-4FB8-9CEE-2FAA9CB6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BB19-28A8-45C5-AB58-BA14961E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EA1-8597-4DB8-A605-C9F59A80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68BA-0FDA-4B8F-B957-095DE9494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D5D5-1160-4C37-94E9-BE8D42F9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E0E4-E241-486A-8716-EDFFB4CC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968-DE94-4C93-875F-D45DA6A9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451-D66C-47E6-947B-9A3BEA09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FC90-51A1-4F29-AA68-4CEB8569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NY METS COINED THE PHRASE "YOU GOTTA BELIEVE", WHICH BECAME A RALLYING CRY FOR THE CLUB IN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DS ARE HIGH-YIELD BUT NOT RATED FOR INVES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OLDING CELL CALLED ON THE STARSHIP ENTERPR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WHAT IS THE MOST COMMON PLAY CALL ON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G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THE PLAYERS SIT WHEN THEY ARE NOT FIELDING OR BAT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600200" y="762120"/>
            <a:ext cx="59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OTH OF A GEA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GAR  C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OBJEC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2189160" y="2057400"/>
            <a:ext cx="4765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OP  JOHN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HAS THE LYRICS "DRINKING ALL NIGHT, GOT INTO A FIGHT, WELL I FEEL SO BROKE UP,       I WANT TO GO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DS  ARE HIGH-YIELD BUT NOT RATED FOR INVES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Y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RAVEL SEARCH ENGINE, WHOSE NAME CONTAINS ONLY 5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G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NY METS COINED THE PHRASE "YOU GOTTA BELIEVE", WHICH BECAME A RALLYING CRY FOR THE CLUB IN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YPES  OF  BO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OLDING CELL CALLED ON THE STARSHIP ENTERPR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WHAT IS THE MOST COMMON PLAY CALL ON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THE PLAYERS SIT WHEN THEY ARE NOT FIELDING OR BAT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OTH OF A GEA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OBJEC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2189160" y="2057400"/>
            <a:ext cx="4765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HAS THE LYRICS "DRINKING ALL NIGHT, GOT INTO A FIGHT, WELL I FEEL SO BROKE UP,      I WANT TO GO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RAVEL SEARCH ENGINE, WHOSE NAME CONTAINS ONLY 5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3T13:25:49Z</dcterms:created>
  <dc:creator>Jennifer Budzinski</dc:creator>
  <dc:description/>
  <dc:language>en-US</dc:language>
  <cp:lastModifiedBy>Erich Friedman</cp:lastModifiedBy>
  <dcterms:modified xsi:type="dcterms:W3CDTF">2020-08-31T09:00:02Z</dcterms:modified>
  <cp:revision>441</cp:revision>
  <dc:subject/>
  <dc:title>Slide 1</dc:title>
</cp:coreProperties>
</file>