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C666-A07C-4D8D-BEF3-9F6D95B12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F4EE-3746-49DE-AEBC-662C78223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A91A-EB7A-490C-89A9-20BC5B797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04B6-1E3F-4E1F-8F54-7CCF6A34C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A148-42D5-4590-9193-01E386891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C8BD5-0CF2-4AB7-B706-9E5256B76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0B77-265B-48A6-A427-650E9C8C5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4AB0-7621-4838-8B7C-5FC6A1B6E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77BF-B6FC-4BE0-9301-5F4FCACF7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EC37-9C61-468F-93CD-1C64DD790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F543-8203-4077-9985-68276B158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E4A6-D020-4C03-A528-2BBDBD302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8C93-48FA-4512-9120-C1413C2FF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F77B-1745-4C52-88EC-638DD5FC9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50B0-FAA7-4633-B8DE-E7C62F112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21EE-9C37-4F2B-B07C-11E980280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FD83-B35A-4A00-AF68-6F00CFF2D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7E8B-CC6F-46E0-BCAC-392C010A1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1C08-1361-49F4-A526-139CA1BC8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21A3-0E01-45E8-89A3-E3600A2A5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A2BA-6635-4F5D-90D6-A28DAD3B1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B825-031B-493D-B3CD-B27152004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CB44-AB6B-4A69-90EF-1EAB84F70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LIEF PITCHER FOR THE NY METS COINED THE PHRASE "YOU GOTTA BELIEVE", WHICH BECAME A RALLYING CRY FOR THE CLUB IN 197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BONDS ARE HIGH-YIELD BUT NOT RATED FOR INVEST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HOLDING CELL CALLED ON THE STARSHIP ENTERPR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066680" y="762120"/>
            <a:ext cx="70106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NFL, WHAT IS THE MOST COMMON PLAY CALL ON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G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EBALL, WHERE DO THE PLAYERS SIT WHEN THEY ARE NOT FIELDING OR BAT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600200" y="762120"/>
            <a:ext cx="5943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OOTH OF A GEAR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295280" y="4952880"/>
            <a:ext cx="6629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GAR  CU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OBJEC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2" descr=""/>
          <p:cNvPicPr/>
          <p:nvPr/>
        </p:nvPicPr>
        <p:blipFill>
          <a:blip r:embed="rId1"/>
          <a:stretch/>
        </p:blipFill>
        <p:spPr>
          <a:xfrm>
            <a:off x="2189160" y="2057400"/>
            <a:ext cx="476568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OOP  JOHN 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CH BOYS SONG HAS THE LYRICS "DRINKING ALL NIGHT, GOT INTO A FIGHT, WELL I FEEL SO BROKE UP,       I WANT TO GO H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BONDS  ARE HIGH-YIELD BUT NOT RATED FOR INVESTM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752480" y="4876920"/>
            <a:ext cx="5639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Y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TRAVEL SEARCH ENGINE, WHOSE NAME CONTAINS ONLY 5 LET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G  MCGR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LIEF PITCHER FOR THE NY METS COINED THE PHRASE "YOU GOTTA BELIEVE", WHICH BECAME A RALLYING CRY FOR THE CLUB IN 197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685800" y="4876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TYPES  OF  BO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HOLDING CELL CALLED ON THE STARSHIP ENTERPRI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NFL, WHAT IS THE MOST COMMON PLAY CALL ON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D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EBALL, WHERE DO THE PLAYERS SIT WHEN THEY ARE NOT FIELDING OR BAT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600200" y="762120"/>
            <a:ext cx="5943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OOTH OF A GEAR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OBJEC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2189160" y="2057400"/>
            <a:ext cx="476568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CH BOYS SONG HAS THE LYRICS "DRINKING ALL NIGHT, GOT INTO A FIGHT, WELL I FEEL SO BROKE UP,      I WANT TO GO HO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TRAVEL SEARCH ENGINE, WHOSE NAME CONTAINS ONLY 5 LET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3T13:25:49Z</dcterms:created>
  <dc:creator>Jennifer Budzinski</dc:creator>
  <dc:description/>
  <dc:language>en-US</dc:language>
  <cp:lastModifiedBy>Erich Friedman</cp:lastModifiedBy>
  <dcterms:modified xsi:type="dcterms:W3CDTF">2020-08-31T09:00:02Z</dcterms:modified>
  <cp:revision>441</cp:revision>
  <dc:subject/>
  <dc:title>Slide 1</dc:title>
</cp:coreProperties>
</file>