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3F5A-E97F-4B6D-A2D6-09223B725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6A3A-0124-42AB-934D-9210AA050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9824-016E-4150-A8B6-75D1FD579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0864-67AC-48BC-93FF-4329F282E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C29D-40C3-4BE2-B6C8-F0F9AA043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59DD-3864-4C0D-AC90-64B862D82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EAC7-4DBA-4B88-94BB-B5B329F84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E8D0-6F65-4C34-B96C-FC9EE2B6F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7811-DF9E-4F4A-B48B-9FCA1BE89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3C7B-5E3B-4C06-B8EF-179ADBBFC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4BF1-9153-496A-92D9-E110442E7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9A79-5A51-48F7-9CD5-B67E5FDA2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AD69-690A-41EE-BF8F-4D5598D52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C4F6-18C7-4269-947B-E709BB370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998C-5EF0-4F74-BEC1-BDBBC2CE5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EA05-A618-49F5-9A54-C20A8DA61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66AB-36F5-4BE9-B538-B5CA32944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214C-4ABB-4E89-9D53-066C4A6CA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9A32-0850-4970-A421-6C7967026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C202-7161-4DA8-B18F-A2CE80ECC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3C81-D532-450C-ADA5-B0BC68DB8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A81F-DD1F-4665-A34F-A9248207A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7C28-ACB5-4E28-BC99-1C46C9A35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LIEF PITCHER FOR THE NY METS COINED THE PHRASE "YOU GOTTA BELIEVE", WHICH BECAME A RALLYING CRY FOR THE CLUB IN 197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BONDS ARE HIGH-YIELD BUT NOT RATED FOR INVEST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HOLDING CELL CALLED ON THE STARSHIP ENTERPR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1066680" y="762120"/>
            <a:ext cx="70106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NFL, WHAT IS THE MOST COMMON PLAY CALL ON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G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SEBALL, WHERE DO THE PLAYERS SIT WHEN THEY ARE NOT FIELDING OR BAT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1600200" y="762120"/>
            <a:ext cx="5943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OOTH OF A GEAR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295280" y="4952880"/>
            <a:ext cx="6629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GAR  CU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457200" y="7621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OBJEC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2" descr=""/>
          <p:cNvPicPr/>
          <p:nvPr/>
        </p:nvPicPr>
        <p:blipFill>
          <a:blip r:embed="rId1"/>
          <a:stretch/>
        </p:blipFill>
        <p:spPr>
          <a:xfrm>
            <a:off x="2189160" y="2057400"/>
            <a:ext cx="476568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OOP  JOHN 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CH BOYS SONG HAS THE LYRICS "DRINKING ALL NIGHT, GOT INTO A FIGHT, WELL I FEEL SO BROKE UP,       I WANT TO GO HO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BONDS  ARE HIGH-YIELD BUT NOT RATED FOR INVEST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752480" y="4876920"/>
            <a:ext cx="5639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Y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TRAVEL SEARCH ENGINE, WHOSE NAME CONTAINS ONLY 5 LET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G  MCGR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LIEF PITCHER FOR THE NY METS COINED THE PHRASE "YOU GOTTA BELIEVE", WHICH BECAME A RALLYING CRY FOR THE CLUB IN 197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685800" y="4876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TYPES  OF  BO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HOLDING CELL CALLED ON THE STARSHIP ENTERPRI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NFL, WHAT IS THE MOST COMMON PLAY CALL ON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SEBALL, WHERE DO THE PLAYERS SIT WHEN THEY ARE NOT FIELDING OR BATT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600200" y="762120"/>
            <a:ext cx="5943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OOTH OF A GEAR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OBJECT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2189160" y="2057400"/>
            <a:ext cx="476568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CH BOYS SONG HAS THE LYRICS "DRINKING ALL NIGHT, GOT INTO A FIGHT, WELL I FEEL SO BROKE UP,      I WANT TO GO HO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TRAVEL SEARCH ENGINE, WHOSE NAME CONTAINS ONLY 5 LET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3T13:25:49Z</dcterms:created>
  <dc:creator>Jennifer Budzinski</dc:creator>
  <dc:description/>
  <dc:language>en-US</dc:language>
  <cp:lastModifiedBy>Erich Friedman</cp:lastModifiedBy>
  <dcterms:modified xsi:type="dcterms:W3CDTF">2020-08-31T09:00:02Z</dcterms:modified>
  <cp:revision>441</cp:revision>
  <dc:subject/>
  <dc:title>Slide 1</dc:title>
</cp:coreProperties>
</file>