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4F1B-005A-4656-804F-E4AE61CA7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EE64-A99A-4E17-BB49-D6A701EAE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95B8-5385-4115-BF40-88514F329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41CC-7635-4703-BFFB-CCE00353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97F8-A3AF-4CBD-91D5-A33C95873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A963-CF3E-4ED8-A658-777E7F8BC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23AC-DE13-4880-8EC7-E529565E2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A09C-FCCF-496A-95EA-A58CA5F5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88D2-806A-4F6E-A582-D36DD5220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E27D-6DF1-4A1B-8919-A61FC855B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12855-7BBD-4049-B863-A4AC5AEFE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15DB-C7ED-43EF-8B09-184C6E7CC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309C-0C2E-4906-B3B1-8905C97A6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5BEC-AF41-46C5-A83A-9087E3DDF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9993-06E1-4C8A-B805-7199D1643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75E1-D660-4652-872D-5D76FB424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6FAC-79A0-40DF-AA16-29945F8A6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111A-E777-4B95-88C0-B0FB1FAB7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8686-9848-48B0-A956-793B9926C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4E6D-4E89-425E-9346-88AD2DFCA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2A3F-D622-4A7D-9E3C-C1B090938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FB30-697B-4000-BED0-6B3942F2C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37E5-C589-4E01-A6D9-51D1E710A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PRODUCER SIGNED "THE TELETUBBIES", "ONE DIRECTION", LEONA LEWIS, AND MANY OTHER COMPETITION PARTICIPA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S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A TALK SHOW ON CNN 2011-2014 THAT REPLACED LARRY KING'S TIME SL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HASSELH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HE TV SHOW "KNIGHT 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RED WITH FELLOW R&amp;B SINGER MONICA TO SING "THE BOY IS MINE", THE BEST-SELLING FEMALE DUET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ON  OSBO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MARRIED TO THE SINGER KNOWN AS "THE PRINCE OF DARKNESS" AND "THE GODFATHER OF HEAVY ME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IE  MA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HOSTED "DEAL OR NO DE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S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DIO HOST HAS BEEN FINED OVER $2.5 MILLION FOR INDECENCY, BUT NOW IS WORTH OVER $50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IDI  K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MODEL HAS HOSTED ALL 16 SEASONS OF "PROJECT RUN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A TALK SHOW ON CNN 2011-2014 THAT REPLACED LARRY KING'S TIME SL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752480" y="4876920"/>
            <a:ext cx="563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(ANIE)  B(ROW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ICE GIRL WHOSE NICKNAME WAS "SCARY SP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C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PRODUCER SIGNED "THE TELETUBBIES", "ONE DIRECTION", LEONA LEWIS, AND MANY OTHER COMPETITION PARTICIPA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3434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JUDGES  ON  "AMERICA'S  GOT  TALEN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HE TV SHOW "KNIGHT RI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RED WITH FELLOW R&amp;B SINGER MONICA TO SING "THE BOY IS MINE", THE BEST-SELLING FEMALE DUET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MARRIED TO THE SINGER KNOWN AS "THE PRINCE OF DARKNESS" AND "THE GODFATHER OF HEAVY MET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00200" y="76212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HOSTED "DEAL OR NO DE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DIO HOST HAS BEEN FINED OVER $2.5 MILLION FOR INDECENCY, BUT NOW IS WORTH OVER $500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MODEL HAS HOSTED ALL 16 SEASONS OF "PROJECT RUN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ICE GIRL WHOSE NICKNAME WAS "SCARY SP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12:56:28Z</dcterms:created>
  <dc:creator>Jennifer Budzinski</dc:creator>
  <dc:description/>
  <dc:language>en-US</dc:language>
  <cp:lastModifiedBy>Erich Friedman</cp:lastModifiedBy>
  <dcterms:modified xsi:type="dcterms:W3CDTF">2020-08-31T09:00:41Z</dcterms:modified>
  <cp:revision>442</cp:revision>
  <dc:subject/>
  <dc:title>Slide 1</dc:title>
</cp:coreProperties>
</file>