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0215-2119-45C8-BBB6-D95BE9BB3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2E73-EEA7-4D92-84A8-31F6E63B3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26C0-A779-46B4-8929-95DB3BADF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AB7F-7F6C-4FAB-9216-1ED048E8B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025B-8DE0-4CEE-9767-F60B8B768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5782-522D-4038-9994-9B82504E5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66B7-9234-4839-898D-E194110D7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02D5-547B-436F-9100-20C5001D2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5840-8196-4BBE-87C6-94A9F2447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5AFA-3CD1-4A85-9412-451179C8F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3BD5-9B7D-4675-A7C9-CA75B0F29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2BA5-6BC7-4A6E-A086-5A5D6AF61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60E7-AA9A-4EA9-B10B-69085404B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E295-7536-4F47-BD17-DD70B7F30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F963-EF27-4A3D-A8EC-4C6D11C47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9A40-DA75-4509-A8A0-4A0C9981C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829E-4C1D-47BF-A9E5-F8A1312F0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38E3-3045-40FB-80EF-7D892FFDF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C097-A310-4576-9392-898D9CA13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6A9E-2320-4043-9327-687C94669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9187-550F-4317-8812-E0684DEED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805A-63D0-44A7-A000-7F2BC4032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AF22-6DC5-4883-A574-6F4DB1137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 PRODUCER SIGNED "THE TELETUBBIES", "ONE DIRECTION", LEONA LEWIS, AND MANY OTHER COMPETITION PARTICIPA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RS  MOR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A TALK SHOW ON CNN 2011-2014 THAT REPLACED LARRY KING'S TIME SL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HASSELH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THE TV SHOW "KNIGHT RI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AIRED WITH FELLOW R&amp;B SINGER MONICA TO SING "THE BOY IS MINE", THE BEST-SELLING FEMALE DUET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RON  OSBO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MARRIED TO THE SINGER KNOWN AS "THE PRINCE OF DARKNESS" AND "THE GODFATHER OF HEAVY MET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IE  MAN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371600" y="762120"/>
            <a:ext cx="6400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HOSTED "DEAL OR NO DE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ARD  ST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DIO HOST HAS BEEN FINED OVER $2.5 MILLION FOR INDECENCY, BUT NOW IS WORTH OVER $500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IDI  K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MODEL HAS HOSTED ALL 16 SEASONS OF "PROJECT RUN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A TALK SHOW ON CNN 2011-2014 THAT REPLACED LARRY KING'S TIME SL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752480" y="4876920"/>
            <a:ext cx="5639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(ANIE)  B(ROW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PICE GIRL WHOSE NICKNAME WAS "SCARY SP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  CO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 PRODUCER SIGNED "THE TELETUBBIES", "ONE DIRECTION", LEONA LEWIS, AND MANY OTHER COMPETITION PARTICIPA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34340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WERE  JUDGES  ON  "AMERICA'S  GOT  TALEN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THE TV SHOW "KNIGHT RID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AIRED WITH FELLOW R&amp;B SINGER MONICA TO SING "THE BOY IS MINE", THE BEST-SELLING FEMALE DUET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MARRIED TO THE SINGER KNOWN AS "THE PRINCE OF DARKNESS" AND "THE GODFATHER OF HEAVY MET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600200" y="762120"/>
            <a:ext cx="5943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HOSTED "DEAL OR NO DE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DIO HOST HAS BEEN FINED OVER $2.5 MILLION FOR INDECENCY, BUT NOW IS WORTH OVER $500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MODEL HAS HOSTED ALL 16 SEASONS OF "PROJECT RUN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PICE GIRL WHOSE NICKNAME WAS "SCARY SP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4T12:56:28Z</dcterms:created>
  <dc:creator>Jennifer Budzinski</dc:creator>
  <dc:description/>
  <dc:language>en-US</dc:language>
  <cp:lastModifiedBy>Erich Friedman</cp:lastModifiedBy>
  <dcterms:modified xsi:type="dcterms:W3CDTF">2020-08-31T09:00:41Z</dcterms:modified>
  <cp:revision>442</cp:revision>
  <dc:subject/>
  <dc:title>Slide 1</dc:title>
</cp:coreProperties>
</file>