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8C6-0EAC-4948-B6A0-517C5C33F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BA7-BBAA-45B5-A66B-19A9EFA8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C5C-0710-4D00-86D2-A177DA83D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8055-403D-46DC-ABF1-7A52AA8C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BC31-2B72-48D7-8E58-76B06796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BDA6-0609-4DEC-BC69-DBBF5FE5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9FF-9595-4861-AA49-91B7B7AF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E1BB-AD4E-4093-856B-648D62D4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108-B7E2-4296-96CE-D72E00F8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D362-C4ED-4B4A-882C-00C38777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81E-35FB-4DFB-900D-1F405A3F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8F8-AC09-4630-91A4-FA58D62C8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1088-EDCC-4EB6-AB0C-0F5D7058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A579-3E73-4AE5-BBCC-1F2E44BB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1A2D-D510-4D3A-9CE6-A07A9EE5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11FB-4745-4040-B637-483166A77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FA2-DCD5-4B1C-A528-5758A680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193A-F86F-46E8-B5E4-0B034455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C41-FDED-4D37-AB6C-3D979F6D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9EC-1E2F-42B7-BC6C-2434E4BC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44FC-416C-45FC-8631-4C16B2D7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DC90-684B-4980-9D5E-236AB5C7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43A0-2737-482F-9A59-06492FEE5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SIGNED "THE TELETUBBIES", "ONE DIRECTION", LEONA LEWIS, AND MANY OTHER COMPETITION PARTICIP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 TALK SHOW ON CNN 2011-2014 THAT REPLACED LARRY KING'S TIME S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ASSEL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TV SHOW "KNIGHT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RED WITH FELLOW R&amp;B SINGER MONICA TO SING "THE BOY IS MINE", THE BEST-SELLING FEMALE DUE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ON  OS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MARRIED TO THE SINGER KNOWN AS "THE PRINCE OF DARKNESS" AND "THE GODFATHER OF HEAVY ME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IE  M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DEAL OR NO D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DIO HOST HAS BEEN FINED OVER $2.5 MILLION FOR INDECENCY, BUT NOW IS WORTH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DI  K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HAS HOSTED ALL 16 SEASONS OF "PROJECT RUN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 TALK SHOW ON CNN 2011-2014 THAT REPLACED LARRY KING'S TIME SL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(ANIE)  B(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CE GIRL WHOSE NICKNAME WAS "SCARY SP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SIGNED "THE TELETUBBIES", "ONE DIRECTION", LEONA LEWIS, AND MANY OTHER COMPETITION PARTICIP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343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JUDGES  ON  "AMERICA'S  GOT  TALEN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TV SHOW "KNIGHT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RED WITH FELLOW R&amp;B SINGER MONICA TO SING "THE BOY IS MINE", THE BEST-SELLING FEMALE DUE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MARRIED TO THE SINGER KNOWN AS "THE PRINCE OF DARKNESS" AND "THE GODFATHER OF HEAVY ME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DEAL OR NO D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DIO HOST HAS BEEN FINED OVER $2.5 MILLION FOR INDECENCY, BUT NOW IS WORTH OVER $5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HAS HOSTED ALL 16 SEASONS OF "PROJECT RUN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CE GIRL WHOSE NICKNAME WAS "SCARY SP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2:56:28Z</dcterms:created>
  <dc:creator>Jennifer Budzinski</dc:creator>
  <dc:description/>
  <dc:language>en-US</dc:language>
  <cp:lastModifiedBy>Erich Friedman</cp:lastModifiedBy>
  <dcterms:modified xsi:type="dcterms:W3CDTF">2020-08-31T09:00:41Z</dcterms:modified>
  <cp:revision>442</cp:revision>
  <dc:subject/>
  <dc:title>Slide 1</dc:title>
</cp:coreProperties>
</file>