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8A61-5B3B-4453-B30B-7E9661B75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ACE1-3C5B-4FF8-8CCF-7F1C46C87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C1F6-558A-464A-AB7F-71CB6C1F8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3EFA-F719-418C-9DA2-015FC365A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8AB5-7011-4D57-9BB1-455E68DBC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A4FE-EB52-4623-81CA-7E250F9A2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5851-440D-4D70-A436-71AD3454C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5241-EB62-4DC5-B279-373204AC1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11C7-A389-427F-B0C1-94D35C957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E70F-D72F-4981-8CFC-785CD22C9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BA3F-A10C-40C2-B737-FC253A73D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21C6-251C-4BBB-8F11-FAE6AD508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1989-8EED-4A17-AFB1-C729AAB56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F9E6-D734-4CB2-82EF-012225B58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1416-3189-4856-8A5E-8D9831C96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7FD3-7B7B-4CB9-873C-3BCAAED16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8DE9-231B-4CF4-9B27-A8ED98D8A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CE43-075B-4984-8FDB-D02B1778D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B54B-B59B-4CE2-9F63-543563849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A8EB-7C3A-422D-BFB0-FE7CFDFC8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EF79-5A04-4C41-B002-779CDC461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AA81-7B34-489F-BFCD-EAABC32D2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A9F8-F48F-4193-B00C-D4E2CEFC3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VIVIEN LEIGH'S CHARACTER'S NAME IN "GONE WITH THE WI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CHCOCK FILM IS NOTABLE FOR BEING HIS FIRST IN COLOR, AND APPEARING TO BE FILMED IN A SINGLE TAK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SENIO  H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FRICAN AMERICAN COMEDIAN HOSTED HIS OWN TALK SHOW 1989-1994, AND WON SEASON 5 OF CELEBRITY APPRENT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DLESTICK  P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SAN FRANCISCO VENUE DID THE BEATLES PERFORM THEIR LAST PUBLIC CONCE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NUTTY  PROFES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DID EDDIE MURPHY PLAY 7 DIFFERENT CHARACTERS, INCLUDING BUDDY LOVE AND THE ENTIRE KLUMP FAMI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THE CROSS ON THE SWISS FL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STARD 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PERITE, FIRST USED BY THE GERMAN ARMY IN WWI, IS BETTER KNOWN AS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SERV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NOTHER NAME FOR A COLLEGE FOR THE STUDY OF CLASSICAL MUS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CHCOCK FILM IS NOTABLE FOR BEING HIS FIRST IN COLOR, AND APPEARING TO BE FILMED IN A SINGLE TAK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VOL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EATLES ALBUM CONTAINS THE SONGS "TAXMAN", "ELEANOR RIGBY", AND "YELLOW SUBMAR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ARLETT  O'H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VIVIEN LEIGH'S CHARACTER'S NAME IN "GONE WITH THE WI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3809880"/>
            <a:ext cx="85341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CONTAIN  ELEMENTS  (SUSPECTS,  WEAPONS,  ROOMS)  IN  THE  GAME  OF  C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FRICAN AMERICAN COMEDIAN HOSTED HIS OWN TALK SHOW 1989-1994, AND WON SEASON 5 OF CELEBRITY APPRENT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SAN FRANCISCO VENUE DID THE BEATLES PERFORM THEIR LAST PUBLIC CONCE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DID EDDIE MURPHY PLAY 7 DIFFERENT CHARACTERS, INCLUDING BUDDY LOVE AND THE ENTIRE KLUMP FAMI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2396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THE CROSS ON THE SWISS FLA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PERITE, FIRST USED BY THE GERMAN ARMY IN WWI, IS BETTER KNOWN AS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NOTHER NAME FOR A COLLEGE FOR THE STUDY OF CLASSICAL MUSI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EATLES ALBUM CONTAINS THE SONGS "TAXMAN", "ELEANOR RIGBY", AND "YELLOW SUBMAR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4T16:42:18Z</dcterms:created>
  <dc:creator>Jennifer Budzinski</dc:creator>
  <dc:description/>
  <dc:language>en-US</dc:language>
  <cp:lastModifiedBy>Erich Friedman</cp:lastModifiedBy>
  <dcterms:modified xsi:type="dcterms:W3CDTF">2020-08-24T13:41:31Z</dcterms:modified>
  <cp:revision>364</cp:revision>
  <dc:subject/>
  <dc:title>Slide 1</dc:title>
</cp:coreProperties>
</file>