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5CBE-CD78-436E-8192-24FE5CAFB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378A-3D2D-4E90-9582-F3EE81832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B3CB-C203-44D9-9C0B-1DF282A3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B5D3-DE53-4BFB-A8F4-E76E3F47B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7C73-ABEC-45CA-B4DE-9992176F8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6CF-2FF3-4BAC-9DA0-FE0D61DC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A048-2F13-4E66-BC65-F77EE4EC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5236-0B38-4716-B40C-0FC38D534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95FC-1E97-4E23-B114-091EAA548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7CAE-194D-4551-BC18-38A0E27C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800E-B5C7-4A31-89BE-A8429E9B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22E8-25C3-48A5-9604-FDAB623A7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5EFC-5B78-4607-866F-F004F385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E9F6-575D-46BB-AB19-7D9C076B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3473-AB0C-45F4-9554-8CA6390A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252B-679B-4360-BC31-8D67CF4D0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B789-863B-46A3-9656-E526CC1C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97A2-4D44-4228-88C6-72CC5AFDC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8A2E-C33D-43F8-B25A-58D06D43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C3F1-33FD-4D37-A279-C9780DF6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8F86-E77F-4E0A-9149-2B336A20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61CE-5F94-4596-A159-ECFFDF2C3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146-BCB3-4748-8D84-1C534411A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VIVIEN LEIGH'S CHARACTER'S NAME IN "GONE WITH THE W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IS NOTABLE FOR BEING HIS FIRST IN COLOR, AND APPEARING TO BE FILMED IN A SINGLE TAK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O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AMERICAN COMEDIAN HOSTED HIS OWN TALK SHOW 1989-1994, AND WON SEASON 5 OF CELEBRITY APPRENT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STICK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AN FRANCISCO VENUE DID THE BEATLES PERFORM THEIR LAST PUBLIC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UTTY  PROF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EDDIE MURPHY PLAY 7 DIFFERENT CHARACTERS, INCLUDING BUDDY LOVE AND THE ENTIRE KLUMP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CROSS ON THE SWIS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RD 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PERITE, FIRST USED BY THE GERMAN ARMY IN WWI, IS BETTER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SERV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 COLLEGE FOR THE STUDY OF CLASSICAL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IS NOTABLE FOR BEING HIS FIRST IN COLOR, AND APPEARING TO BE FILMED IN A SINGLE TAK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S ALBUM CONTAINS THE SONGS "TAXMAN", "ELEANOR RIGBY", AND "YELLOW SUBMAR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T  O'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VIVIEN LEIGH'S CHARACTER'S NAME IN "GONE WITH THE W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3809880"/>
            <a:ext cx="85341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ELEMENTS  (SUSPECTS,  WEAPONS,  ROOMS)  IN  THE  GAME  OF  C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AMERICAN COMEDIAN HOSTED HIS OWN TALK SHOW 1989-1994, AND WON SEASON 5 OF CELEBRITY APPRENT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AN FRANCISCO VENUE DID THE BEATLES PERFORM THEIR LAST PUBLIC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EDDIE MURPHY PLAY 7 DIFFERENT CHARACTERS, INCLUDING BUDDY LOVE AND THE ENTIRE KLUMP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CROSS ON THE SWIS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PERITE, FIRST USED BY THE GERMAN ARMY IN WWI, IS BETTER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 COLLEGE FOR THE STUDY OF CLASSICAL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S ALBUM CONTAINS THE SONGS "TAXMAN", "ELEANOR RIGBY", AND "YELLOW SUBMAR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6:42:18Z</dcterms:created>
  <dc:creator>Jennifer Budzinski</dc:creator>
  <dc:description/>
  <dc:language>en-US</dc:language>
  <cp:lastModifiedBy>Erich Friedman</cp:lastModifiedBy>
  <dcterms:modified xsi:type="dcterms:W3CDTF">2020-08-24T13:41:31Z</dcterms:modified>
  <cp:revision>364</cp:revision>
  <dc:subject/>
  <dc:title>Slide 1</dc:title>
</cp:coreProperties>
</file>