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FA9-3D8D-4E4E-979C-4BDA24D19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D111-394B-4C2E-8CFE-C7B2E15E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895C-B5E1-4939-9BF2-4DBCD4377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5B4-2CE0-4207-A308-BE484F8F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6FD-08D6-4128-AFFB-34A1ADAA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C6B-30E4-48F2-8CE6-31CA1898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93A-D912-48A3-B5A9-9F8C3EA9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DF4F-764F-4B62-B34E-F4CD9E9D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0FC-7981-4A1A-A412-2E28561C2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617-088C-424B-85BA-8F5B51AF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FA1D-4BD5-48CD-8129-9E6E8D5D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51C-FA5A-4558-8CB9-55A96D47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650-42D1-4F35-B94A-ABB999F7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2D0C-4D52-4B1D-A038-3FBF912C6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FAA-3CBD-4E34-8844-99E5BD0B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E5C4-452C-42E8-A2F1-15F2FCA4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FE7E-8994-4A05-9A16-1228F6BD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E53-20A4-4ECE-AEC8-10FA4E38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772-69BF-4849-8909-20734678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2DAB-ACE8-443D-A07D-613481AD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D517-877D-4C6E-87C8-E58DDA2F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3960-9915-41A6-9135-43BE734F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B1B-5EAC-4C7E-9794-37E2AD81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O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UTTY  PROF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ERV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O'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38098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LEMENTS  (SUSPECTS,  WEAPONS,  ROOMS)  IN  THE  GAME  OF  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6:42:18Z</dcterms:created>
  <dc:creator>Jennifer Budzinski</dc:creator>
  <dc:description/>
  <dc:language>en-US</dc:language>
  <cp:lastModifiedBy>Erich Friedman</cp:lastModifiedBy>
  <dcterms:modified xsi:type="dcterms:W3CDTF">2020-08-24T13:41:31Z</dcterms:modified>
  <cp:revision>364</cp:revision>
  <dc:subject/>
  <dc:title>Slide 1</dc:title>
</cp:coreProperties>
</file>