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8B91-F36F-42D4-A129-4E09204EC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FDBB-1336-4D73-9027-2454DEEE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075B-DCD6-473C-BB3A-39AC0188F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F78C-2C31-4F4C-9F14-26A26ACF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C21D-C62F-4A4D-9A7C-17941A221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231-BA44-4756-8DF9-616E723BC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4ED-5A87-4AFE-8D20-CE5770FEF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62BD-3644-46A0-A783-DC6FEDDE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468A-8C38-4B8F-9677-AB8A63F1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817-0D11-4629-B0A4-4CDE9B8A4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705-42D6-4FCC-A068-3D06811C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D458-2B6E-4F1B-96E0-CFC3FA0E3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D366-28BB-424C-A67C-BEB38B1DC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0DB7-852F-425D-B669-3682CEF5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4B9F-80E0-44A4-9795-7AB08E81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5AEC-9C33-4F94-B081-A6300A22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FB71-0545-4FA2-AEA5-A5FA70AE5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4B49-35B9-4039-93D2-530596B62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64D9-D4C2-4C3F-984F-EA0C3DE19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E57B-AB6C-4F13-AC35-4CF2C181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FED4-003A-4086-858E-6D43EA46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C07-5C79-4D80-8F4F-F2CBE20A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70EE-4FA5-4886-9B9D-9849B399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LY  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PAVL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7616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KE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Y  KOUF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NTRODUCED THE U.K. TO THE U.S. SLANG TERM "METER 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ESTRUCTIVE  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SYCHOLOGIST WON A NOBEL PRIZE FOR HIS WORK ON CLASSICAL CONDITI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INDIANAPOLIS COLTS RETIRED IN AUGUST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RED FLINTSTONE'S WIFE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ID LAURENCE FISHBURNE PLAY IN  THE FILM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RS PITCHER WAS THE YOUNGEST PLAYER EVER ELECTED TO THE BASEBA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LADY OF CALIFORNIA WHEN SHE WAS MARRIED TO ARNOLD SCHWARZENEG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GAY ELECTED OFFICIAL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23:22:29Z</dcterms:created>
  <dc:creator>Jennifer Budzinski</dc:creator>
  <dc:description/>
  <dc:language>en-US</dc:language>
  <cp:lastModifiedBy>Erich Friedman</cp:lastModifiedBy>
  <dcterms:modified xsi:type="dcterms:W3CDTF">2020-08-31T09:01:04Z</dcterms:modified>
  <cp:revision>444</cp:revision>
  <dc:subject/>
  <dc:title>Slide 1</dc:title>
</cp:coreProperties>
</file>