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DBFB8-3A2C-40E6-91AC-F59E23DBEE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D18F1-20E9-4C3F-A0FB-AE81A6A8D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3905E-6C40-4F66-948B-E579741B3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52672-0357-4FA1-8822-BB12C89AC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2D6DB-A713-4248-9AB7-8F4851111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A9A88-BF4F-48AE-99D9-AD26BF17E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E7F65-6758-4B26-974A-3520BD5B3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62857-3287-477E-B0E1-2F6429C42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E28C6-4E77-47E7-AF63-290DCECB8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28349-62C0-447F-B1FD-E99285AEC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E6AD4-ED4E-40D9-B4EC-CC0F1A241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F0654-AA5B-4B18-816E-03745B522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52DC8-DAF8-4D8D-91A4-A67E1D853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8AD0A-0AE5-4A5C-92CB-A653EC47A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E2DFE-A579-4310-9B41-41D90B445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8A170-B4C3-4D7C-890B-7AEC6D121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DCFB9-3B9E-4CE9-BDD9-471CFB3B8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5E5C1-A501-48C9-B45C-076A19E43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F9141-7D19-49B6-84C6-396252CBA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55C0B-55D5-4001-8EFA-56D7F1355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8686C-0F9C-4E84-92F3-EC5A5FF89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62739-509A-46C0-962C-E3CA5A041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9C61E-44F8-4335-A161-93CA79550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95280" y="1371240"/>
            <a:ext cx="6553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"WALKING ON SUNSHI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VELY  RI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219320" y="762120"/>
            <a:ext cx="67053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INTRODUCED THE U.K. TO THE U.S. SLANG TERM "METER MAI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VAN  PAVL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USSIAN PSYCHOLOGIST WON A NOBEL PRIZE FOR HIS WORK ON CLASSICAL CONDITION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DREW  LU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09480" y="762120"/>
            <a:ext cx="79250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ARTERBACK FOR THE INDIANAPOLIS COLTS RETIRED IN AUGUST 201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95360" y="77616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FRED FLINTSTONE'S WIFE'S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KE  TUR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219320" y="762120"/>
            <a:ext cx="67053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M DID LAURENCE FISHBURNE PLAY IN  THE FILM "WHAT'S LOVE  GOT TO DO WITH I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NDY  KOUFA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09480" y="762120"/>
            <a:ext cx="79250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DGERS PITCHER WAS THE YOUNGEST PLAYER EVER ELECTED TO THE BASEBALL HALL OF F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IA  SHRI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23960" y="762120"/>
            <a:ext cx="7696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LADY OF CALIFORNIA WHEN SHE WAS MARRIED TO ARNOLD SCHWARZENEGG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371600" y="76212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INTRODUCED THE U.K. TO THE U.S. SLANG TERM "METER MAI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VEY  MI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OPENLY GAY ELECTED OFFICIAL IN CALIFORN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TRINA  AND  THE  WA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"WALKING ON SUNSHI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990720" y="4267080"/>
            <a:ext cx="71625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marL="202320" indent="-202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DESTRUCTIVE  HURRICA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USSIAN PSYCHOLOGIST WON A NOBEL PRIZE FOR HIS WORK ON CLASSICAL CONDITION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09480" y="762120"/>
            <a:ext cx="79250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ARTERBACK FOR THE INDIANAPOLIS COLTS RETIRED IN AUGUST 201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FRED FLINTSTONE'S WIFE'S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219320" y="762120"/>
            <a:ext cx="6705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M DID LAURENCE FISHBURNE PLAY IN  THE FILM "WHAT'S LOVE GOT TO DO WITH I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DGERS PITCHER WAS THE YOUNGEST PLAYER EVER ELECTED TO THE BASEBALL HALL OF F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LADY OF CALIFORNIA WHEN SHE WAS MARRIED TO ARNOLD SCHWARZENEGG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OPENLY GAY ELECTED OFFICIAL IN CALIFORN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14T23:22:29Z</dcterms:created>
  <dc:creator>Jennifer Budzinski</dc:creator>
  <dc:description/>
  <dc:language>en-US</dc:language>
  <cp:lastModifiedBy>Erich Friedman</cp:lastModifiedBy>
  <dcterms:modified xsi:type="dcterms:W3CDTF">2020-08-31T09:01:04Z</dcterms:modified>
  <cp:revision>444</cp:revision>
  <dc:subject/>
  <dc:title>Slide 1</dc:title>
</cp:coreProperties>
</file>