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B454-95C3-4590-A2F0-C4892B4D7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675C-AC72-436D-BA91-806CB6433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47CD-F6F6-4D01-9398-59F5D7CCA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4963-AEF6-4A14-9885-76A6F2E3D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27E5-2CDE-4792-964A-E2FA9E99B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DDB2-8208-4D18-A7C3-B54013D17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34DA-2529-4B5F-9BEF-E64C2C7FE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1A51-5CF8-45D6-AF20-508463921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E3E7-9425-482A-941D-D24DC0231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E7DE-F23E-4EA1-9B95-A00F45ADB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6BF7-DC4A-473B-A22B-4416EDD95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48AD-4E47-4D7A-B8FA-767D0E06A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054E-809E-4B94-BB6E-C617428C5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47F0-B994-45D0-8AF6-21847E2FF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B9AB-333A-452D-8274-B9B7403B0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0F58-B281-4584-8266-10C0AE30B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37EC-FC7C-48F2-89A2-98A3F83CD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A2B5-3958-44DF-8D43-A86F35D74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C0FA-054A-4930-99A9-306B33E6F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84F7-F93F-461A-9E58-6109CBBEF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402C-6684-4842-B32E-9E5513D40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EEA1-75FE-4128-B2C8-637D778B5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8A79-340D-4DC1-8657-A956396A8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WALKING ON SUNSH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LY  R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NTRODUCED THE U.K. TO THE U.S. SLANG TERM "METER M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VAN  PAVL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PSYCHOLOGIST WON A NOBEL PRIZE FOR HIS WORK ON CLASSICAL CONDITIO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L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INDIANAPOLIS COLTS RETIRED IN AUGUST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7616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FRED FLINTSTONE'S WIFE'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KE 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M DID LAURENCE FISHBURNE PLAY IN  THE FILM "WHAT'S LOVE  GOT TO DO WITH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Y  KOUF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DGERS PITCHER WAS THE YOUNGEST PLAYER EVER ELECTED TO THE BASEBALL HALL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A  SH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LADY OF CALIFORNIA WHEN SHE WAS MARRIED TO ARNOLD SCHWARZENEG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NTRODUCED THE U.K. TO THE U.S. SLANG TERM "METER M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Y  MI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OPENLY GAY ELECTED OFFICIAL IN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RINA  AND  THE 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WALKING ON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267080"/>
            <a:ext cx="7162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DESTRUCTIVE  HURRIC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PSYCHOLOGIST WON A NOBEL PRIZE FOR HIS WORK ON CLASSICAL CONDITIO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INDIANAPOLIS COLTS RETIRED IN AUGUST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FRED FLINTSTONE'S WIFE'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M DID LAURENCE FISHBURNE PLAY IN  THE FILM "WHAT'S LOVE GOT TO DO WITH 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DGERS PITCHER WAS THE YOUNGEST PLAYER EVER ELECTED TO THE BASEBALL HALL OF F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LADY OF CALIFORNIA WHEN SHE WAS MARRIED TO ARNOLD SCHWARZENEG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OPENLY GAY ELECTED OFFICIAL IN CALIFOR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4T23:22:29Z</dcterms:created>
  <dc:creator>Jennifer Budzinski</dc:creator>
  <dc:description/>
  <dc:language>en-US</dc:language>
  <cp:lastModifiedBy>Erich Friedman</cp:lastModifiedBy>
  <dcterms:modified xsi:type="dcterms:W3CDTF">2020-08-31T09:01:04Z</dcterms:modified>
  <cp:revision>444</cp:revision>
  <dc:subject/>
  <dc:title>Slide 1</dc:title>
</cp:coreProperties>
</file>