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4D70-CE3A-4D26-A394-DFE12E1F8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DCE6-988A-452E-8C82-11BC3210A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2674-F5BE-49A6-9AC6-FA8556BDA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3A89-1A2D-43BC-9DE3-23654F715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662D-34C4-4B0E-A76B-2BB71E79B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9B28-E816-4DE6-8F35-5EF3544E6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7060-887D-4842-A79F-87B0F1AEC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FBB7-673A-4EE9-83BC-90502057B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A524-5D7B-49B5-A232-52228DB2A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127F-4B1E-4507-8E81-C9099034A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B2EC-F614-417C-8D4D-A36181A12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1BA1-437F-4B0E-B20C-A8FC451DD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5431-D33A-4900-8839-B7E310183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A892-14EF-4957-AF61-52B1DCF33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7C80-1162-4B96-B158-DF533D728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7322-9665-4891-9E1F-F718E4D4B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280D-796C-407A-97B2-D6D46F81F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6D38-237A-4F8A-AECC-BFA61E64C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8B4D-12E8-40C4-BE69-D7F6C7BDE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4CFA-A880-4AA4-A398-22D4C007C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37C8-9D5A-4A9B-B537-D169AB042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FD3C-64F8-4110-B294-98EA8B9B9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B8CF-7083-4B95-9F32-61E5233A4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CITY IN SOUTHWEST ENGLAND, AFTER BRIST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NY GOVERNOR ANDREW CUOMO'S BROTHER, WHO IS AN ANCHOR AT C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COD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AN ALLIGATOR OR CROCODILE MORE SENSITIVE TO C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MOST COMMON TESTS IN NUCLEAR MEDICINE ARE SPECT (SINGLE-PROTON EMISSION-COMPUTED TOMOGRAPHY)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GE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7940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MY RANK JUST ABOVE CORPO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43040" y="774720"/>
            <a:ext cx="7657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IN BOTH WRITTEN AND SPOKE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ILL)  A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ERSON WHO, WITH HIS WIFE, CO-FOUNDED THE RADICAL LEFT-WING "WEATHER UNDERGROU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N THE FLAGS OF TONGA, TUNISIA, TURKEY, AND TRINIDAD AND TOB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NY GOVERNOR ANDREW CUOMO'S BROTHER, WHO IS AN ANCHOR AT C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MALCOLM X'S LAST NAME BEFORE HE LEGALLY CHANGED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Y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CITY IN SOUTHWEST ENGLAND, AFTER BRIST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00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RO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AN ALLIGATOR OR CROCODILE MORE SENSITIVE TO C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MOST COMMON TESTS IN NUCLEAR MEDICINE ARE SPECT (SINGLE-PROTON EMISSION-COMPUTED TOMOGRAPHY)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MY RANK JUST ABOVE CORPO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IN BOTH WRITTEN AND SPOKEN ENG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ERSON WHO, WITH HIS WIFE, CO-FOUNDED THE RADICAL LEFT-WING "WEATHER UNDERGROU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N THE FLAGS OF TONGA, TUNISIA, TURKEY, AND TRINIDAD AND TOB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MALCOLM X'S LAST NAME BEFORE HE LEGALLY CHANGED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17:26:37Z</dcterms:created>
  <dc:creator>Jennifer Budzinski</dc:creator>
  <dc:description/>
  <dc:language>en-US</dc:language>
  <cp:lastModifiedBy>Erich Friedman</cp:lastModifiedBy>
  <dcterms:modified xsi:type="dcterms:W3CDTF">2020-08-31T09:01:28Z</dcterms:modified>
  <cp:revision>438</cp:revision>
  <dc:subject/>
  <dc:title>Slide 1</dc:title>
</cp:coreProperties>
</file>