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3C33-A7AC-45D7-B535-DA1749E1B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5705-2349-4757-8DE0-0B5BC5BA9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D7B0-C082-4F8E-B2DE-CC94475C4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52FB-2015-46FB-9B17-9826ECAFC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A988-64D8-401B-92E8-01D37544F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04EC-012A-4B3E-AF4B-D51BB06DB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268B-5721-481A-AA07-805724664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655D-5A15-48E8-B111-1E0372F8D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5EEA-0762-47F1-A3A0-FF5208B8F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0EF5-80F3-449A-94B6-47786CC69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13B4-2D32-44DD-B205-536527835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0E10-E187-490A-872D-9AAA919A3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C667-FFDC-4A0C-BCE3-0E854F1D4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9E52-4172-4FE0-B07D-E7F60BCAB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3726-11C5-4DF2-8A31-69A5C9020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EAF1-F2FA-4987-A42B-FB3CCDFE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C132-D2EE-4EE5-8F50-55F1E5672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3E55-36F3-4805-AC1A-C41276293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CE60-62EF-41CA-AC01-54D054510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447A-39AE-4A67-A15F-157D91837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E3B5-3695-4AB6-994C-1BC018CCB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67DB-407C-42DF-B104-05E2F8069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F2EB-1D17-42EC-B3B6-6995F2886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CITY IN SOUTHWEST ENGLAND, AFTER BRIST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Y GOVERNOR ANDREW CUOMO'S BROTHER, WHO IS AN ANCHOR AT C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OD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AN ALLIGATOR OR CROCODILE MORE SENSITIVE TO C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COMMON TESTS IN NUCLEAR MEDICINE ARE SPECT (SINGLE-PROTON EMISSION-COMPUTED TOMOGRAPHY)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GE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7940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MY RANK JUST ABOVE CORPO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43040" y="774720"/>
            <a:ext cx="7657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BOTH WRITTEN AND SPOKE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ILL)  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HO, WITH HIS WIFE, CO-FOUNDED THE RADICAL LEFT-WING "WEATHER UNDERGROU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N THE FLAGS OF TONGA, TUNISIA, TURKEY, AND TRINIDAD AND TOB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Y GOVERNOR ANDREW CUOMO'S BROTHER, WHO IS AN ANCHOR AT C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MALCOLM X'S LAST NAME BEFORE HE LEGALLY CHANGED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Y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CITY IN SOUTHWEST ENGLAND, AFTER BRIST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00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RO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AN ALLIGATOR OR CROCODILE MORE SENSITIVE TO C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COMMON TESTS IN NUCLEAR MEDICINE ARE SPECT (SINGLE-PROTON EMISSION-COMPUTED TOMOGRAPHY)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MY RANK JUST ABOVE CORPO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BOTH WRITTEN AND SPOKEN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HO, WITH HIS WIFE, CO-FOUNDED THE RADICAL LEFT-WING "WEATHER UNDERGROU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N THE FLAGS OF TONGA, TUNISIA, TURKEY, AND TRINIDAD AND TOB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MALCOLM X'S LAST NAME BEFORE HE LEGALLY CHANGED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17:26:37Z</dcterms:created>
  <dc:creator>Jennifer Budzinski</dc:creator>
  <dc:description/>
  <dc:language>en-US</dc:language>
  <cp:lastModifiedBy>Erich Friedman</cp:lastModifiedBy>
  <dcterms:modified xsi:type="dcterms:W3CDTF">2020-08-31T09:01:28Z</dcterms:modified>
  <cp:revision>438</cp:revision>
  <dc:subject/>
  <dc:title>Slide 1</dc:title>
</cp:coreProperties>
</file>