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3C5E-8B9F-4027-B5E2-B8C8D09A0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E6B0-5E33-4AB1-B48D-925323829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EA46-21A5-4149-8158-EB3B6FA88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2377-CA37-440E-8DFE-DE7E2497E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A3E2-33C4-4B01-9500-8797C38B4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06FE-C18A-4337-A2FF-9E4C2E70B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75BD-7666-435C-81CB-164126260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24D0-03AA-4E44-A60A-55DBB7B08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A44CD-949C-49FA-8465-657E06D43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E969-F62B-4F59-8507-8E5E265CF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F759-5A62-4912-ABB6-894074B94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FEDC-548F-4ED9-9813-7CF29CC5E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4C3B-2FA6-4158-AD30-A44EDDE7E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16E3-8720-48D7-B3AB-F916750DB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2A14-FF92-4BE1-B0A4-89FD04DBE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1A99-A687-4D72-8079-A26FED9FE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72CE-12BE-451A-937A-A6E2E6709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0276-DBE6-4D9D-8E4A-75E842EDC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2899-96EA-446D-8221-C240F4E58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E14E-C5C1-4833-984E-2C50E3AF7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2A28-6A69-4BE2-B3B2-8F053E0FA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4D1D-4342-4899-B6A2-BC7D6389F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4017-666B-42F3-96BF-B8BEC6A09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LARGEST CITY IN SOUTHWEST ENGLAND, AFTER BRISTO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NY GOVERNOR ANDREW CUOMO'S BROTHER, WHO IS AN ANCHOR AT CN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OCOD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AN ALLIGATOR OR CROCODILE MORE SENSITIVE TO CO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2 MOST COMMON TESTS IN NUCLEAR MEDICINE ARE SPECT (SINGLE-PROTON EMISSION-COMPUTED TOMOGRAPHY)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RGE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28880" y="77940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RMY RANK JUST ABOVE CORPOR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43040" y="774720"/>
            <a:ext cx="76579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WORD IN BOTH WRITTEN AND SPOKEN ENGL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BILL)  AY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PERSON WHO, WITH HIS WIFE, CO-FOUNDED THE RADICAL LEFT-WING "WEATHER UNDERGROU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90400" y="762120"/>
            <a:ext cx="7963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ACKGROUND COLOR ON THE FLAGS OF TONGA, TUNISIA, TURKEY, AND TRINIDAD AND TOBA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NY GOVERNOR ANDREW CUOMO'S BROTHER, WHO IS AN ANCHOR AT CN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T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MALCOLM X'S LAST NAME BEFORE HE LEGALLY CHANGED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YMO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LARGEST CITY IN SOUTHWEST ENGLAND, AFTER BRIST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80060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ROCK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AN ALLIGATOR OR CROCODILE MORE SENSITIVE TO CO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2 MOST COMMON TESTS IN NUCLEAR MEDICINE ARE SPECT (SINGLE-PROTON EMISSION-COMPUTED TOMOGRAPHY)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RMY RANK JUST ABOVE CORPOR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WORD IN BOTH WRITTEN AND SPOKEN ENGLIS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PERSON WHO, WITH HIS WIFE, CO-FOUNDED THE RADICAL LEFT-WING "WEATHER UNDERGROU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ACKGROUND COLOR ON THE FLAGS OF TONGA, TUNISIA, TURKEY, AND TRINIDAD AND TOBA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MALCOLM X'S LAST NAME BEFORE HE LEGALLY CHANGED 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14T17:26:37Z</dcterms:created>
  <dc:creator>Jennifer Budzinski</dc:creator>
  <dc:description/>
  <dc:language>en-US</dc:language>
  <cp:lastModifiedBy>Erich Friedman</cp:lastModifiedBy>
  <dcterms:modified xsi:type="dcterms:W3CDTF">2020-08-31T09:01:28Z</dcterms:modified>
  <cp:revision>438</cp:revision>
  <dc:subject/>
  <dc:title>Slide 1</dc:title>
</cp:coreProperties>
</file>