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AF45-81E1-432B-8D0D-3D7B6E86C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E359-9447-47CB-8829-A98061B95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4692-FCEA-410E-9209-B5090146E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BEB8-0DE4-4E4D-A673-056B260D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6184-4955-4551-97F0-F997FB0D1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3CCD-A5B1-4233-9723-703BCAC2F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44CD-3DD5-4542-942A-FC4D580D5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0B1B-D11A-4938-B9EF-BB4C90C8B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E28E-1C8D-461F-A398-D8363F9E3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6E51-0B17-4F37-BAFF-A20CEAC0F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EFFA-FC18-4F64-B224-390880DF0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34FE-EE03-4340-9811-76E4036C4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AB54-6685-4A22-851A-32FE956B4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870A-DCFC-43CA-93A0-0C57C7CE5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CE1E-8BFA-4113-8EFE-76B40FEF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8A79-A326-4C60-99B0-FBA7631C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806F-7A60-4175-9093-B23344AA5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FDFC-661D-4844-A76D-0DA8B5AD9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AB9B-25B0-4E70-B521-32E0DAB78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BE27-049B-4D5E-9BB3-A51E95A84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77E5-4BBE-4FBC-903B-F28A5930D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55C7-820B-4F30-A7F9-F9A8BB809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0B78-C96B-45E0-A3CC-0917EA05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HOUR AMBIENT MUSIC PROGRAM ON NPR IS HOSTED BY JOHN DILIBER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 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BY FRANZ KAFKA BEGINS WITH THE LINE "SOMEONE MUST HAVE MADE A FALSE ACCUSATION AGAINST JOSEF K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HO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K SINATRA SONG HAS THE LYRICS "JUST WHAT MAKES THAT LITTLE OLD ANT THINK HE'LL MOVE THAT RUBBER TREE PL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PSYCHOLOGICAL HORROR FILM STARRED JENNIFER LAWRENCE, JAVIER BARDEM, ED HARRIS, AND MICHELLE PFE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VESTOCK ANIMAL IS THE MOST NUMERO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14240"/>
            <a:ext cx="8076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BYRI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MUSICAL FILM STARRED A YOUNG JENNIFER CONNELLY, DAVID BOWIE, AND VARIOUS JIM HENSON PUP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EKLY MAGAZINE HAS THE LARGEST CIRCULATIO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THE BEST THINGS IN LIFE ARE FREE, BUT YOU CAN KEEP THEM FOR THE BIRDS AND BE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HOUR AMBIENT MUSIC PROGRAM ON NPR IS HOSTED BY JOHN DILIBER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0060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INK  FLOYD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OK BY FRANZ KAFKA BEGINS WITH THE LINE "SOMEONE MUST HAVE MADE A FALSE ACCUSATION AGAINST JOSEF K.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K SINATRA SONG HAS THE LYRICS "JUST WHAT MAKES THAT LITTLE OLD ANT THINK HE'LL MOVE THAT RUBBER TREE PLA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PSYCHOLOGICAL HORROR FILM STARRED JENNIFER LAWRENCE, JAVIER BARDEM, ED HARRIS, AND MICHELLE PFEI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IVESTOCK ANIMAL IS THE MOST NUMERO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7 MUSICAL FILM STARRED A YOUNG JENNIFER CONNELLY, DAVID BOWIE, AND VARIOUS JIM HENSON PUP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THE LYRICS "THE BEST THINGS IN LIFE ARE FREE, BUT YOU CAN KEEP THEM FOR THE BIRDS AND BE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4T18:58:03Z</dcterms:created>
  <dc:creator>Jennifer Budzinski</dc:creator>
  <dc:description/>
  <dc:language>en-US</dc:language>
  <cp:lastModifiedBy>Erich Friedman</cp:lastModifiedBy>
  <dcterms:modified xsi:type="dcterms:W3CDTF">2020-08-31T09:01:50Z</dcterms:modified>
  <cp:revision>442</cp:revision>
  <dc:subject/>
  <dc:title>Slide 1</dc:title>
</cp:coreProperties>
</file>