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5D23-3CF3-4A7A-AA76-1DC3526E1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1A46-B113-45FD-98FE-78FBB3A7E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0DCF-9465-421F-B616-20A440186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CC99-3F71-4392-91DE-9432E0DA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7425-B069-4A1D-9367-845B5260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46E2-B013-411E-AF3C-BBC949BB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0288-7C40-4884-A492-D567CC5DD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9F36-924A-436F-9864-F0068B5E5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6159-943C-4CCB-91D6-B2765BB9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0029-27D5-4F77-94AC-36C7A22B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E016-2177-4D6D-8224-B20D981BA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8501-D4FD-4AF9-811B-2ACAD16A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602-52A0-43D4-9ECD-0918B6E1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D1D7-222B-41D4-A71E-E8D89121E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FF03-B1E1-42B5-8C0C-24DD575EB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CA3-D61C-4175-AA33-DB2762F9B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0342-3096-4DDF-9B89-1AFB34F9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C0A6-2417-462B-BA72-88DE639E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4AAD-3EC5-42B2-81F5-06E8FACF1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C415-5534-4223-A808-F6A48D88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107-73CB-4568-AED1-B354CD7D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97A-9C64-4E7B-8A37-51382AC3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DA6F-4AAE-4F7A-BA2B-EE89D049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HOUR AMBIENT MUSIC PROGRAM ON NPR IS HOSTED BY JOHN DILIB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Y FRANZ KAFKA BEGINS WITH THE LINE "SOMEONE MUST HAVE MADE A FALSE ACCUSATION AGAINST JOSEF K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H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K SINATRA SONG HAS THE LYRICS "JUST WHAT MAKES THAT LITTLE OLD ANT THINK HE'LL MOVE THAT RUBBER TREE PL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PSYCHOLOGICAL HORROR FILM STARRED JENNIFER LAWRENCE, JAVIER BARDEM, ED HARRIS, AND MICHELLE PFE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VESTOCK ANIMAL IS THE MOST NUMERO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14240"/>
            <a:ext cx="8076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YRI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MUSICAL FILM STARRED A YOUNG JENNIFER CONNELLY, DAVID BOWIE, AND VARIOUS JIM HENSON PUP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THE BEST THINGS IN LIFE ARE FREE, BUT YOU CAN KEEP THEM FOR THE BIRDS AND BE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HOUR AMBIENT MUSIC PROGRAM ON NPR IS HOSTED BY JOHN DILIBER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INK  FLOYD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Y FRANZ KAFKA BEGINS WITH THE LINE "SOMEONE MUST HAVE MADE A FALSE ACCUSATION AGAINST JOSEF K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K SINATRA SONG HAS THE LYRICS "JUST WHAT MAKES THAT LITTLE OLD ANT THINK HE'LL MOVE THAT RUBBER TREE PL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PSYCHOLOGICAL HORROR FILM STARRED JENNIFER LAWRENCE, JAVIER BARDEM, ED HARRIS, AND MICHELLE PFEI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VESTOCK ANIMAL IS THE MOST NUMERO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MUSICAL FILM STARRED A YOUNG JENNIFER CONNELLY, DAVID BOWIE, AND VARIOUS JIM HENSON PUP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THE BEST THINGS IN LIFE ARE FREE, BUT YOU CAN KEEP THEM FOR THE BIRDS AND BE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8:58:03Z</dcterms:created>
  <dc:creator>Jennifer Budzinski</dc:creator>
  <dc:description/>
  <dc:language>en-US</dc:language>
  <cp:lastModifiedBy>Erich Friedman</cp:lastModifiedBy>
  <dcterms:modified xsi:type="dcterms:W3CDTF">2020-08-31T09:01:50Z</dcterms:modified>
  <cp:revision>442</cp:revision>
  <dc:subject/>
  <dc:title>Slide 1</dc:title>
</cp:coreProperties>
</file>