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F725-7235-4654-A5BE-CFC0792D9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B87C-49AD-4835-8704-C9D3AA3E9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447A-CBF9-41BF-98F1-B31094D95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AA42-E60D-4420-8FC1-D4173147B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BA4D-C5A3-4F2D-9181-4529608A0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DBF7-502C-4D81-B930-6B179C6DA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07F4-1DC6-4433-B227-4DE93974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E732-A073-4891-9098-95C05889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0D9B-C4D3-488E-81F2-079FC03BF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B1E7-59DE-4476-85A6-8B985736C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5D9B-D4B3-4905-99D3-44700F629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D48F-65E6-47CC-9418-C1436EF9D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FDE7-4879-4165-B321-DE48508D4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A9F5-4C03-4764-BAF0-15969F56B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0D06-F2D6-4B88-B28C-897DC2197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46CF-0F2E-43D4-B4FD-7935A30F9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4554-57E1-4804-9BB3-A46AF94D1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65A0-04BB-4EAC-9FCE-9F1640A24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AFC3-2A9A-499C-91E3-370ADE70B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06A4-B74F-443F-8118-45C00625E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3227-04F6-42C4-BBF4-ABE743EB0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0593-3BEB-4807-858A-CF66E76A2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3C4A-AF97-4A00-9D1B-32636034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HOUR AMBIENT MUSIC PROGRAM ON NPR IS HOSTED BY JOHN DILIB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 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BY FRANZ KAFKA BEGINS WITH THE LINE "SOMEONE MUST HAVE MADE A FALSE ACCUSATION AGAINST JOSEF K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H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K SINATRA SONG HAS THE LYRICS "JUST WHAT MAKES THAT LITTLE OLD ANT THINK HE'LL MOVE THAT RUBBER TREE PLA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PSYCHOLOGICAL HORROR FILM STARRED JENNIFER LAWRENCE, JAVIER BARDEM, ED HARRIS, AND MICHELLE PFE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VESTOCK ANIMAL IS THE MOST NUMERO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CARE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14240"/>
            <a:ext cx="8076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BYRI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MUSICAL FILM STARRED A YOUNG JENNIFER CONNELLY, DAVID BOWIE, AND VARIOUS JIM HENSON PUP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THE BEST THINGS IN LIFE ARE FREE, BUT YOU CAN KEEP THEM FOR THE BIRDS AND BE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HOUR AMBIENT MUSIC PROGRAM ON NPR IS HOSTED BY JOHN DILIBER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PINK  FLOYD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BY FRANZ KAFKA BEGINS WITH THE LINE "SOMEONE MUST HAVE MADE A FALSE ACCUSATION AGAINST JOSEF K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K SINATRA SONG HAS THE LYRICS "JUST WHAT MAKES THAT LITTLE OLD ANT THINK HE'LL MOVE THAT RUBBER TREE PLA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PSYCHOLOGICAL HORROR FILM STARRED JENNIFER LAWRENCE, JAVIER BARDEM, ED HARRIS, AND MICHELLE PFEI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VESTOCK ANIMAL IS THE MOST NUMERO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MUSICAL FILM STARRED A YOUNG JENNIFER CONNELLY, DAVID BOWIE, AND VARIOUS JIM HENSON PUP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THE BEST THINGS IN LIFE ARE FREE, BUT YOU CAN KEEP THEM FOR THE BIRDS AND BE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8:58:03Z</dcterms:created>
  <dc:creator>Jennifer Budzinski</dc:creator>
  <dc:description/>
  <dc:language>en-US</dc:language>
  <cp:lastModifiedBy>Erich Friedman</cp:lastModifiedBy>
  <dcterms:modified xsi:type="dcterms:W3CDTF">2020-08-31T09:01:50Z</dcterms:modified>
  <cp:revision>442</cp:revision>
  <dc:subject/>
  <dc:title>Slide 1</dc:title>
</cp:coreProperties>
</file>