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386-1F81-4B04-94CF-032F5B3C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23C-A7A7-462C-920B-B6CA7927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ED9-07CE-466C-B640-AD290F84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9F3-4801-4AF1-B3CF-7C1486D8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D22-B118-410E-B63B-F49B1D02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DD6-D51A-41AA-802E-283BA0668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2A9-088E-403D-9A22-F366DAD8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F02-B311-4D14-A5CB-A5A105543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C8C-22D1-4719-929F-357BD72B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08A-577B-46F8-928E-C492CA4E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F9C-E52D-4892-BD95-0BEBCC36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6C8-1A33-4128-9C7D-ECA3B02E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FA6-F83F-461E-AE63-9EA13535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2D60-C888-4062-88D2-01B26E15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FB0-D80F-42E4-ABD6-63A1E134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038B-2C59-400C-9232-6FD409C3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10A-BFC4-4AFF-8DE1-3B5D490FE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4C52-9CAC-4DA3-B2EC-BB03ADFF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47C-EF44-47BC-AE20-70F196DD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0E02-F0D2-42B5-86FE-C8D048DF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2A7-C72C-441A-BFE3-ED434E66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6CC-EF99-4A85-AC2F-1B4CF6C0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084-0FEA-4F79-AB97-FBCFAFE1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7640" y="914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RI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BRUCK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OF  PEOPLE  WITH  LAST  NAM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14:01:22Z</dcterms:created>
  <dc:creator>Jennifer Budzinski</dc:creator>
  <dc:description/>
  <dc:language>en-US</dc:language>
  <cp:lastModifiedBy>Erich Friedman</cp:lastModifiedBy>
  <dcterms:modified xsi:type="dcterms:W3CDTF">2020-08-31T09:02:13Z</dcterms:modified>
  <cp:revision>450</cp:revision>
  <dc:subject/>
  <dc:title>Slide 1</dc:title>
</cp:coreProperties>
</file>