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E2A-36D3-45A4-AD12-759BA3256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1C52-0148-41C5-A1DA-71E0A166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0C89-4515-4992-829E-70892E21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EE0-A1EC-45B5-BB2E-5308B8BB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6B2-0BF3-48B1-99E8-735FD4E0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054-1217-4763-96F3-C436328C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6F1-CA98-4AAB-8E07-40FB010BC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BF1-3E68-404E-8165-B7D3A1CE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410-71DB-4E34-9A88-3C682C4B0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95ED-EE52-4289-A569-2FC1A921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B23-3BE5-4E76-AF1E-DD027966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4AF-972C-4DCA-9BAF-86963A5D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E898-4FAA-4F55-A20E-48924170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EDB-4661-46FD-ADAC-88BE89FB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A16A-643C-4412-B0FE-E2BD84EA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9AF-8C6A-463D-8305-B2E2BA126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E36A-803D-4C3F-9D3F-9105963E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2C56-8C85-4FF7-8E50-8B3109DA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BFF-1472-42FC-8DE7-C8DE6F74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D6E0-A899-49CB-BCFD-8515319E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498F-5816-4336-8CB1-4B2C3C3B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7B17-7461-4A5B-9070-814FF3E0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D73-5804-4426-9BDD-E6D382B2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7640" y="914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RI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BRUCK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OF  PEOPLE  WITH  LAST  NAM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14:01:22Z</dcterms:created>
  <dc:creator>Jennifer Budzinski</dc:creator>
  <dc:description/>
  <dc:language>en-US</dc:language>
  <cp:lastModifiedBy>Erich Friedman</cp:lastModifiedBy>
  <dcterms:modified xsi:type="dcterms:W3CDTF">2020-08-31T09:02:13Z</dcterms:modified>
  <cp:revision>450</cp:revision>
  <dc:subject/>
  <dc:title>Slide 1</dc:title>
</cp:coreProperties>
</file>