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9B38-F585-4F70-A66C-457C13541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7DC1F-6259-4264-B45C-8FD962F64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B053-62AF-4285-9A75-663508443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EC2B6-9CBD-4AF5-B58F-9EE1160D7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A65C-33F0-4FC7-BE8D-3A9C10C7D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103A-E6EB-4897-BD25-C8A13DC22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20316-A6D6-400A-B901-5F226A109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C08F-EDD0-4976-838A-544281348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12BF-C3BD-4B64-9C79-57DEED7B6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E6FE-873F-4CDB-815B-A1ED961AA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9F10-ABA5-4D42-A1C6-4EAA744F0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B68C-C262-471E-8CF6-5EEE96A44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A768-1D32-4BC0-B043-0AEEF1B82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A3B4-586F-4640-9CF7-9483CF289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B1F3-CE5E-4C00-93E7-9EAF3101A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6B35-BD74-4A12-ACED-99A3E4512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341C-B9D4-4724-B645-85651EB67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6ED9-3B68-4398-8AAE-1BD8454DC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81E1-AFA2-4AC8-B19E-333731B90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E065-9B8F-480E-ADB2-A8FB4F778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0429-10D4-47A6-B2C5-29364997F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92B8-1BAA-4AA6-A5FE-AB23E1F8C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7CFF-829F-4F09-BBA3-226B3CF79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47640" y="9140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FLORIDA 2007-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  RIG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OST TO BILLIE JEAN KING IN "THE BATTLE OF THE SEX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  MAR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AMI DOLPHINS QUARTERBACK LED THE NFL IN PASSING YARDS AND PASSING TOUCHDOWNS 1984-198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ANIE  GRIFF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66680" y="762120"/>
            <a:ext cx="7010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SOMETHING WILD" AND "WORKING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CAR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THE TRUMAN SHOW" AND "BRUCE ALMIGH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OMIC HAD HIS  OWN 2005-2009 SHOW WHOSE TITLE PARODIED THE SITCOM "EVERYONE LOVES RAYMO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LIGHT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S "IF YOU COULD READ MY MIND" AND "RAINY DAY PEO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BRUCKHEI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"WITHOUT A TRACE", "COLD CASE", "THE AMAZING RACE", AND THE "CSI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LOST TO BILLIE JEAN KING IN "THE BATTLE OF THE SEX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19320" y="762120"/>
            <a:ext cx="6705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DIRECTOR FOR "TITAN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CHR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OVERNOR OF FLORIDA 2007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38080" y="4343400"/>
            <a:ext cx="7467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ST  NAMES  OF  PEOPLE  WITH  LAST  NAME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AMI DOLPHINS QUARTERBACK LED THE NFL IN PASSING YARDS AND PASSING TOUCHDOWNS 1984-198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SOMETHING WILD" AND "WORKING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THE TRUMAN SHOW" AND "BRUCE ALMIGH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OMIC HAD HIS  OWN 2005-2009 SHOW WHOSE TITLE PARODIED THE SITCOM "EVERYONE LOVES RAYMO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S "IF YOU COULD READ MY MIND" AND "RAINY DAY PEOP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RODUCED "WITHOUT A TRACE", "COLD CASE", "THE AMAZING RACE", AND THE "CSI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DIRECTOR FOR "TITAN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01T14:01:22Z</dcterms:created>
  <dc:creator>Jennifer Budzinski</dc:creator>
  <dc:description/>
  <dc:language>en-US</dc:language>
  <cp:lastModifiedBy>Erich Friedman</cp:lastModifiedBy>
  <dcterms:modified xsi:type="dcterms:W3CDTF">2020-08-31T09:02:13Z</dcterms:modified>
  <cp:revision>450</cp:revision>
  <dc:subject/>
  <dc:title>Slide 1</dc:title>
</cp:coreProperties>
</file>