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742-680E-4F36-A8C4-1BCA5D51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0FC-0A58-4CD7-A514-93D5CF6A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BB92-3841-40C7-A155-548756B3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D2BD-AB30-4A14-9E3F-FB84F590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7145-020C-4427-B22F-F7DE805D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DD45-B670-470D-9B7D-218AB83E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9C1-0CB1-4E97-B1D0-4ABD87178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264A-2555-4F14-87CB-0A31C083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58C-750C-4518-B231-200700FF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6FA5-7348-4BD2-957E-AED05C66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D24A-8DED-4753-8EBE-93FEB40D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3291-36E6-4E36-A956-2B6799881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CCE2-D418-4B86-B3CB-98A1B423C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C991-60B2-4F25-85E5-BD9C2E05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7454-394F-4141-8DD3-F168BB58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4BC-4075-43FB-B4BA-93C1975D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624-F56C-4A1B-890D-CF2F46D0C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EC9-7CAB-43E1-9AA8-B4BCE6F9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96C0-7384-40DA-AA8F-FB7496E74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F707-F120-4095-BC96-0FC3CD09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FDE-2424-4A55-832A-799F2C4F9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631-DD6A-40C5-BE31-53F2C61D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ABC-8803-417A-8E3B-B02BCF7C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IS RONALD REAGAN BEST KNOWN FOR, BESIDES "KNUTE ROCKNE, ALL AMERICAN", THE ONE THAT GAVE HIM THE NICKNAME "THE GIPP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IZARD  OF  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IS THE MOST SEEN FILM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CONTAINED THE CHARACTERS SIMBA, MUFASA, NALA, AND 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Z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2-1948 FILM FRANCHISE STARRED JOHNNY WEISS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AT  THE  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MOVIE DOES BEN STILLER PLAY A SURPRISED NIGHT WATCH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ADVENTURE WAS 1981'S HIGHEST-GROSSING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TANLEY KUBRICK SCI-FI FILM IS WIDELY REGARDED AS ONE OF THE BEST AND INFLUENTIAL FILMS EVER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  WHICH  WAY  BUT  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HIS SUCCESS WITH SPAGHETTI WESTERNS AND "DIRTY HARRY" FILMS, WHAT FILM WAS CLINT EASTWOOD URGED NOT TO MAKE THAT BECAME ONE OF HIS MOST POPULAR FIL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IS THE MOST SEEN FILM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ANGOVER  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EQUEL HAD THE TAG LINES "THE WOLFPACK IS BACK" AND "BANGKOK HAS THEM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TIME  FOR  BON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IS RONALD REAGAN BEST KNOWN FOR, BESIDES "KNUTE ROCKNE, ALL AMERICAN", THE ONE THAT GAVE HIM THE NICKNAME "THE GIPP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MON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CONTAINED THE CHARACTERS SIMBA, MUFASA, NALA, AND 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2-1948 FILM FRANCHISE STARRED JOHNNY WEISS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MOVIE DOES BEN STILLER PLAY A SURPRISED NIGHT WATCH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ADVENTURE WAS 1981'S HIGHEST-GROSSING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TANLEY KUBRICK SCI-FI FILM IS WIDELY REGARDED AS ONE OF THE BEST AND INFLUENTIAL FILMS EVER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HIS SUCCESS WITH SPAGHETTI WESTERNS AND "DIRTY HARRY" FILMS, WHAT FILM WAS CLINT EASTWOOD URGED NOT TO MAKE THAT BECAME ONE OF HIS MOST POPULAR FILM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EQUEL HAD THE TAG LINES "THE WOLFPACK IS BACK" AND "BANGKOK HAS THEM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0:12:33Z</dcterms:created>
  <dc:creator>Jennifer Budzinski</dc:creator>
  <dc:description/>
  <dc:language>en-US</dc:language>
  <cp:lastModifiedBy>Erich Friedman</cp:lastModifiedBy>
  <dcterms:modified xsi:type="dcterms:W3CDTF">2020-08-31T09:08:21Z</dcterms:modified>
  <cp:revision>445</cp:revision>
  <dc:subject/>
  <dc:title>Slide 1</dc:title>
</cp:coreProperties>
</file>