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422B-CF2F-4182-B113-C389708D9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3800-D4AF-4921-AF85-34769A086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A0D4-EDDB-4987-996C-3DE2CBE18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C15F-9116-43EC-A2AF-862AA68A2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C92D-174A-4AB1-9EEC-C16DAF4D6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7DC0-62E7-4F83-802F-6D256FCCB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58AF-625F-4F62-82A5-462283ED1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8096-B3E4-481B-BBBC-D4ED6C77E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CED1-9D40-4DA0-B97A-99E97BC97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BFA3-EDAE-45D3-AD9B-F6A1CDD72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B160-DE70-442D-ACC5-A19AAF1EB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BAEC-5B2B-4A03-ABDA-D8A22A986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F908-A2FB-4E42-8032-B0D522294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27DB-949D-42EE-954B-03D86A3D8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9460-EFFC-4417-A7AE-9484B5095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8EDE-6EB6-4D1C-BB0D-608B565AE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A957-02ED-4C65-8F76-3CE70E2E9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3AE0-8625-420E-A43D-5624B4DE9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E64B-9BE5-47ED-84E4-EF0C10F46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9609-8DA9-4299-8239-9E271B5F1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2E8A-7E7D-48AF-B283-71C6BCF1E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F74D-9A7F-4B5E-8B23-100649767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D682-89FD-45F6-867D-326881E4F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FILM IS RONALD REAGAN BEST KNOWN FOR, BESIDES "KNUTE ROCKNE, ALL AMERICAN", THE ONE THAT GAVE HIM THE NICKNAME "THE GIPPER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IZARD  OF  O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9 FILM IS THE MOST SEEN FILM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IO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CONTAINED THE CHARACTERS SIMBA, MUFASA, NALA, AND S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Z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3000" y="762120"/>
            <a:ext cx="6858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2-1948 FILM FRANCHISE STARRED JOHNNY WEISSMUL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GHT  AT  THE  MUSE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6 MOVIE DOES BEN STILLER PLAY A SURPRISED NIGHT WATCH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DERS  OF  THE  LOST  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RISON FORD ADVENTURE WAS 1981'S HIGHEST-GROSSING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01:  A  SPACE  ODYS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STANLEY KUBRICK SCI-FI FILM IS WIDELY REGARDED AS ONE OF THE BEST AND INFLUENTIAL FILMS EVER M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RY  WHICH  WAY  BUT  L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 HIS SUCCESS WITH SPAGHETTI WESTERNS AND "DIRTY HARRY" FILMS, WHAT FILM WAS CLINT EASTWOOD URGED NOT TO MAKE THAT BECAME ONE OF HIS MOST POPULAR FIL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9 FILM IS THE MOST SEEN FILM IN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ANGOVER  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SEQUEL HAD THE TAG LINES "THE WOLFPACK IS BACK" AND "BANGKOK HAS THEM N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DTIME  FOR  BON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FILM IS RONALD REAGAN BEST KNOWN FOR, BESIDES "KNUTE ROCKNE, ALL AMERICAN", THE ONE THAT GAVE HIM THE NICKNAME "THE GIPPER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MONK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CONTAINED THE CHARACTERS SIMBA, MUFASA, NALA, AND S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2-1948 FILM FRANCHISE STARRED JOHNNY WEISSMUL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6 MOVIE DOES BEN STILLER PLAY A SURPRISED NIGHT WATCH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RISON FORD ADVENTURE WAS 1981'S HIGHEST-GROSSING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STANLEY KUBRICK SCI-FI FILM IS WIDELY REGARDED AS ONE OF THE BEST AND INFLUENTIAL FILMS EVER MA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 HIS SUCCESS WITH SPAGHETTI WESTERNS AND "DIRTY HARRY" FILMS, WHAT FILM WAS CLINT EASTWOOD URGED NOT TO MAKE THAT BECAME ONE OF HIS MOST POPULAR FILM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SEQUEL HAD THE TAG LINES "THE WOLFPACK IS BACK" AND "BANGKOK HAS THEM N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8T10:12:33Z</dcterms:created>
  <dc:creator>Jennifer Budzinski</dc:creator>
  <dc:description/>
  <dc:language>en-US</dc:language>
  <cp:lastModifiedBy>Erich Friedman</cp:lastModifiedBy>
  <dcterms:modified xsi:type="dcterms:W3CDTF">2020-08-31T09:08:21Z</dcterms:modified>
  <cp:revision>445</cp:revision>
  <dc:subject/>
  <dc:title>Slide 1</dc:title>
</cp:coreProperties>
</file>