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D3C5-736F-4F89-80B9-B63E842D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EC1C-43F5-453A-BF8B-575983B2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1CB2-0D19-4741-832C-21D5C01FA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0E1-F78C-4DE5-B239-4CF1CBB8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941E-36BC-4F88-A898-F10EACA7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E92-CDD4-4D19-B0A3-09D7E7ED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B36E-F29E-4EEA-B4D8-F2DEEFB3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1DEC-4DFE-458D-AA26-7DF39DCA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4BF8-AB17-497B-B5FB-C1142B3E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8C1B-3601-437A-813F-CE23D07F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0D5-A0D5-4B0F-8A9E-6B88ADB8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2631-FD9B-4257-92C9-1321F7BA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DEE2-9592-4C76-804F-98D2F2BF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17F-CD58-42FC-995E-8F4C26E2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B0CC-66A8-48C8-80A5-E36427529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65B-C3FD-4A9A-B35A-FD057ECD4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8CDF-9EC5-414E-9E2F-A725D920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F9E-CD24-438F-9F4A-64DD575C1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4BF-1F21-49A6-8A9D-EE6895A9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67A6-DE97-4D47-B156-8E103E930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79A-DBB4-4687-930B-2388597E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17A0-7853-425E-A134-F5F999F6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4D6-75D7-4259-9239-EDEFF6BB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IS RONALD REAGAN BEST KNOWN FOR, BESIDES "KNUTE ROCKNE, ALL AMERICAN", THE ONE THAT GAVE HIM THE NICKNAME "THE GIPP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IZARD  OF  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IS THE MOST SEEN FILM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CONTAINED THE CHARACTERS SIMBA, MUFASA, NALA, AND 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Z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2-1948 FILM FRANCHISE STARRED JOHNNY WEISS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AT  THE  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MOVIE DOES BEN STILLER PLAY A SURPRISED NIGHT WATCH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ADVENTURE WAS 1981'S HIGHEST-GROSSING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TANLEY KUBRICK SCI-FI FILM IS WIDELY REGARDED AS ONE OF THE BEST AND INFLUENTIAL FILMS EVER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  WHICH  WAY  BUT  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HIS SUCCESS WITH SPAGHETTI WESTERNS AND "DIRTY HARRY" FILMS, WHAT FILM WAS CLINT EASTWOOD URGED NOT TO MAKE THAT BECAME ONE OF HIS MOST POPULAR FIL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IS THE MOST SEEN FILM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ANGOVER  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EQUEL HAD THE TAG LINES "THE WOLFPACK IS BACK" AND "BANGKOK HAS THEM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TIME  FOR  BON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IS RONALD REAGAN BEST KNOWN FOR, BESIDES "KNUTE ROCKNE, ALL AMERICAN", THE ONE THAT GAVE HIM THE NICKNAME "THE GIPP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MON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CONTAINED THE CHARACTERS SIMBA, MUFASA, NALA, AND 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2-1948 FILM FRANCHISE STARRED JOHNNY WEISS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MOVIE DOES BEN STILLER PLAY A SURPRISED NIGHT WATCH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ADVENTURE WAS 1981'S HIGHEST-GROSSING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TANLEY KUBRICK SCI-FI FILM IS WIDELY REGARDED AS ONE OF THE BEST AND INFLUENTIAL FILMS EVER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HIS SUCCESS WITH SPAGHETTI WESTERNS AND "DIRTY HARRY" FILMS, WHAT FILM WAS CLINT EASTWOOD URGED NOT TO MAKE THAT BECAME ONE OF HIS MOST POPULAR FILM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EQUEL HAD THE TAG LINES "THE WOLFPACK IS BACK" AND "BANGKOK HAS THEM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0:12:33Z</dcterms:created>
  <dc:creator>Jennifer Budzinski</dc:creator>
  <dc:description/>
  <dc:language>en-US</dc:language>
  <cp:lastModifiedBy>Erich Friedman</cp:lastModifiedBy>
  <dcterms:modified xsi:type="dcterms:W3CDTF">2020-08-31T09:08:21Z</dcterms:modified>
  <cp:revision>445</cp:revision>
  <dc:subject/>
  <dc:title>Slide 1</dc:title>
</cp:coreProperties>
</file>