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0A3E-D211-49CD-BB3B-D51A3631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206-A8B9-4F47-8FAE-22001975C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E0B3-791E-43F5-9C17-FD6DF2ED5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265-53A6-45EB-A1A1-4E9773C9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E4EB-9EF7-4613-8320-EBFDA190D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D698-D607-4541-A44B-D080EE05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9CA3-3879-4679-B070-4A3BB712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C811-406D-4671-ACA4-293314ADE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7A99-7F8D-48DD-860B-6F7A55F4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D2E1-F486-454A-888E-9F542C611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C378-8E86-4AC0-A855-434C5238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A00D-FCA2-4B17-9FB4-63FC91116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ADE-E7B7-402E-BB5E-43822DE3D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9A8A-5562-4355-88AB-132AFC0AD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4FF7-CE64-4FF6-A4F1-F9614EB0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C580-C009-4BC9-81AD-081ED3E82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F6A0-4BC9-4AF1-82EC-0D151D7EA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3433-1AF4-4120-8834-38DD4F3A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48CA-4B9D-4FD7-8F53-04531C3B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C2C-1AE2-4418-97BE-0F740432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9709-EF4E-4730-B262-BF3C480FE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65B2-B775-4C68-9ECD-2000DAEB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DF2F-6B50-4E4E-8C84-E3E35F38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CANDY BAR IS CHOCOLATE MALT NOUGAT TOPPED WITH CARAMEL AND COVERED WITH MILK CHOCO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RON, PARTAGAS, AND PUNCH ARE ALL BRAND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EM "TWAS THE NIGHT BEFORE CHRISTMAS", WHAT REINDEER IS NAMED JUST AFTER VIX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HELIANTH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462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 OF A FROG OR TOAD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RBITAL HEMATO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BR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'S NAME IS  SPANISH FOR "SHADOW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RL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HOME APPLIANCE M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RON, PARTAGAS, AND PUNCH ARE ALL BRANDS OF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OM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-2005 SCIENCE FICTION TV SERIES WAS BASED ON THE WORK OF GENE RODDENBERRY, THE CREATOR OF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Y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CANDY BAR IS CHOCOLATE MALT NOUGAT TOPPED WITH CARAMEL AND COVERED WITH MILK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GALAX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EM "TWAS THE NIGHT BEFORE CHRISTMAS", WHAT REINDEER IS NAMED JUST AFTER VIX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HELIANTH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OF A FROG OR TOAD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RBITAL HEMATO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'S NAME IS SPANISH FOR "SHADOW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HOME APPLIANCE M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-2005 SCIENCE FICTION TV SERIES WAS BASED ON THE WORK OF GENE RODDENBERRY, THE CREATOR OF "STAR TR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8T19:08:08Z</dcterms:created>
  <dc:creator>Jennifer Budzinski</dc:creator>
  <dc:description/>
  <dc:language>en-US</dc:language>
  <cp:lastModifiedBy>Erich Friedman</cp:lastModifiedBy>
  <dcterms:modified xsi:type="dcterms:W3CDTF">2020-08-31T09:08:43Z</dcterms:modified>
  <cp:revision>450</cp:revision>
  <dc:subject/>
  <dc:title>Slide 1</dc:title>
</cp:coreProperties>
</file>