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C317-A2A7-4514-9B59-0E6568B95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EB53-388C-462E-9013-1610D4678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9AD6-97AD-4AB2-9433-E22B5AE95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CBD9-D23F-4EE3-8F43-4188EF703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3AC0-5F87-4384-81EF-B2B4630E9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9C4F-4C0E-4BB7-8000-6B93A876F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E2AF-8307-4E22-A38D-74539EFBE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3688-6D87-4A73-90EF-3D3ADB945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9BF1-1227-4C8B-9786-D09C18E8F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97E5-7769-4337-919A-CFEDF4070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9C59-E6D6-4075-A93C-191177154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21B6-B0DA-4D0E-9975-F4042622A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278B-8E7B-4692-BF43-125AE112E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65D0-7F1C-44BE-927B-FE6034264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690C-46F4-4B1C-BD02-789C6DD3C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2D45-D0E3-4D8C-8D9B-EAFAE9534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06CF-7148-45ED-ACB4-B3094C273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8E7F-31CF-4C06-BF3A-CC318616F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9B65-ACAB-4B7C-8E8C-E9097F5AB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C04A-1B9B-4371-BA84-03EFEF573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C503-C78F-4040-A8C8-FEFF5E9F7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F4BE-2C86-46E8-B313-E6BE9C97C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BA7A-646B-430B-8113-B72D61749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712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CANDY BAR IS CHOCOLATE MALT NOUGAT TOPPED WITH CARAMEL AND COVERED WITH MILK CHOCOL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95280" y="762120"/>
            <a:ext cx="6553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DRON, PARTAGAS, AND PUNCH ARE ALL BRAND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POEM "TWAS THE NIGHT BEFORE CHRISTMAS", WHAT REINDEER IS NAMED JUST AFTER VIX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NAME FOR HELIANTH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DP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95360" y="7462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VAL STAGE  OF A FROG OR TOAD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A PERIORBITAL HEMATO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MBR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T'S NAME IS  SPANISH FOR "SHADOW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RLP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LARGEST HOME APPLIANCE MA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DRON, PARTAGAS, AND PUNCH ARE ALL BRANDS OF WHA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OM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-2005 SCIENCE FICTION TV SERIES WAS BASED ON THE WORK OF GENE RODDENBERRY, THE CREATOR OF "STAR TRE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KY 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CANDY BAR IS CHOCOLATE MALT NOUGAT TOPPED WITH CARAMEL AND COVERED WITH MILK CHOCOL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GALAX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POEM "TWAS THE NIGHT BEFORE CHRISTMAS", WHAT REINDEER IS NAMED JUST AFTER VIX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NAME FOR HELIANTH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VAL STAGE OF A FROG OR TOAD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A PERIORBITAL HEMATOM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T'S NAME IS SPANISH FOR "SHADOW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LARGEST HOME APPLIANCE MA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-2005 SCIENCE FICTION TV SERIES WAS BASED ON THE WORK OF GENE RODDENBERRY, THE CREATOR OF "STAR TRE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8T19:08:08Z</dcterms:created>
  <dc:creator>Jennifer Budzinski</dc:creator>
  <dc:description/>
  <dc:language>en-US</dc:language>
  <cp:lastModifiedBy>Erich Friedman</cp:lastModifiedBy>
  <dcterms:modified xsi:type="dcterms:W3CDTF">2020-08-31T09:08:43Z</dcterms:modified>
  <cp:revision>450</cp:revision>
  <dc:subject/>
  <dc:title>Slide 1</dc:title>
</cp:coreProperties>
</file>