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AD22-73B2-402C-BD07-C7FEA51AA6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BFA2-08AB-486E-91EA-04C1594CB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17173-4BE1-4693-9742-DA160ADC1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D794-A038-4DFE-9737-9482108C0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F714-6783-4761-B00D-B28B87369B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BCC5E-12E1-4613-A9D9-6471F749C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14C9-2F7D-46A4-A825-9B18F8C1E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514D6-B5FE-4648-BBA0-BBE2D5AC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351F-8D19-4559-8B26-FEF185CC1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2AFC3-96BE-4430-B630-01865A882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7A64-2981-42B1-9060-4BE96A0F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A470-C9DB-41BA-B2CF-D9719C7B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3CD-B634-4E29-B84F-8AD550C4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B006-8283-4C38-9B55-F0C936C09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A172-30BC-4D0B-9388-63A4388C9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611B-C1A5-4976-9044-079D45014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8E33E-D6D8-4E0D-8944-88871B1AC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243-40CB-4796-8B1D-A96E0B490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B96A4-CAB6-4DC9-B6F8-6AA641D7B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2668A-4223-4635-8BD0-19C442EF6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7A60-AC5E-4AA4-BE1A-3C8D923C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BDAAF-E0DD-413F-BD7E-532CD6B1A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963BE-43F1-4716-A8D2-1F214313C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95280" y="762120"/>
            <a:ext cx="65534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M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N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90720" y="762120"/>
            <a:ext cx="71625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DP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4628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 OF A FROG OR TOAD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EY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MBR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 SPANISH FOR "SHADOW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RLP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DRON, PARTAGAS, AND PUNCH ARE ALL BRANDS OF WHAT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OME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LKY 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PULAR CANDY BAR IS CHOCOLATE MALT NOUGAT TOPPED WITH CARAMEL AND COVERED WITH MILK CHOCOL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GALAX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POEM "TWAS THE NIGHT BEFORE CHRISTMAS", WHAT REINDEER IS NAMED JUST AFTER VIX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COMMON NAME FOR HELIANTH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VAL STAGE OF A FROG OR TOAD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LANG TERM FOR A PERIORBITAL HEMATO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AT'S NAME IS SPANISH FOR "SHADOW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WORLD'S LARGEST HOME APPLIANCE MAK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0-2005 SCIENCE FICTION TV SERIES WAS BASED ON THE WORK OF GENE RODDENBERRY, THE CREATOR OF "STAR TRE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18T19:08:08Z</dcterms:created>
  <dc:creator>Jennifer Budzinski</dc:creator>
  <dc:description/>
  <dc:language>en-US</dc:language>
  <cp:lastModifiedBy>Erich Friedman</cp:lastModifiedBy>
  <dcterms:modified xsi:type="dcterms:W3CDTF">2020-08-31T09:08:43Z</dcterms:modified>
  <cp:revision>450</cp:revision>
  <dc:subject/>
  <dc:title>Slide 1</dc:title>
</cp:coreProperties>
</file>