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02BB-89F5-4D05-BABB-4935C54CB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3627-AE97-43F3-89A5-BC0CF86D9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13BB-8992-430D-8D24-9DD32024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1929-3A6A-4E84-9E90-FFF1F690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E4E4-3EB6-4A6B-B278-9E6899FAE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5DD8-6D15-43FB-96C1-327FCF6F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9878-DD35-4FD1-BA73-8936D312F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DA39-F87C-4944-A494-8DF703A3D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E314-173D-42EE-84FE-870D0F778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C0B6-4976-4413-B261-A32AE44FA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FA0E-44FB-4296-9D72-A49C1E9C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943D-CA24-4B0D-BEDF-FC743ADBA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EE4B-60A1-4D2C-9E76-6B1E3A7F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3C1-51A4-4977-9C2C-73BBA1C85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6FFE-DB62-4B30-BE8B-D26892877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1A4B-0422-48C1-9724-16CDB5151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51D8-2172-42B8-990C-D8DFB3E0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76C-28FC-485D-B5CC-8C92B076B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C5E3-9634-49A1-A9BB-69DDC88E5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C7B9-5FDB-4FCE-AE4F-02C3B482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D297-2A30-4933-B84D-56197716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93CD-2A56-4C68-A301-D0B7775AC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852A-C53D-4FF8-BCB9-80C67695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ENATOR FROM FLORIDA FROM 2001 TO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LURALITY OF THE  ELECTORAL VOTE IN THE 1824 U.S. PRESIDENTIAL ELECTION, BUT DIDN'T BECOME PRESIDENT UNTIL 182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UNDER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, WITH CUFFLINKS "F.U.", DID KEVIN SPACEY PLAY ON THE NETFLIX SERIES 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14480" y="762120"/>
            <a:ext cx="711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LAYER LOST IN THE FINALS OF 3 OF THE 4 MAJOR TENNIS TOURNAMENTS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85920" y="762120"/>
            <a:ext cx="657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81080" y="762120"/>
            <a:ext cx="6981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TCH SAMANTHA STEPHENS ON TV'S "BE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 SENATOR FROM FLORIDA FROM 2001 TO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SAID "I JOKED ABOUT EVERY PROMINENT MAN OF MY TIME, BUT I NEVER MET A MAN I DIDN'T LI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71720" y="4343400"/>
            <a:ext cx="7000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HARE  LAST  NAMES  WITH  COUNTRY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LURALITY OF THE  ELECTORAL VOTE IN THE 1824 U.S. PRESIDENTIAL ELECTION, BUT DIDN'T BECOME PRESIDENT UNTIL 182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, WITH CUFFLINKS "F.U.", DID KEVIN SPACEY PLAY ON THE NETFLIX SERIES 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PLAYER LOST IN THE FINALS OF 3 OF THE 4 MAJOR TENNIS TOURNAMENTS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TCH SAMANTHA STEPHENS ON TV'S "BE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SAID "I JOKED ABOUT EVERY PROMINENT MAN OF MY TIME, BUT I NEVER MET A MAN I DIDN'T LI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09:09:11Z</dcterms:modified>
  <cp:revision>430</cp:revision>
  <dc:subject/>
  <dc:title>Slide 1</dc:title>
</cp:coreProperties>
</file>