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F8FC-3E97-43AB-ABFC-CAE66D503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7E68-7B21-41D8-A5E9-F04D09E75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447F-A328-483D-A3EE-20FBE20C3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AC90-64F7-4D5D-8960-8B6FC1F35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2B6A-2654-420E-B60A-3CE3C68F2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C382-87BB-4B9D-B3FD-5348416F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E38E-407F-477E-90A2-20CD7C3C8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CCE2-6E48-479D-A986-C763C51C5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794B-566D-44CA-8C37-D63C2EA72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72D2-2566-4150-AB8E-2F08BC45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FBCB-D949-4882-862B-30534A016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4164-81A9-4FE9-9CF0-030F646E2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C0FE-BA82-425D-AAB0-DE2EE484E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219E-BD3E-4B9E-9BF2-3D4690A4F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B3F3-F785-4B09-BEBF-F03D8E55E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60BB-B75B-454C-9280-AD832FA58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A49F-F0D4-4193-BE7A-A8CB0EBDB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C003-60AE-4974-810A-284B3285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5811-0D49-464E-9259-1DB65647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A110-3BBD-4E79-B0FC-CAACD2D13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9F11-3374-4B7E-9245-B4ADF364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3DEF-3B83-4B9B-AAF6-0C49B52F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30DC-57DB-4737-994A-B1AE91403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 AND "YOUNG FRANKENSTE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N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ENATOR FROM FLORIDA FROM 2001 TO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PLURALITY OF THE  ELECTORAL VOTE IN THE 1824 U.S. PRESIDENTIAL ELECTION, BUT DIDN'T BECOME PRESIDENT UNTIL 182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THE TITLE CHARACTER IN THE "KUNG FU PANDA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UNDER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, WITH CUFFLINKS "F.U.", DID KEVIN SPACEY PLAY ON THE NETFLIX SERIES "HOUSE OF CA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14480" y="762120"/>
            <a:ext cx="711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LAYER LOST IN THE FINALS OF 3 OF THE 4 MAJOR TENNIS TOURNAMENTS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85920" y="762120"/>
            <a:ext cx="6572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ULLIVER'S TRAVEL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MONTGOM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81080" y="762120"/>
            <a:ext cx="6981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TCH SAMANTHA STEPHENS ON TV'S "BEWITCH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ENATOR FROM FLORIDA FROM 2001 TO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SAID "I JOKED ABOUT EVERY PROMINENT MAN OF MY TIME, BUT I NEVER MET A MAN I DIDN'T LI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 AND "YOUNG FRANKENSTE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71720" y="4343400"/>
            <a:ext cx="7000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SHARE  LAST  NAMES  WITH  COUNTRY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PLURALITY OF THE  ELECTORAL VOTE IN THE 1824 U.S. PRESIDENTIAL ELECTION, BUT DIDN'T BECOME PRESIDENT UNTIL 182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THE TITLE CHARACTER IN THE "KUNG FU PANDA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, WITH CUFFLINKS "F.U.", DID KEVIN SPACEY PLAY ON THE NETFLIX SERIES "HOUSE OF CA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8960" y="761760"/>
            <a:ext cx="7424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LAYER LOST IN THE FINALS OF 3 OF THE 4 MAJOR TENNIS TOURNAMENTS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ULLIVER'S TRAVE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TCH SAMANTHA STEPHENS ON TV'S "BEWITCH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SAID "I JOKED ABOUT EVERY PROMINENT MAN OF MY TIME, BUT I NEVER MET A MAN I DIDN'T LI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09:09:11Z</dcterms:modified>
  <cp:revision>430</cp:revision>
  <dc:subject/>
  <dc:title>Slide 1</dc:title>
</cp:coreProperties>
</file>