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F49F-9C39-4B10-8071-483435752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E70F-630B-454C-A83C-8E62ED3E3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5C6D-15DC-4643-8DC5-F06BE5AD2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C4DA-9815-49CD-B8ED-E228D6CAF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623D-3A67-4480-A3BF-31A5F073D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9A18-6A47-4360-9C3E-4203D0B55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1292-1D7A-486B-9F80-AA39670C9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E78B-B4FB-411D-93F7-4D68EC211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6356-2722-47C2-BF17-7142EC1FD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2BE4-857C-48B3-9CD2-4D0EB5E25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012D-D694-4201-A362-5032CBB79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5A2A-7B4A-431A-AA1E-4D9273DC6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43AF-E7BD-4040-8020-BC924B4DC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9E06-FED8-4914-952E-D9078C1F7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ECE0-AEED-4705-B182-B1CCB272E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C8B2-18F6-4E29-B29E-C4C175237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5832-191C-41F1-98D2-FD98C6646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7547-9F57-4DB2-BF37-4692E7012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DA95-BEA3-47EB-8BB8-FF0BEB430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ACF9-32D5-437C-8766-B1C71F7CD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75F9-7053-48DF-AD43-7A0A0B861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40C2-BC16-46B1-B8EF-76EE4D2F9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12E7-C9C0-4852-8DBE-2BA17CE02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14440" y="761760"/>
            <a:ext cx="8115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"BLAZING SADDLES" AND "YOUNG FRANKENSTE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NE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57160" y="762120"/>
            <a:ext cx="7429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A SENATOR FROM FLORIDA FROM 2001 TO 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REW  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PLURALITY OF THE  ELECTORAL VOTE IN THE 1824 U.S. PRESIDENTIAL ELECTION, BUT DIDN'T BECOME PRESIDENT UNTIL 182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VOICED THE TITLE CHARACTER IN THE "KUNG FU PANDA"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  UNDER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, WITH CUFFLINKS "F.U.", DID KEVIN SPACEY PLAY ON THE NETFLIX SERIES "HOUSE OF CAR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RENA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14480" y="762120"/>
            <a:ext cx="711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PLAYER LOST IN THE FINALS OF 3 OF THE 4 MAJOR TENNIS TOURNAMENTS IN 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ATHAN  SW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85920" y="762120"/>
            <a:ext cx="6572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GULLIVER'S TRAVELS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IZABETH  MONTGOM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81080" y="762120"/>
            <a:ext cx="6981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WITCH SAMANTHA STEPHENS ON TV'S "BEWITCH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23800" y="762120"/>
            <a:ext cx="8096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A SENATOR FROM FLORIDA FROM 2001 TO 201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  RO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AMOUSLY SAID "I JOKED ABOUT EVERY PROMINENT MAN OF MY TIME, BUT I NEVER MET A MAN I DIDN'T LIK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  BR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"BLAZING SADDLES" AND "YOUNG FRANKENSTE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071720" y="4343400"/>
            <a:ext cx="7000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SHARE  LAST  NAMES  WITH  COUNTRY  ST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3560"/>
            <a:ext cx="8076960" cy="20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PLURALITY OF THE  ELECTORAL VOTE IN THE 1824 U.S. PRESIDENTIAL ELECTION, BUT DIDN'T BECOME PRESIDENT UNTIL 182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VOICED THE TITLE CHARACTER IN THE "KUNG FU PANDA"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24000" y="762120"/>
            <a:ext cx="8496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, WITH CUFFLINKS "F.U.", DID KEVIN SPACEY PLAY ON THE NETFLIX SERIES "HOUSE OF CAR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58960" y="761760"/>
            <a:ext cx="7424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PLAYER LOST IN THE FINALS OF 3 OF THE 4 MAJOR TENNIS TOURNAMENTS IN 201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57120" y="761760"/>
            <a:ext cx="6629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GULLIVER'S TRAVEL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81200" y="761760"/>
            <a:ext cx="7581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WITCH SAMANTHA STEPHENS ON TV'S "BEWITCH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AMOUSLY SAID "I JOKED ABOUT EVERY PROMINENT MAN OF MY TIME, BUT I NEVER MET A MAN I DIDN'T LIK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0-08-31T09:09:11Z</dcterms:modified>
  <cp:revision>430</cp:revision>
  <dc:subject/>
  <dc:title>Slide 1</dc:title>
</cp:coreProperties>
</file>