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5C74-C2AB-45C0-9115-8AD7A458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C42-E8EB-49AF-B675-B7D9D15D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6C27-23CE-48DE-B8DD-1E7D4F9A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956-35A7-470C-A65D-09CCA2B6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04F-BB59-42DD-9145-630F6C1E5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9CE3-E8CE-4AE6-864D-19A22F6A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656F-5823-4CDE-A2DC-B3B557B1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D3A-35ED-41E5-927B-76ABBD24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3323-12D8-481C-87A2-1E00F430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9A1-45FD-4DD5-9A24-DB99735D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C8B6-8664-4904-8F36-B20616CB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DE5B-54C4-4427-B429-44885D6F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0C5-3DEA-402C-A4F5-92333201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C7E-1D03-4DA3-846A-6F10E1A9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DD3C-3C28-41C0-819A-4E6DB3BE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8AA-C8DB-4D85-9929-734E05C6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BEC-40AA-4B6D-8532-5ABE5290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259-A56D-481B-8415-10CCFCF75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1D7-D22A-4DEC-913A-BE609F58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5AD-AB54-43E1-95F9-D52472E7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E424-E4C9-45AA-A952-0A059022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6D32-DF2A-4F00-B85C-6386D20C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302-7F5B-4B84-9DB9-36513293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  ONE MONTH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  (POLANSK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OWARD)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ONE MON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38098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MEAN  SOMETHING  COMPLETELY  DIFFERENT  IN  G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4:22:27Z</dcterms:created>
  <dc:creator>Jennifer Budzinski</dc:creator>
  <dc:description/>
  <dc:language>en-US</dc:language>
  <cp:lastModifiedBy>Erich Friedman</cp:lastModifiedBy>
  <dcterms:modified xsi:type="dcterms:W3CDTF">2020-08-31T09:09:29Z</dcterms:modified>
  <cp:revision>436</cp:revision>
  <dc:subject/>
  <dc:title>Slide 1</dc:title>
</cp:coreProperties>
</file>