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AFB7-CD6E-4E50-970B-2D46CFD88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2C8F-391F-4278-B93D-F0033703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ED3-6018-4B10-93D3-9B64BD9D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061-8AD8-4EC9-9D5E-EA739AB5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7942-54C5-45A0-9066-93285305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B83E-F92D-4104-810E-CC1EF161C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2C2E-DE5E-4F84-9DF8-44976DCE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2FFD-BDFD-47DB-980E-34ABAE0F0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59D-C302-4745-89CE-B8CC27A47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6A9C-989A-4581-8052-794D8EFF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57BC-AC54-4866-872A-BB604273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8B24-F3AC-4154-9A27-E4B54C20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BDFB-AAAB-4F82-B87C-ECB14798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ECF-23F8-48C7-8FD1-C0779DFF1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61A0-C19C-40A3-BC48-EC797D16A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4EB-7EDF-4FD5-A7FE-30311A3E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E5C-3988-4D0A-93B6-E6536801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1991-4C76-4B35-9801-7A2FE640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3EDE-38FD-44B2-BF78-E7FFCB35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E497-E726-436A-9C21-4209628E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9A7D-9A00-4948-AC9E-4A27E1FFA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C2CA-8F11-4A12-B4E2-CCEE7720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2E7-CD41-4AFD-909D-B270B009F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  ONE MONTH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  (POLANSK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OWARD)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MAIN FRIEND OF THE NAÏVE PIG IN THE COMIC STRIP "PEARLS BEFORE SW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8 FILM STARRING ED HELMS AND JON HAMM   DO GROWN MEN PLAY A CHILDREN'S GAME FOR   ONE MON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380988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MEAN  SOMETHING  COMPLETELY  DIFFERENT  IN  G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JON FAVREAU PLAY THE OWNER OF A FOOD TR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COLLEGES HAVE MORE STUDENTS IN THE FALL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BSERVANT MUSLIMS DO DURING RAMADAN, AS ONE OF THE FIVE PILLARS OF IS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OLISH FILM DIRECTOR WHO FLED THE U.S. IN 1978 AFTER PLEADING GUILTY   TO STATUTORY 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RIGINAL "SHOCK J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OWNED BY HARRY POTTER IS 11 INCHES LONG, MADE OF HOLLY, WITH A PHOENIX FEATHER 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4:22:27Z</dcterms:created>
  <dc:creator>Jennifer Budzinski</dc:creator>
  <dc:description/>
  <dc:language>en-US</dc:language>
  <cp:lastModifiedBy>Erich Friedman</cp:lastModifiedBy>
  <dcterms:modified xsi:type="dcterms:W3CDTF">2020-08-31T09:09:29Z</dcterms:modified>
  <cp:revision>436</cp:revision>
  <dc:subject/>
  <dc:title>Slide 1</dc:title>
</cp:coreProperties>
</file>