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F29C-D074-402B-82F1-6017EF1BE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EFFB-AD2A-43FE-ACD8-847972621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DECD-3B01-4BA8-8DD1-6F3D5D38A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C43A-4D3C-4119-B4DF-E5EAB424C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422B-D014-4CEB-AD01-2FDDFC452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89AB-DD5D-4FD8-A292-4012A2C64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0081-E1EF-4A0A-80E6-0B83A045E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59DA-414B-4EFB-A634-C8161C16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2EFA-9D14-4042-B3E7-E5C7F291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3E8-424E-4C7B-99A7-00CB7F71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3280-171F-4918-92DF-BDBB4A15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D10A-4226-4739-99C2-ADF7233AD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CB67-4B6C-46B3-8B3D-7D45CACAE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E109-5CD6-4D71-AC69-66C1460A4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4D95-AC85-4FD3-8D02-454796E3E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D87A-22B8-4755-97D9-ED28B1883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F366-FB94-47FB-90C3-13BE77097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520E-5372-441C-BB19-6FFC0521E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7E7E-970E-42F5-93BC-A5D1ED682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514B-9C4B-419E-BAA0-CEBA4DE34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48AD-3805-40B5-9E75-03BC5BF40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6743-4B5C-4527-80F0-C4A2A1FDD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8BBA-E2A4-4862-8D23-68ABBEE4F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8 FILM STARRING ED HELMS AND JON HAMM   DO GROWN MEN PLAY A CHILDREN'S GAME FOR     ONE MONTH EVERY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MAIN FRIEND OF THE NAÏVE PIG IN THE COMIC STRIP "PEARLS BEFORE SW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JON FAVREAU PLAY THE OWNER OF A FOOD TR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COLLEGES HAVE MORE STUDENTS IN THE FALL OR SP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BSERVANT MUSLIMS DO DURING RAMADAN, AS ONE OF THE FIVE PILLARS OF ISL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  (POLANSK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OLISH FILM DIRECTOR WHO FLED THE U.S. IN 1978 AFTER PLEADING GUILTY   TO STATUTORY R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OWARD)  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553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RIGINAL "SHOCK J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MAIN FRIEND OF THE NAÏVE PIG IN THE COMIC STRIP "PEARLS BEFORE SW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OWNED BY HARRY POTTER IS 11 INCHES LONG, MADE OF HOLLY, WITH A PHOENIX FEATHER C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8 FILM STARRING ED HELMS AND JON HAMM   DO GROWN MEN PLAY A CHILDREN'S GAME FOR   ONE MONTH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380988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WORDS  THAT  MEAN  SOMETHING  COMPLETELY  DIFFERENT  IN  G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JON FAVREAU PLAY THE OWNER OF A FOOD TRU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COLLEGES HAVE MORE STUDENTS IN THE FALL OR SP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BSERVANT MUSLIMS DO DURING RAMADAN, AS ONE OF THE FIVE PILLARS OF ISL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OLISH FILM DIRECTOR WHO FLED THE U.S. IN 1978 AFTER PLEADING GUILTY   TO STATUTORY R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RIGINAL "SHOCK J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OWNED BY HARRY POTTER IS 11 INCHES LONG, MADE OF HOLLY, WITH A PHOENIX FEATHER C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14:22:27Z</dcterms:created>
  <dc:creator>Jennifer Budzinski</dc:creator>
  <dc:description/>
  <dc:language>en-US</dc:language>
  <cp:lastModifiedBy>Erich Friedman</cp:lastModifiedBy>
  <dcterms:modified xsi:type="dcterms:W3CDTF">2020-08-31T09:09:29Z</dcterms:modified>
  <cp:revision>436</cp:revision>
  <dc:subject/>
  <dc:title>Slide 1</dc:title>
</cp:coreProperties>
</file>