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CC6E-33A1-41A9-A947-41CE8DF9D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9ABB-90F4-4D7D-A940-91E6506BB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0D11-BE00-4165-A803-A3C6F8A71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B721-33AE-467E-B900-D7A9E9DEA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D2BC-C3CE-4C3D-8BB1-133F8F564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F27E-BA37-4F92-84C5-9282B6A0D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4127-1E34-4945-8A51-D5030A0E7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6051-13A6-4315-9C9E-577B6F0D7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B21F-822E-45A5-9610-252907954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67E6-FE09-4CF0-A6C8-91204E3A6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BE0A-2FE0-47FC-9222-F0BD28DDD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755F-8CC5-404B-9C7C-0975EBF1E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7B6E-9DA5-4A41-B362-323EBA1D4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0DBD-D2A2-414A-B44D-0F607A7A4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63A5-7C1A-4729-A7BC-ED48E7547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0740-8D61-4C7A-AA3B-3C6AA8977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BA43-8922-45F9-B2E3-7D94F1AF6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ED32-19E5-4F81-9589-45F372760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F22D-1CCA-447F-B008-A799B1AE4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5CEF-31F4-4914-A88E-92783A050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3792-4E45-48CB-942A-AF7EE1A14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B2DB-66C8-491C-8B7D-7BF22F0C9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D9AE-5780-44CD-89BF-1DE6CE5CA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LASSICAL MUSIC, WHAT IS THE TERM FOR ORDERED SETS OF INSTRUMENTAL PIECES TO BE PLAYED IN SUCCES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WAY TO KILL A VAMPIRE IS WITH A WOODEN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PERIODICAL HAS THE LARGEST CIRC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'OH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600200" y="762120"/>
            <a:ext cx="5943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CLAMATION IS HOMER SIMPSON FAMOU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LETTER REPRESENTS AN IRRATIONAL CONSTANT THAT HAS BEEN COMPUTED TO TRILLIONS     OF DECIMAL PLA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ET  (THE  PRE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71480"/>
            <a:ext cx="777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THE LONGEST-RUNNING SHOW ON T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PODCAST IN THE WORLD, A SPINOFF OF NPR'S "THIS AMERICAN L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6836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212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LIGHTLY LESS THAN HALF THE TIME, 5 RANDOM CARDS WILL CONTAIN WHAT POKER H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WAY TO KILL A VAMPIRE IS WITH A WOODEN WH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YMBOL FOR SOUND COPYRIGHT IS A CIRCLE AROUND WHAT LE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LASSICAL MUSIC, WHAT IS THE TERM FOR ORDERED SETS OF INSTRUMENTAL PIECES TO BE PLAYED IN SUCCE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ONYMS  OF  EDIBLE  TH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PERIODICAL HAS THE LARGEST CIRC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600200" y="762120"/>
            <a:ext cx="5943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CLAMATION IS HOMER SIMPSON FAMOU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LETTER REPRESENTS AN IRRATIONAL CONSTANT THAT HAS BEEN COMPUTED TO TRILLIONS     OF DECIMAL PLA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THE LONGEST-RUNNING SHOW ON TV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PODCAST IN THE WORLD, A SPINOFF OF NPR'S "THIS AMERICAN L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LIGHTLY LESS THAN HALF THE TIME, 5 RANDOM CARDS WILL CONTAIN WHAT POKER H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YMBOL FOR SOUND COPYRIGHT IS A CIRCLE AROUND WHAT LET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8T18:35:03Z</dcterms:created>
  <dc:creator>Jennifer Budzinski</dc:creator>
  <dc:description/>
  <dc:language>en-US</dc:language>
  <cp:lastModifiedBy>Erich Friedman</cp:lastModifiedBy>
  <dcterms:modified xsi:type="dcterms:W3CDTF">2020-08-31T09:09:50Z</dcterms:modified>
  <cp:revision>448</cp:revision>
  <dc:subject/>
  <dc:title>Slide 1</dc:title>
</cp:coreProperties>
</file>