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5B05-1F57-49A1-9C08-5ECFBACF3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9ABF-F3B6-421C-A473-D1B9F2A07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B86A-9E58-4A09-B599-9DC706E26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3CDF-5E69-4D06-9681-87A8473F1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7B6C-4C35-417D-9DA3-D8890E8D4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92BB-4544-4B78-B99A-0E4BAB9CB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7FE4-BCF9-42B5-93B9-E4276C1C6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BEF8-5849-4BDA-9739-2114F6AE8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092C-9CC1-4A32-B928-23785F48A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95AC-87F6-4336-953A-8A2C4F114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A888-F43C-48A5-AEA5-B3DE4C51B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A812-D511-4759-A6CF-A84C85C3F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CD0B-A977-4204-A2F3-37B09B085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FC16-AFEA-48C9-B939-C506BC588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A179-569B-4D4C-9233-297BE54E3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81C0-9427-435F-93EF-838EAE467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9137-0A0C-4852-AAC1-1F4B8E529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7FA3-BF89-4797-BBC6-9C2639715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694F-512A-46B2-981B-1123E5C12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00F5-050D-402A-96DD-0771206D2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244B-FFB7-44FA-BBF8-E3F0E67BE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12E5-2C14-43F0-BB09-0CD658EFA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0F38-CD78-416C-944A-C21B78853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37124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LASSICAL MUSIC, WHAT IS THE TERM FOR ORDERED SETS OF INSTRUMENTAL PIECES TO BE PLAYED IN SUCCESS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66680" y="76212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ST COMMON WAY TO KILL A VAMPIRE IS WITH A WOODEN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EKLY PERIODICAL HAS THE LARGEST CIRCUL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'OH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600200" y="762120"/>
            <a:ext cx="5943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XCLAMATION IS HOMER SIMPSON FAMOUS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EEK LETTER REPRESENTS AN IRRATIONAL CONSTANT THAT HAS BEEN COMPUTED TO TRILLIONS     OF DECIMAL PLA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15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ET  (THE  PRES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71480"/>
            <a:ext cx="7772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THE TITLE OF THE LONGEST-RUNNING SHOW ON TV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1680" y="762120"/>
            <a:ext cx="8001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OST POPULAR PODCAST IN THE WORLD, A SPINOFF OF NPR'S "THIS AMERICAN LIF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6836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9212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LIGHTLY LESS THAN HALF THE TIME, 5 RANDOM CARDS WILL CONTAIN WHAT POKER H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ST COMMON WAY TO KILL A VAMPIRE IS WITH A WOODEN WHAT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YMBOL FOR SOUND COPYRIGHT IS A CIRCLE AROUND WHAT LET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266760" y="762120"/>
            <a:ext cx="86104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LASSICAL MUSIC, WHAT IS THE TERM FOR ORDERED SETS OF INSTRUMENTAL PIECES TO BE PLAYED IN SUCCESS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8769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MONYMS  OF  EDIBLE  TH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EKLY PERIODICAL HAS THE LARGEST CIRCUL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600200" y="762120"/>
            <a:ext cx="5943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XCLAMATION IS HOMER SIMPSON FAMOUS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EEK LETTER REPRESENTS AN IRRATIONAL CONSTANT THAT HAS BEEN COMPUTED TO TRILLIONS     OF DECIMAL PLAC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THE TITLE OF THE LONGEST-RUNNING SHOW ON TV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OST POPULAR PODCAST IN THE WORLD, A SPINOFF OF NPR'S "THIS AMERICAN LIF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LIGHTLY LESS THAN HALF THE TIME, 5 RANDOM CARDS WILL CONTAIN WHAT POKER H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YMBOL FOR SOUND COPYRIGHT IS A CIRCLE AROUND WHAT LET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18T18:35:03Z</dcterms:created>
  <dc:creator>Jennifer Budzinski</dc:creator>
  <dc:description/>
  <dc:language>en-US</dc:language>
  <cp:lastModifiedBy>Erich Friedman</cp:lastModifiedBy>
  <dcterms:modified xsi:type="dcterms:W3CDTF">2020-08-31T09:09:50Z</dcterms:modified>
  <cp:revision>448</cp:revision>
  <dc:subject/>
  <dc:title>Slide 1</dc:title>
</cp:coreProperties>
</file>