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4194B-7770-435D-BB63-07F18C0215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5B208-51E5-4D55-A8AC-52B42FED4A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D3C9F-776A-42A2-A25A-D4FF43A0B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B4355-CB6B-481E-9622-C12B2CECD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11A08-01FC-4B23-ABEA-39FFF3E7DC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4FC7E-1AD3-420F-BCC5-2F24201CE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E43F3-6593-4408-B585-BD0F83ED41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3BA7F-42F6-438C-A7B1-DBBE468CE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5D9FE-3FB7-496F-902E-E4FD87837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E42C2-3BF1-4C1D-BDDB-CA53CFF978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9E819-8482-4B1F-A57A-CABEFCBE4E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50F48-5A2B-41F9-90BB-4E08D1318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9F309-14E8-41F3-8175-4AE9B9C917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FC6A7-9C5F-4C86-BAEA-0A5D74655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10CDE-97E0-4B56-857C-EB91360C9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E9DDE-94CF-4F7F-A5CE-1CD66EE2B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EF3BA-3D02-4ADB-9609-ECC00B421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167E1-1305-4F3E-8A21-7EC0F5C850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1BDCC-EC80-4D7F-BC9D-25AB22A91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C2864-8BB4-437B-B5E5-B967E7071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99EC3-9765-4CC1-8288-497A54E16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BE98A-C732-4D8E-B74B-04A3872E1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99563-E638-493E-BD92-A0F0860043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37124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CLASSICAL MUSIC, WHAT IS THE TERM FOR ORDERED SETS OF INSTRUMENTAL PIECES TO BE PLAYED IN SUCCESS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066680" y="762120"/>
            <a:ext cx="7010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OST COMMON WAY TO KILL A VAMPIRE IS WITH A WOODEN WHA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EKLY PERIODICAL HAS THE LARGEST CIRCUL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'OH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600200" y="762120"/>
            <a:ext cx="59436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XCLAMATION IS HOMER SIMPSON FAMOUS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380880" y="762120"/>
            <a:ext cx="8382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EEK LETTER REPRESENTS AN IRRATIONAL CONSTANT THAT HAS BEEN COMPUTED TO TRILLIONS     OF DECIMAL PLAC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914400" y="4876920"/>
            <a:ext cx="73152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ET  (THE  PRES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85800" y="771480"/>
            <a:ext cx="77724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WORD OF THE TITLE OF THE LONGEST-RUNNING SHOW ON TV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71680" y="762120"/>
            <a:ext cx="80010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MOST POPULAR PODCAST IN THE WORLD, A SPINOFF OF NPR'S "THIS AMERICAN LIF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6836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9212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LIGHTLY LESS THAN HALF THE TIME, 5 RANDOM CARDS WILL CONTAIN WHAT POKER H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OST COMMON WAY TO KILL A VAMPIRE IS WITH A WOODEN WHAT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YMBOL FOR SOUND COPYRIGHT IS A CIRCLE AROUND WHAT LET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I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266760" y="762120"/>
            <a:ext cx="86104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CLASSICAL MUSIC, WHAT IS THE TERM FOR ORDERED SETS OF INSTRUMENTAL PIECES TO BE PLAYED IN SUCCESS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0" y="48769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MONYMS  OF  EDIBLE  TH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EKLY PERIODICAL HAS THE LARGEST CIRCUL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600200" y="762120"/>
            <a:ext cx="5943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XCLAMATION IS HOMER SIMPSON FAMOUS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EEK LETTER REPRESENTS AN IRRATIONAL CONSTANT THAT HAS BEEN COMPUTED TO TRILLIONS     OF DECIMAL PLAC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WORD OF THE TITLE OF THE LONGEST-RUNNING SHOW ON TV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MOST POPULAR PODCAST IN THE WORLD, A SPINOFF OF NPR'S "THIS AMERICAN LIF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LIGHTLY LESS THAN HALF THE TIME, 5 RANDOM CARDS WILL CONTAIN WHAT POKER H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YMBOL FOR SOUND COPYRIGHT IS A CIRCLE AROUND WHAT LET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18T18:35:03Z</dcterms:created>
  <dc:creator>Jennifer Budzinski</dc:creator>
  <dc:description/>
  <dc:language>en-US</dc:language>
  <cp:lastModifiedBy>Erich Friedman</cp:lastModifiedBy>
  <dcterms:modified xsi:type="dcterms:W3CDTF">2020-08-31T09:09:50Z</dcterms:modified>
  <cp:revision>448</cp:revision>
  <dc:subject/>
  <dc:title>Slide 1</dc:title>
</cp:coreProperties>
</file>