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23BF-2766-4AD0-A420-45C6CCBF5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6207-9335-4C5D-8FB8-4666A5863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8C08-AABD-4BDB-B18E-BF5EEEA0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C83A-A706-4C7E-B776-7B7D2F373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DE37-EFF4-4979-BFDD-4FEEE1C16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1672-800F-47D6-B57C-6214F238E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DDA7-FD30-4607-B305-91DB0E900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C069-D70D-4012-8CB8-8ECE27998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1759-469A-468A-81C0-0295EAE04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B83C-73C8-4509-BA35-9BC2E88DD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042B-5F76-4D4A-9104-BC7CC464B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9DB8-74BB-4518-9ECC-8D44A152E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7C56-08E9-4F27-A85A-0443AA0C1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9FD8-8DCD-4DA6-9699-B72E728F2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E476-B541-4761-ACB8-77B2B59A7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9F38-411E-44BF-B3B5-E0F307D05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C83B-55A1-4F71-A14F-4E42C9224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DCC1-7595-494E-862C-CED8B0E63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F70A-86E6-4698-8AC8-DBA69FEC0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94AB-3DF7-4701-A3B5-D7122DD26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759F-07E8-4F06-B820-A4E508353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977B-C326-42D4-BCAB-F9CB0FC86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9D1F-BE51-4155-96F1-90DB2745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RAXTON HICKS" ARE A TYPE OF FALS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CTORS LISA CUDDY, JAMES WILSON, ERIC FOREMAN, AND ROBERT CHASE WERE CHARACTERS ON WHAT TV SH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EMU EG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838080"/>
            <a:ext cx="3733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2006 PAUL SIMO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0864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BEFORE WWII, GREEN WAS THE MOST POPULAR KIND, AND AFTER WWII, BLACK WAS THE MOST POPULAR KIND.  KIND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55640"/>
            <a:ext cx="6705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N ADULT MALE D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CHE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DATING TV SHOW ON AIR SINCE 2002 HAS LED TO 5 SPIN-OF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RMS OF LAND AREA, WHERE DOES THE U.S. RANK AMONG THE LARGEST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CTORS LISA CUDDY, JAMES WILSON, ERIC FOREMAN, AND ROBERT CHASE WERE CHARACTERS ON WHAT TV SHOW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USTRALIA, ON WHAT DAY DO PEOPLE EAT "FAIRY BRE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RAXTON HICKS" ARE A TYPE OF FALS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EMU EG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914400"/>
            <a:ext cx="365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2006 PAUL SIMO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508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 BEFORE WWII, GREEN WAS THE MOST POPULAR KIND, AND AFTER WWII, BLACK WAS THE MOST POPULAR KIND.   KIND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N ADULT MALE DE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DATING TV SHOW ON AIR SINCE 2002 HAS LED TO 5 SPIN-OF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RMS OF LAND AREA, WHERE DOES THE U.S. RANK AMONG THE LARGEST COUNT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USTRALIA, ON WHAT DAY DO PEOPLE EAT "FAIRY BRE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09:34:24Z</dcterms:created>
  <dc:creator>Jennifer Budzinski</dc:creator>
  <dc:description/>
  <dc:language>en-US</dc:language>
  <cp:lastModifiedBy>Erich Friedman</cp:lastModifiedBy>
  <dcterms:modified xsi:type="dcterms:W3CDTF">2020-08-31T09:10:10Z</dcterms:modified>
  <cp:revision>446</cp:revision>
  <dc:subject/>
  <dc:title>Slide 1</dc:title>
</cp:coreProperties>
</file>