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28F7-EC77-4C2F-B739-F6646E52A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269-236A-4BAE-BF62-118A1841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5E08-0735-4354-B9F8-AEBA2692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A242-2D19-4E10-80DB-43703ACD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7E2E-D581-4D0F-9546-47BA50E6F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F433-726B-4D87-948A-B5CC685C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CB7D-4BD0-4E39-BE27-EAB2E4345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47DF-ABD5-4863-9F92-4791CFBAD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D219-E7F1-4B8A-A05A-30A275851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EDF0-FB30-40D3-A463-5203AB6E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7BDB-8176-4A1D-8726-9B3082E0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C37A-C733-4626-90E9-69B552AC4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0616-1148-444C-84BF-17990B454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2A41-F623-4DBF-BF44-E2D9ED9D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683B-4EEC-4DDE-A69C-30EBFF0FE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7EF5-8EFD-446E-9594-E74FEC059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E42F-DD93-47D2-8A25-AA7C8C32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09AC-F186-4104-95A6-60385629C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4D5B-56F4-4614-B363-B6BF62788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4EE6-125A-4150-A66A-B14D7691B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F648-69A7-4B0B-A7CD-A5B00D1DA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0DA9-A0F4-4671-8F53-186AAAD5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82CD-782A-4B4E-B1ED-0FF49ED42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AXTON HICKS" ARE A TYPE OF FALS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CTORS LISA CUDDY, JAMES WILSON, ERIC FOREMAN, AND ROBERT CHASE WERE CHARACTERS ON WHAT TV SH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EMU EG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838080"/>
            <a:ext cx="3733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2006 PAUL SIMO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086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BEFORE WWII, GREEN WAS THE MOST POPULAR KIND, AND AFTER WWII, BLACK WAS THE MOST POPULAR KIND.  KIND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55640"/>
            <a:ext cx="6705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ADULT MALE D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CHE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ATING TV SHOW ON AIR SINCE 2002 HAS LED TO 5 SPIN-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RMS OF LAND AREA, WHERE DOES THE U.S. RANK AMONG THE LARGEST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CTORS LISA CUDDY, JAMES WILSON, ERIC FOREMAN, AND ROBERT CHASE WERE CHARACTERS ON WHAT TV S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STRALIA, ON WHAT DAY DO PEOPLE EAT "FAIRY BR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AXTON HICKS" ARE A TYPE OF FALS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EMU EG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914400"/>
            <a:ext cx="365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2006 PAUL SIMO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08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 BEFORE WWII, GREEN WAS THE MOST POPULAR KIND, AND AFTER WWII, BLACK WAS THE MOST POPULAR KIND.   KIND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ADULT MALE D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ATING TV SHOW ON AIR SINCE 2002 HAS LED TO 5 SPIN-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RMS OF LAND AREA, WHERE DOES THE U.S. RANK AMONG THE LARGEST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STRALIA, ON WHAT DAY DO PEOPLE EAT "FAIRY BRE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09:34:24Z</dcterms:created>
  <dc:creator>Jennifer Budzinski</dc:creator>
  <dc:description/>
  <dc:language>en-US</dc:language>
  <cp:lastModifiedBy>Erich Friedman</cp:lastModifiedBy>
  <dcterms:modified xsi:type="dcterms:W3CDTF">2020-08-31T09:10:10Z</dcterms:modified>
  <cp:revision>446</cp:revision>
  <dc:subject/>
  <dc:title>Slide 1</dc:title>
</cp:coreProperties>
</file>