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A41B-81F0-4644-A52F-1F71EC410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61C5-AB6A-4BC0-831C-AB0FD9C17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5441-DA57-494F-85F2-AEC18202E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9BF4-A554-40C6-A0BC-47973AF86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0498-0E3B-4176-BC4C-AE51CE536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C69D-1DA7-464C-9EF8-83C07AE5F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BAEE-D7F5-4107-8789-75B706236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91D8-0A04-4975-962D-8A394F192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4751-009A-4E1D-8441-B3CD0C880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CC7B-6E03-417A-A98B-B0A7D2DC6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2048-F59F-4E07-97AE-C0BCD9624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56FC-AD62-477A-BF34-EA29C813F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C92C-A3AE-4F9B-89FE-022B1FD13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9167-2D9D-4FBB-B58B-9FF856DCE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2F1A-879F-41E7-B9F0-842C0A663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17D6-6C55-4A0F-912E-D5B65D772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4183-3375-44BF-BDC6-C65F2FC22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727C-0E88-4DF5-AA61-9E1FE316C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889F-7A12-42E4-978A-CB71BED51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00EF-E0AD-4725-990C-5CFC510CF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9E4D-DE2A-4EA3-A3EE-FDB525116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9FDA-3909-46DE-B484-FAA514716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56EE-D3BF-4A81-902B-C4DADFEED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RAXTON HICKS" ARE A TYPE OF FALS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781200" y="762120"/>
            <a:ext cx="758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CTORS LISA CUDDY, JAMES WILSON, ERIC FOREMAN, AND ROBERT CHASE WERE CHARACTERS ON WHAT TV SH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EMU EG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RP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228600" y="838080"/>
            <a:ext cx="37339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2006 PAUL SIMON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50864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28600" y="7621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BEFORE WWII, GREEN WAS THE MOST POPULAR KIND, AND AFTER WWII, BLACK WAS THE MOST POPULAR KIND.  KIND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19320" y="755640"/>
            <a:ext cx="67053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N ADULT MALE DE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ACHE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DATING TV SHOW ON AIR SINCE 2002 HAS LED TO 5 SPIN-OFF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ERMS OF LAND AREA, WHERE DOES THE U.S. RANK AMONG THE LARGEST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CTORS LISA CUDDY, JAMES WILSON, ERIC FOREMAN, AND ROBERT CHASE WERE CHARACTERS ON WHAT TV SHOW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TH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USTRALIA, ON WHAT DAY DO PEOPLE EAT "FAIRY BRE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RAXTON HICKS" ARE A TYPE OF FALS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PA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EMU EG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914400"/>
            <a:ext cx="3657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2006 PAUL SIMON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5086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09520" y="762120"/>
            <a:ext cx="8724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 BEFORE WWII, GREEN WAS THE MOST POPULAR KIND, AND AFTER WWII, BLACK WAS THE MOST POPULAR KIND.   KIND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N ADULT MALE DE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DATING TV SHOW ON AIR SINCE 2002 HAS LED TO 5 SPIN-OFF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ERMS OF LAND AREA, WHERE DOES THE U.S. RANK AMONG THE LARGEST COUNT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USTRALIA, ON WHAT DAY DO PEOPLE EAT "FAIRY BRE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9T09:34:24Z</dcterms:created>
  <dc:creator>Jennifer Budzinski</dc:creator>
  <dc:description/>
  <dc:language>en-US</dc:language>
  <cp:lastModifiedBy>Erich Friedman</cp:lastModifiedBy>
  <dcterms:modified xsi:type="dcterms:W3CDTF">2020-08-31T09:10:10Z</dcterms:modified>
  <cp:revision>446</cp:revision>
  <dc:subject/>
  <dc:title>Slide 1</dc:title>
</cp:coreProperties>
</file>