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B856-4271-4C09-AE4B-A9487FE67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EBF5-30D5-42D2-9F3E-6EC21BB2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3EE6-6DFE-4816-A6A2-A0270CA3B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8BB0-C3D0-4FF5-B0AD-50A112CE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CC1C-39B5-410F-9F6D-40502F60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52AA-BF30-46D5-B173-8BD4FEEB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06F2-4B3A-408E-9F4E-0CB1381E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F0A2-DBEB-4DB9-AA97-6E9B3CEB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F09-6022-48AC-A6E3-3D27D087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2279-E6DA-4733-B20F-01CF68F1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DE7F-75E8-47F3-A578-AF5C950B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CAF-D05A-4B6A-AE70-0DBF2A3A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D010-D3A7-4FAA-8777-DDC2B28F1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D7D-DEC1-4853-B510-AFB68995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FF59-4C66-4181-878C-B5DF7DFE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A811-50F5-4646-B155-C2AC76A3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86C7-4A83-4F4E-9FBD-A5CC9339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A9C-A7FF-44DE-811B-A1504913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3101-96E9-48B2-9ECE-22776690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5DB3-F125-4CCE-96A9-CECA9586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7C6-27F7-4EAB-8CE8-0863B0F0F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5F2-9026-47B7-B70A-8809C9ECB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C620-68E6-4431-9DC8-0489E5B9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AMOUS AGATHA CHRISTIE NOVEL ARE ALL THE SUSPECTS GUIL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Y UNIT CONTAINS 40-45 SOLDIERS COMMANDED BY A LIEU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-228600" y="8380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UNSUCCESSFUL  FLEETWOOD MAC ALBUM WAS CALLED "EXPERIMEN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Fleetwood_Mac_-_Tusk.png"/>
          <p:cNvPicPr/>
          <p:nvPr/>
        </p:nvPicPr>
        <p:blipFill>
          <a:blip r:embed="rId1"/>
          <a:stretch/>
        </p:blipFill>
        <p:spPr>
          <a:xfrm>
            <a:off x="5791320" y="13716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OF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NNIE RAITT ALBUM WON 3 GRAMMY AWARDS IN 1989, INCLUDING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  AND  LOATHING  IN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8264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HUNTER S. THOMPSON'S BEST-KNOWN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Y  H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WASHINGTON IRVING'S HEADLESS HORSEMAN COMMIT HIS MURD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ILY  EVER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3 WORDS OF MANY FAIRY TA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WAS BASED ON THE BOOKS OF LEWIS CAR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Y UNIT CONTAINS 40-45 SOLDIERS COMMANDED BY A LIEUTE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NE  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RADIO AND TV COWBOY RODE A HORSE NAMED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  ON  THE  ORIENT 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AMOUS AGATHA CHRISTIE NOVEL ARE ALL THE SUSPECTS GUIL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OHNNY  DEPP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-304920" y="7617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UNSUCCESSFUL  FLEETWOOD MAC ALBUM WAS CALLED "EXPERIMEN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Fleetwood_Mac_-_Tusk.png"/>
          <p:cNvPicPr/>
          <p:nvPr/>
        </p:nvPicPr>
        <p:blipFill>
          <a:blip r:embed="rId1"/>
          <a:stretch/>
        </p:blipFill>
        <p:spPr>
          <a:xfrm>
            <a:off x="5726160" y="1295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NNIE RAITT ALBUM WON 3 GRAMMY AWARDS  IN 1989, INCLUDING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HUNTER S. THOMPSON'S BEST-KNOWN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WASHINGTON IRVING'S HEADLESS HORSEMAN COMMIT HIS MURD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3 WORDS OF MANY FAIRY TAL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WAS BASED ON THE BOOKS OF LEWIS CAR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RADIO AND TV COWBOY RODE A HORSE NAMED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7:28:46Z</dcterms:created>
  <dc:creator>Jennifer Budzinski</dc:creator>
  <dc:description/>
  <dc:language>en-US</dc:language>
  <cp:lastModifiedBy>Erich Friedman</cp:lastModifiedBy>
  <dcterms:modified xsi:type="dcterms:W3CDTF">2020-08-24T13:44:35Z</dcterms:modified>
  <cp:revision>338</cp:revision>
  <dc:subject/>
  <dc:title>Slide 1</dc:title>
</cp:coreProperties>
</file>