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50B5-029E-4CA1-896F-172D975FE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6220-BE84-467E-8285-20A178BF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A2B7-1837-4007-94D6-B41E7F6DD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1F21-F025-4D6C-AB99-A963A212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690E-CDB7-4C1A-BC0C-E3A21BC15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1E20-3D79-4082-AF72-8EAE8111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331E-7BE5-4DC2-8500-447ED0978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E116-7DC9-4FC4-85B0-B65F29B7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DA5C-32B5-4732-9067-4013F7ED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8277-4D02-4304-8DE2-7075277D3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5B19-74EB-48F0-B4D4-D553D103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4E8A-38F4-4640-B031-A60B4B33C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6A30-0A8D-4B4B-9B37-D00A5C8A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F0E9-55BF-4959-9304-BD17C825C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A450-81BA-489D-B043-70BF72E8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8850-20F6-4F8C-83B3-80509BB40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85DE-9E37-4012-B0BB-5200C57CF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44DA-7353-45A6-9FCA-03BD1EC4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163B-41E4-4D5E-B8F8-EA080D702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6681-B986-470B-AFDF-66DE6F45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8F75-3D32-45D4-A1AF-E7E7D76B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DC4E-E6E0-42A9-834B-EA00E96E0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4117-584F-4014-85FF-227DC1BD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AMOUS AGATHA CHRISTIE NOVEL ARE ALL THE SUSPECTS GUIL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Y UNIT CONTAINS 40-45 SOLDIERS COMMANDED BY A LIEU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-228600" y="838080"/>
            <a:ext cx="5943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UNSUCCESSFUL  FLEETWOOD MAC ALBUM WAS CALLED "EXPERIMEN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Fleetwood_Mac_-_Tusk.png"/>
          <p:cNvPicPr/>
          <p:nvPr/>
        </p:nvPicPr>
        <p:blipFill>
          <a:blip r:embed="rId1"/>
          <a:stretch/>
        </p:blipFill>
        <p:spPr>
          <a:xfrm>
            <a:off x="5791320" y="13716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  OF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NNIE RAITT ALBUM WON 3 GRAMMY AWARDS IN 1989, INCLUDING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R  AND  LOATHING  IN  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8264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HUNTER S. THOMPSON'S BEST-KNOWN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Y  HO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WASHINGTON IRVING'S HEADLESS HORSEMAN COMMIT HIS MURD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ILY  EVER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3 WORDS OF MANY FAIRY TA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IN  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WAS BASED ON THE BOOKS OF LEWIS CARR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Y UNIT CONTAINS 40-45 SOLDIERS COMMANDED BY A LIEUTEN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NE  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RADIO AND TV COWBOY RODE A HORSE NAMED SIL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  ON  THE  ORIENT 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AMOUS AGATHA CHRISTIE NOVEL ARE ALL THE SUSPECTS GUIL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JOHNNY  DEPP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-304920" y="76176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UNSUCCESSFUL  FLEETWOOD MAC ALBUM WAS CALLED "EXPERIMEN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Fleetwood_Mac_-_Tusk.png"/>
          <p:cNvPicPr/>
          <p:nvPr/>
        </p:nvPicPr>
        <p:blipFill>
          <a:blip r:embed="rId1"/>
          <a:stretch/>
        </p:blipFill>
        <p:spPr>
          <a:xfrm>
            <a:off x="5726160" y="1295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NNIE RAITT ALBUM WON 3 GRAMMY AWARDS  IN 1989, INCLUDING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HUNTER S. THOMPSON'S BEST-KNOWN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WASHINGTON IRVING'S HEADLESS HORSEMAN COMMIT HIS MURDE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3 WORDS OF MANY FAIRY TAL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WAS BASED ON THE BOOKS OF LEWIS CARR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RADIO AND TV COWBOY RODE A HORSE NAMED SIL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7:28:46Z</dcterms:created>
  <dc:creator>Jennifer Budzinski</dc:creator>
  <dc:description/>
  <dc:language>en-US</dc:language>
  <cp:lastModifiedBy>Erich Friedman</cp:lastModifiedBy>
  <dcterms:modified xsi:type="dcterms:W3CDTF">2020-08-24T13:44:35Z</dcterms:modified>
  <cp:revision>338</cp:revision>
  <dc:subject/>
  <dc:title>Slide 1</dc:title>
</cp:coreProperties>
</file>