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23B0-2C9C-48EF-AD4E-795734A6D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5CA5-667A-4114-BDD5-A8DF4EB80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D8C8-2AA2-492A-9C63-70BC6C6AC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8C89-62B2-48EC-80F2-09E2F2094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736E-7887-4A41-ABC1-E61421E6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979-4DEE-496E-ADF6-A75E7F125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70CD-0F3F-47FE-8941-039E408FF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DB50-85F9-4D8F-B8E7-E0BDD77C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1145-8A56-4503-A8DF-33447115D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C37A-3517-4FF3-B782-B40C9DA1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C21A-9376-4626-B55F-14E5D5340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D1293-9749-4454-BFE7-9B726A87E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AC83-8851-4C3E-B21D-50552D98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F9FCE-1D11-407A-82F4-60F448D50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F677-9586-471A-849E-4115EFC94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B02B-6A79-44B9-A8D6-BA948711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8CDD-4FC7-4DA3-AA2E-2B739DA0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EA3B-53DA-499E-88CB-943092E4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3B5A-B06D-418F-AA20-4F4C254F8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1C54-1314-477F-9CF1-E9353CFE7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038F-7C15-404C-8B94-2D5266FDE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F30D-25D1-4E8D-A0BF-8FE7AF015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64C7-4FC9-4C7B-AABE-41AE7CC36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-228600" y="838080"/>
            <a:ext cx="5943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Fleetwood_Mac_-_Tusk.png"/>
          <p:cNvPicPr/>
          <p:nvPr/>
        </p:nvPicPr>
        <p:blipFill>
          <a:blip r:embed="rId1"/>
          <a:stretch/>
        </p:blipFill>
        <p:spPr>
          <a:xfrm>
            <a:off x="5791320" y="137160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  OF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AR  AND  LOATHING  IN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8264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Y  HO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PPILY  EVER  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  IN  WOND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LITARY UNIT CONTAINS 40-45 SOLDIERS COMMANDED BY A LIEUTEN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NE  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  ON  THE  ORIENT  EX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AMOUS AGATHA CHRISTIE NOVEL ARE ALL THE SUSPECTS GUIL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NY  DEPP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-304920" y="761760"/>
            <a:ext cx="6019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UNSUCCESSFUL  FLEETWOOD MAC ALBUM WAS CALLED "EXPERIMEN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Fleetwood_Mac_-_Tusk.png"/>
          <p:cNvPicPr/>
          <p:nvPr/>
        </p:nvPicPr>
        <p:blipFill>
          <a:blip r:embed="rId1"/>
          <a:stretch/>
        </p:blipFill>
        <p:spPr>
          <a:xfrm>
            <a:off x="5726160" y="1295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NNIE RAITT ALBUM WON 3 GRAMMY AWARDS  IN 1989, INCLUDING ALBUM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HUNTER S. THOMPSON'S BEST-KNOWN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ID WASHINGTON IRVING'S HEADLESS HORSEMAN COMMIT HIS MURDER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3 WORDS OF MANY FAIRY TAL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 ANIMATED DISNEY FILM WAS BASED ON THE BOOKS OF LEWIS CAR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CONIC RADIO AND TV COWBOY RODE A HORSE NAMED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7:28:46Z</dcterms:created>
  <dc:creator>Jennifer Budzinski</dc:creator>
  <dc:description/>
  <dc:language>en-US</dc:language>
  <cp:lastModifiedBy>Erich Friedman</cp:lastModifiedBy>
  <dcterms:modified xsi:type="dcterms:W3CDTF">2020-08-24T13:44:35Z</dcterms:modified>
  <cp:revision>338</cp:revision>
  <dc:subject/>
  <dc:title>Slide 1</dc:title>
</cp:coreProperties>
</file>