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0064-793D-4C43-8349-D1C145245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588F-9C39-4067-88BB-00FE5FE5C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586F-7BF0-4322-96BC-A87B60F1E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7B2F-5A30-4898-AA60-89E253D96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5FE5-5B90-4BDC-929B-52BD5372D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E80F-ED99-415E-88E4-F94846983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8091-5F0E-4D1E-AEEB-B247B494F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AF3D-9A9A-4C13-9955-0979874A6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1F89-DD19-4B66-B9C0-E287161AC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5C77-FAC1-444B-8455-9D88EFAD0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7763-5D8A-4446-872C-E95A30652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C291-A08F-4435-8D53-09EFB0AA2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A9EA-2DC1-4AFE-874E-F67FF0483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AF2D-2685-43E4-9E2C-84B5F6D0B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F181-E292-4E8C-9503-223D65C9E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AD4B-53C0-4A74-9894-C4CF9CDBD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DF50-EABD-4F44-9944-4AAF87163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FA47-5C85-4E05-8811-DC6A24E32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2E49-7EED-45B2-AA2B-093ABA738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1887-A52D-4EE5-8991-BFD55DB7F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202C-DE3D-4FCA-909C-03C0696EC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7CC5-682D-4BD5-BB79-F74E5A81B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9A55-BC2C-43B0-A51A-6B7FD9210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38080" y="137124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OR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TEVE JOBS IN THE 2013 FILM "JOB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RREN  BEAT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OSCAR-NOMINATED FOR ACTING IN, WRITING, DIRECTING, AND PRODUCING THE SAME FILM, BOTH IN 1978 AND 198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D  PI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295280" y="762120"/>
            <a:ext cx="6553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"THE CURIOUS CASE OF BENJAMIN BUTTON"  AND "MONEYBAL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ESE  WITHERSP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PLAYING JUNE CARTER IN "WALK THE L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KOTA  F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YOUNGEST PERSON TO BE NOMINATED FOR A SAG AWARD, FOR PLAYING SEAN PENN'S DAUGHTER IN "I AM SA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15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CE  WIL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04880" y="762120"/>
            <a:ext cx="7734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STARRED IN THE MOST FILMS WHOSE NAMES CONTAIN NUMBERS, INCLUDING 1,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2,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,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4, 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9, 10, 12, 16, AND .4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SEY  AFFL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PLAYING LEE CHANDLER IN "MANCHESTER BY THE SE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NA  F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CREATED AND WAS THE STAR OF "30 RO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OSCAR-NOMINATED FOR ACTING IN, WRITING, DIRECTING, AND PRODUCING THE SAME FILM, BOTH IN 1978 AND 1981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  FERR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95280" y="762120"/>
            <a:ext cx="65534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S IN "ELF" AND "THE ANCHOR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HTON  KUTC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TEVE JOBS IN THE 2013 FILM "JOB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523880" y="4267080"/>
            <a:ext cx="6096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LL  GO  BY  THEIR  GIVEN  MIDDLE  N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"THE CURIOUS CASE OF BENJAMIN BUTTON"  AND "MONEYBAL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PLAYING JUNE CARTER IN "WALK THE L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YOUNGEST PERSON TO BE NOMINATED FOR A SAG AWARD, FOR PLAYING SEAN PENN'S DAUGHTER IN "I AM SA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19200" y="762120"/>
            <a:ext cx="7905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STARRED IN THE MOST FILMS WHOSE NAMES CONTAIN NUMBERS, INCLUDING 1,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2,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,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4, 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9, 10, 12, 16, AND .4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PLAYING LEE CHANDLER IN "MANCHESTER BY THE SE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CREATED AND WAS THE STAR OF "30 RO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S IN "ELF" AND "THE ANCHOR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4T14:21:39Z</dcterms:created>
  <dc:creator>Jennifer Budzinski</dc:creator>
  <dc:description/>
  <dc:language>en-US</dc:language>
  <cp:lastModifiedBy>Erich Friedman</cp:lastModifiedBy>
  <dcterms:modified xsi:type="dcterms:W3CDTF">2020-08-31T09:10:30Z</dcterms:modified>
  <cp:revision>451</cp:revision>
  <dc:subject/>
  <dc:title>Slide 1</dc:title>
</cp:coreProperties>
</file>