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438BE-A5E2-4321-AC72-C3F391C4F7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ADA01-A313-4052-B853-0C3590552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93633-0DFD-4CDC-8B49-CB84F86F9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9B682-107E-44D1-B017-7853A4010B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85A26-55B5-46C8-80B6-1AEC26D91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5C9FB-4A74-4807-8E0F-0DA5A49EB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C4ABB-5635-4713-9ECD-3C30780C8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F8F4C-4EEA-499D-AED8-2713F2EAF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06D00-DA91-480B-92F6-A01E7E29F6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5FDE6-C4F2-4F4A-97C7-9605E34F4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F76EE-B2F2-42F3-A23F-0EB370F67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CCF11-1EE7-43BE-8BD4-138F09DF2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FC642-5AD7-47C5-8060-37DF844B98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8CE1D-B550-47A7-84C5-02D7C2619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A4D69-B095-4346-80CB-2DDFFECED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247EB-5261-48AC-BF3A-B4023B168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17AC4-9A7B-4663-8BCD-6ED3AE28B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76A5F-622E-47E3-87A5-075050F6D6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6C66B-4C94-47A9-8EC1-1E50F9E65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46EB3-9839-4B4F-A541-93592A0545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45503-AF3D-4263-BDF5-CDB9A48299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68737-4B27-4F9C-BCAD-DE1707AA0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8AC2C-04B7-4D96-A7F5-75B54852AF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38080" y="137124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CTOR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STEVE JOBS IN THE 2013 FILM "JOB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CTO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RREN  BEAT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380880" y="762120"/>
            <a:ext cx="8382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OSCAR-NOMINATED FOR ACTING IN, WRITING, DIRECTING, AND PRODUCING THE SAME FILM, BOTH IN 1978 AND 198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AD  PIT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295280" y="762120"/>
            <a:ext cx="65534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ACTOR FOR "THE CURIOUS CASE OF BENJAMIN BUTTON"  AND "MONEYBAL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ESE  WITHERSP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85800" y="762120"/>
            <a:ext cx="7772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RESS FOR PLAYING JUNE CARTER IN "WALK THE LI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KOTA  F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33520" y="762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YOUNGEST PERSON TO BE NOMINATED FOR A SAG AWARD, FOR PLAYING SEAN PENN'S DAUGHTER IN "I AM SAM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914400" y="4876920"/>
            <a:ext cx="73152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UCE  WILL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04880" y="762120"/>
            <a:ext cx="7734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STARRED IN THE MOST FILMS WHOSE NAMES CONTAIN NUMBERS, INCLUDING 1,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2,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,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4, 5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6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9, 10, 12, 16, AND .4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SEY  AFFLE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09480" y="762120"/>
            <a:ext cx="79250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OR FOR PLAYING LEE CHANDLER IN "MANCHESTER BY THE SE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NA  F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CREATED AND WAS THE STAR OF "30 ROC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OSCAR-NOMINATED FOR ACTING IN, WRITING, DIRECTING, AND PRODUCING THE SAME FILM, BOTH IN 1978 AND 1981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L  FERR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295280" y="762120"/>
            <a:ext cx="65534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ROLES IN "ELF" AND "THE ANCHORM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SHTON  KUTC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STEVE JOBS IN THE 2013 FILM "JOB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523880" y="4267080"/>
            <a:ext cx="6096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ALL  GO  BY  THEIR  GIVEN  MIDDLE  NA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CTO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295280" y="761760"/>
            <a:ext cx="6553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ACTOR FOR "THE CURIOUS CASE OF BENJAMIN BUTTON"  AND "MONEYBAL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85800" y="762120"/>
            <a:ext cx="7772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RESS FOR PLAYING JUNE CARTER IN "WALK THE LI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YOUNGEST PERSON TO BE NOMINATED FOR A SAG AWARD, FOR PLAYING SEAN PENN'S DAUGHTER IN "I AM SAM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19200" y="762120"/>
            <a:ext cx="7905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STARRED IN THE MOST FILMS WHOSE NAMES CONTAIN NUMBERS, INCLUDING 1,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2,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,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4, 5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6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9, 10, 12, 16, AND .44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OR FOR PLAYING LEE CHANDLER IN "MANCHESTER BY THE SE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CREATED AND WAS THE STAR OF "30 ROC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219320" y="762120"/>
            <a:ext cx="6705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ROLES IN "ELF" AND "THE ANCHORMA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24T14:21:39Z</dcterms:created>
  <dc:creator>Jennifer Budzinski</dc:creator>
  <dc:description/>
  <dc:language>en-US</dc:language>
  <cp:lastModifiedBy>Erich Friedman</cp:lastModifiedBy>
  <dcterms:modified xsi:type="dcterms:W3CDTF">2020-08-31T09:10:30Z</dcterms:modified>
  <cp:revision>451</cp:revision>
  <dc:subject/>
  <dc:title>Slide 1</dc:title>
</cp:coreProperties>
</file>