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2F13-F26D-4144-8B7C-F7C5B0271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DBEF-FF9D-42CB-A179-50FBB2A71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0EB4-786C-451F-8170-0B1E6BDE9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37BD-EB20-49D4-82BB-48DD85121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A612-C708-4556-90A0-CD5206FF3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FC75-DB26-4D56-8271-C716015E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7828-505C-471B-B71A-39542E16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FAAA-1237-4992-964F-6EAE3DE2F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FB1A-811D-4108-B510-3F6A6258A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F268-F154-4219-BFA6-92F4CF3F9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D41A-9701-45DD-9EC8-0BF9BC038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CA14-20A4-4263-A1A4-D2DA0786D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9E22-15BF-4E4F-A983-DF0F444A4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58D7-C2CA-4D2C-832D-FF7A6BA78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1F0B-BBFC-42DA-B6A9-95660DAA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AE8E-0A20-42A9-9D6D-FB7B4386B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1135-F71C-4BA6-8507-D142EEE94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85BA-1D9E-4ADB-BCBB-6F2F7390F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995C-7598-40C6-A68F-8AFA82810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68DC-1DF1-4D10-A7F7-A33833E57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B4CB-0161-4B43-9459-189351332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234B-78E8-4390-AC0A-761BEBBC1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78B8-CC4E-4E7D-8D41-ACF842AB1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TEVE JOBS IN THE 2013 FILM "JO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BEA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ACTING IN, WRITING, DIRECTING, AND PRODUCING THE SAME FILM, BOTH IN 1978 AND 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  P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CURIOUS CASE OF BENJAMIN BUTTON"  AND "MONEYB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ESE  WITHER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JUNE CARTER IN "WALK THE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KOTA  F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PERSON TO BE NOMINATED FOR A SAG AWARD, FOR PLAYING SEAN PENN'S DAUGHTER IN "I AM S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TARRED IN THE MOST FILMS WHOSE NAMES CONTAIN NUMBERS, INCLUDING 1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,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,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9, 10, 12, 16, AND .4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EY  AFF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LEE CHANDLER IN "MANCHESTER BY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F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CREATED AND WAS THE STAR OF "30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ACTING IN, WRITING, DIRECTING, AND PRODUCING THE SAME FILM, BOTH IN 1978 AND 1981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FERR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ELF" AND "THE ANCHOR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TON  KU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TEVE JOBS IN THE 2013 FILM "JO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267080"/>
            <a:ext cx="6096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GO  BY  THEIR  GIVEN  MIDDLE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CURIOUS CASE OF BENJAMIN BUTTON"  AND "MONEYB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JUNE CARTER IN "WALK THE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PERSON TO BE NOMINATED FOR A SAG AWARD, FOR PLAYING SEAN PENN'S DAUGHTER IN "I AM S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TARRED IN THE MOST FILMS WHOSE NAMES CONTAIN NUMBERS, INCLUDING 1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,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,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9, 10, 12, 16, AND .4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LEE CHANDLER IN "MANCHESTER BY THE SE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CREATED AND WAS THE STAR OF "30 R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ELF" AND "THE ANCHOR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4T14:21:39Z</dcterms:created>
  <dc:creator>Jennifer Budzinski</dc:creator>
  <dc:description/>
  <dc:language>en-US</dc:language>
  <cp:lastModifiedBy>Erich Friedman</cp:lastModifiedBy>
  <dcterms:modified xsi:type="dcterms:W3CDTF">2020-08-31T09:10:30Z</dcterms:modified>
  <cp:revision>451</cp:revision>
  <dc:subject/>
  <dc:title>Slide 1</dc:title>
</cp:coreProperties>
</file>