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812CC-9DA1-43C4-B354-82443E3F99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2F556-0F1F-4C5C-932F-061E517C1A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0D02B-3F44-4828-8B0D-3C64DEF31C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F3A5A-D08F-471C-AB67-91082427F5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49D36-AD34-4974-8E0E-BF9F54777F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80DB1-2445-4003-AFA5-D70FA37A9B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F6E15-F4DE-427B-AA1C-4CE36B5828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D91E1-9544-42A6-8EB1-3CF68F31EA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8CB78-CEAA-48FD-BE14-6EC596A561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949CC-7938-4D48-9FD9-3796CB29EA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D762F-26C7-4C33-A5E0-60FE9EEBE2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78540-7A1B-43D8-B65B-32825A1D68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87874-F543-4B9A-8E03-C1914CCBBF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8F20C-09D7-4717-8255-307B03019C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2411E-5C7E-4D1A-85F2-589754F6CC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D956B-3D5D-44A1-B33B-6268AA8E4F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36EC8-BA89-44F1-9983-9187EAF1C5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A8973-0800-4BB7-86CF-EBF27EAE53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5CC7C-CC33-41DD-B558-0A4AD0E53B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0B9FC-3809-4D30-B1B6-A12D11B2E1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D8C28-C39B-4DA9-BD78-4CC8361A3C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011E4-BD7B-4EDE-94D9-64B360DF54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DE5BD-5D7F-42DB-A5E3-90BDF16330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457200" y="9140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USICAL                  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ARTIST SANG THE #1 HITS "THIS KISS" AND "THE WAY YOU LOVE M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MUSICAL ARTIST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CHELLE  BRAN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457200" y="762120"/>
            <a:ext cx="8229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A GRAMMY AWARD FOR BEST POP DUET WITH VOCALS FOR "GAME OF LOVE" WITH SANTANA IN 2003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CKSTREET  BOY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295280" y="762120"/>
            <a:ext cx="65534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BOY BAND TO HAVE THEIR FIRST 9 ALBUMS REACH THE TOP 1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U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990720" y="762120"/>
            <a:ext cx="716256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OUP HAS MEMBERS THAT GO BY BONO AND THE EDG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N  JOV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876240" y="760320"/>
            <a:ext cx="7391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OUP SANG THE #1 HITS "LIVIN' ON A PRAYER" AND "YOU GIVE LOVE A BAD NAM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914400" y="4876920"/>
            <a:ext cx="73152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INK  FLOY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685800" y="762120"/>
            <a:ext cx="77724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OUP HAS HAD 3 LEAD SINGERS: SYD BARRETT, ROGER WATERS, AND NOW DAVID GILMOU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257480" y="4876920"/>
            <a:ext cx="6629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AYLOR  SWI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09480" y="762120"/>
            <a:ext cx="792504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YOUNGEST EVER WINNER OF A GRAMMY FOR BEST ALBUM OF THE YE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457200" y="487692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ELISSA  ETHERID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495360" y="762120"/>
            <a:ext cx="81532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UT OUT AN 2014 ALBUM ENTITLED "THIS IS M.E.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95360" y="76212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A GRAMMY AWARD FOR BEST POP DUET WITH VOCALS FOR "GAME OF LOVE" WITH SANTANA IN 2003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153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ICKELBA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219320" y="762120"/>
            <a:ext cx="67053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OP BAND HAS THE DISTINCTION OF BEING THE MOST HATED BAND OF ALL TI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ITH  HI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85800" y="762120"/>
            <a:ext cx="77724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ARTIST SANG THE #1 HITS "THIS KISS" AND "THE WAY YOU LOVE M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523880" y="4267080"/>
            <a:ext cx="6096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6000"/>
          </a:bodyPr>
          <a:p>
            <a:pPr marL="191880" indent="-191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ALL  SANG  SONGS NAMED  "BREATHE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MUSICAL ARTIST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295280" y="761760"/>
            <a:ext cx="65534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BOY BAND TO HAVE THEIR FIRST 9 ALBUMS REACH THE TOP 10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990720" y="762120"/>
            <a:ext cx="71625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OUP HAS MEMBERS THAT GO BY BONO AND THE EDG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OUP SANG THE #1 HITS "LIVIN' ON A PRAYER" AND "YOU GIVE LOVE A BAD NAM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OUP HAS HAD 3 LEAD SINGERS: SYD BARRETT, ROGER WATERS, AND NOW DAVID GILMOU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YOUNGEST EVER WINNER OF A GRAMMY FOR BEST ALBUM OF THE YEA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UT OUT AN 2014 ALBUM ENTITLED "THIS IS M.E.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143000" y="76212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OP BAND HAS THE DISTINCTION OF BEING THE MOST HATED BAND OF ALL TI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25T13:14:08Z</dcterms:created>
  <dc:creator>Jennifer Budzinski</dc:creator>
  <dc:description/>
  <dc:language>en-US</dc:language>
  <cp:lastModifiedBy>Erich Friedman</cp:lastModifiedBy>
  <dcterms:modified xsi:type="dcterms:W3CDTF">2020-08-31T09:10:56Z</dcterms:modified>
  <cp:revision>448</cp:revision>
  <dc:subject/>
  <dc:title>Slide 1</dc:title>
</cp:coreProperties>
</file>