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5EF7-DFD5-4236-AED9-AEB57EF48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975E-1AF0-462C-B708-98D492635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9C70-D6FC-4EBD-90C7-5EC13FF0D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8DC4-B3C0-4CF2-9628-38706511B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885F-86D2-45DB-BB1A-5A6EDAA37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600A-EF2E-4EC0-88B5-324162735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AA07-217C-4C20-9277-F69907350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7B5F-4420-4895-90A4-3B5FE2BC6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525E-2060-4021-A4EC-1FDD07A10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CD14-4D5E-4EE0-BBF3-E2C7663D6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170E-CBF6-4344-B073-C63505A0B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ED47-7FF8-4C42-9230-E109A7FD0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2E3A-275C-4849-8587-DF1A42EC2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8CA5-29A4-40FE-B89A-10B48CF15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1D72-3F6E-40BC-A6F8-BBA148A99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A17B-E31B-4C8D-AA0C-035D25507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9399-749B-46B3-8837-C77C86DA9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211D-03FD-4BB7-9617-97CAABB72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33EC-BE15-4879-A652-207CF67E1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06ED-8125-4625-9ABA-19EF95974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6940-C792-4172-8788-9612C1B13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3440-7521-4127-AD74-F90D7C6EF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59A3-4E6D-4E4D-A988-06508A568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SICAL         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TIST SANG THE #1 HITS "THIS KISS" AND "THE WAY YOU LOVE 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MUSICAL ARTIST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ELLE  BRA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 GRAMMY AWARD FOR BEST POP DUET WITH VOCALS FOR "GAME OF LOVE" WITH SANTANA IN 2003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CKSTREET  BO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295280" y="762120"/>
            <a:ext cx="6553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BOY BAND TO HAVE THEIR FIRST 9 ALBUMS REACH THE TOP 1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62120"/>
            <a:ext cx="71625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HAS MEMBERS THAT GO BY BONO AND THE ED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N  JOV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76240" y="7603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THE #1 HITS "LIVIN' ON A PRAYER" AND "YOU GIVE LOVE A BAD NA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15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NK  FLOY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HAS HAD 3 LEAD SINGERS: SYD BARRETT, ROGER WATERS, AND NOW DAVID GILMOU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YLOR  SW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YOUNGEST EVER WINNER OF A GRAMMY FOR BEST ALBUM OF THE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ISSA  ETHERI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UT OUT AN 2014 ALBUM ENTITLED "THIS IS M.E.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 GRAMMY AWARD FOR BEST POP DUET WITH VOCALS FOR "GAME OF LOVE" WITH SANTANA IN 2003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CKEL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19320" y="762120"/>
            <a:ext cx="6705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 BAND HAS THE DISTINCTION OF BEING THE MOST HATED BAND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ITH  H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TIST SANG THE #1 HITS "THIS KISS" AND "THE WAY YOU LOVE 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523880" y="4267080"/>
            <a:ext cx="6096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LL  SANG  SONGS NAMED  "BREATH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MUSICAL ARTIST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BOY BAND TO HAVE THEIR FIRST 9 ALBUMS REACH THE TOP 1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90720" y="762120"/>
            <a:ext cx="7162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HAS MEMBERS THAT GO BY BONO AND THE ED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THE #1 HITS "LIVIN' ON A PRAYER" AND "YOU GIVE LOVE A BAD NA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HAS HAD 3 LEAD SINGERS: SYD BARRETT, ROGER WATERS, AND NOW DAVID GILMOU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YOUNGEST EVER WINNER OF A GRAMMY FOR BEST ALBUM OF THE Y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UT OUT AN 2014 ALBUM ENTITLED "THIS IS M.E.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 BAND HAS THE DISTINCTION OF BEING THE MOST HATED BAND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5T13:14:08Z</dcterms:created>
  <dc:creator>Jennifer Budzinski</dc:creator>
  <dc:description/>
  <dc:language>en-US</dc:language>
  <cp:lastModifiedBy>Erich Friedman</cp:lastModifiedBy>
  <dcterms:modified xsi:type="dcterms:W3CDTF">2020-08-31T09:10:56Z</dcterms:modified>
  <cp:revision>448</cp:revision>
  <dc:subject/>
  <dc:title>Slide 1</dc:title>
</cp:coreProperties>
</file>