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262-D35C-4995-88C7-01D10047F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4EBB-0B17-4C00-AD8B-511D76F4E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522-F6AF-4C45-8A66-0E9C6FE06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9BBD-6BA1-414D-906B-E0050532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E6B-CF15-4F8A-B7C5-DA305E221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855-FA38-40B9-AE08-E58CD4B73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F960-C81C-4BE1-A5C4-72E0BBA3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3519-6B25-4743-A01E-5C558181E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6BF6-DF6A-461B-9D75-B7B15314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F5D3-3BC5-44B7-8075-42DC48BA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9DE-F0AB-4586-BA59-9636D57D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9CAB-01EC-47CE-B14D-C3B28193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C005-4519-4C5F-A54A-57DDE957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3D6-2EB0-4552-A009-BCC70742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B8ED-4573-4EB6-AC82-E80126BBD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D903-D390-46A1-AEC8-190990DD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272B-1FF5-442E-A023-E2C2A94BC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17DF-24C3-48D8-8C8F-E48D7DDB7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FBD0-3571-498D-9E5F-5AE1C96D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04F7-F51A-458A-B92D-2C56B41E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5BA7-DA72-4DA0-BA5D-726FD80C1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B924-DB78-4C12-85FF-195EA5EC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8CEC-228A-4283-BE1C-EE2CF490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S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ARTIS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AWARD FOR BEST POP DUET WITH VOCALS FOR "GAME OF LOVE" WITH SANTANA IN 2003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STREET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BOY BAND TO HAVE THEIR FIRST 9 ALBUMS REACH THE TOP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MEMBERS THAT GO BY BONO AND TH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LIVIN' ON A PRAYER" AND "YOU GIVE LOVE A BAD N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HAD 3 LEAD SINGERS: SYD BARRETT, ROGER WATERS, AND NOW DAVID GILM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EVER WINNER OF A GRAMMY FOR BEST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E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AN 2014 ALBUM ENTITLED "THIS IS M.E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AWARD FOR BEST POP DUET WITH VOCALS FOR "GAME OF LOVE" WITH SANTANA IN 2003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BAND HAS THE DISTINCTION OF BEING THE MOST HATED BAND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S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267080"/>
            <a:ext cx="6096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ANG  SONGS NAMED  "BREATH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ARTIS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BOY BAND TO HAVE THEIR FIRST 9 ALBUMS REACH THE TOP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MEMBERS THAT GO BY BONO AND THE 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LIVIN' ON A PRAYER" AND "YOU GIVE LOVE A BAD N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S HAD 3 LEAD SINGERS: SYD BARRETT, ROGER WATERS, AND NOW DAVID GILM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EVER WINNER OF A GRAMMY FOR BEST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AN 2014 ALBUM ENTITLED "THIS IS M.E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BAND HAS THE DISTINCTION OF BEING THE MOST HATED BAND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5T13:14:08Z</dcterms:created>
  <dc:creator>Jennifer Budzinski</dc:creator>
  <dc:description/>
  <dc:language>en-US</dc:language>
  <cp:lastModifiedBy>Erich Friedman</cp:lastModifiedBy>
  <dcterms:modified xsi:type="dcterms:W3CDTF">2020-08-31T09:10:56Z</dcterms:modified>
  <cp:revision>448</cp:revision>
  <dc:subject/>
  <dc:title>Slide 1</dc:title>
</cp:coreProperties>
</file>