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392E-D00E-420D-8C97-3B0974A35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7C06-F7F9-41EB-9DE6-27F1942D6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77A0-9BC3-46AC-B77C-492429B10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0EB5-05FA-4D7D-8E41-3434F6A1F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93D9-82BC-4180-900A-E53F93B2B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54DD-A072-446F-8E64-51A0640DC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6F04-D0FA-4AE5-9094-1C907EDF2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468C-F83D-4443-8F42-E1D378EB9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1DB1-0AF4-4551-BBA2-BD926DB5C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210F-CB5A-4962-8BB7-ACD7BAA34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EBD6-D2A7-4DCA-875E-9841B42D2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2453-5394-43F5-913A-6008F175E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987C-F5BC-4F64-B725-4E6A36760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7075-00D7-4523-A28B-1C531B596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B8C7-FACB-4C50-A566-79D52B834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EE8D-33D6-4EAC-A1FD-410B441F8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08B8-0F63-4096-BB8C-45A160879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01FB-72AE-45E5-8AA9-75E5B350F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B28C-3DEE-4372-935B-48977305F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65EE-FEFA-48F6-AC20-FA10DFF82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9A0A-7E60-4460-B5FC-BA8E70A86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9EEF-01C5-43C3-9B2C-6379F257E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8A3C-8047-4809-9C63-C47F6A383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3712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04880" y="762120"/>
            <a:ext cx="7734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GAME OF HEARTS, WHAT WILL YOU DO IF YOU GET ALL 13 HEARTS AND THE QUEEN OF SPAD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AM PLAYS THEIR HOME GAMES AT GREAT AMERICAN BALL PA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ODFATHER  PART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SIDES "LORD OF THE RINGS: RETURN OF THE KING", WHAT IS THE ONLY SEQUEL THAT WON AN OSCAR FOR BEST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Y  IT  AGAIN,  S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QUOTED LINE FROM "CASABLANCA", EVEN THOUGH HUMPHREY BOGART'S CHARACTER NEVER SAYS IT EXACT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EE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HIGH PERFORMANCE CAR WITH AN UNASSUMING EXTERIOR IS KNOWN AS    A Q-CAR IN THE U.K.,     AND A WHAT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15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HATT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BOROUGH OF NYC CONTAINS CENTRAL PA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Y  B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ANG TERM FOR A PERIOD MARKED BY A SIGNIFICANTLY INCREASED BIRTH R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THER  OF  THE  B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0 FILM ABOUT A WEDDING STARRED SPENCER TRACY, JOAN BENNETT, AND ELIZABETH TAYL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AM PLAYS THEIR HOME GAMES AT GREAT AMERICAN BALL PA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WN  &amp;  COU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4308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LDEST CONTINUALLY PUBLISHED GENERAL INTEREST MAGAZINE IN THE U.S., FORMERLY KNOWN AS "THE HOME JOURN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OOT  THE  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43040" y="762120"/>
            <a:ext cx="7657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GAME OF HEARTS, WHAT WILL YOU DO IF YOU GET ALL 13 HEARTS AND THE QUEEN OF SPAD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DIANE  KEATON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SIDES "LORD OF THE RINGS: RETURN OF THE KING", WHAT IS THE ONLY SEQUEL THAT WON AN OSCAR FOR BEST PIC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00280" y="762120"/>
            <a:ext cx="7543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QUOTED LINE FROM "CASABLANCA", EVEN THOUGH HUMPHREY BOGART'S CHARACTER NEVER SAYS IT EXACT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HIGH PERFORMANCE CAR WITH AN UNASSUMING EXTERIOR IS KNOWN AS    A Q-CAR IN THE U.K.,     AND A WHAT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BOROUGH OF NYC CONTAINS CENTRAL PA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ANG TERM FOR A PERIOD MARKED BY A SIGNIFICANTLY INCREASED BIRTH R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0 FILM ABOUT A WEDDING STARRED SPENCER TRACY, JOAN BENNETT, AND ELIZABETH TAYL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LDEST CONTINUALLY PUBLISHED GENERAL INTEREST MAGAZINE IN THE U.S., FORMERLY KNOWN AS "THE HOME JOURN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30T14:45:07Z</dcterms:created>
  <dc:creator>Jennifer Budzinski</dc:creator>
  <dc:description/>
  <dc:language>en-US</dc:language>
  <cp:lastModifiedBy>Erich Friedman</cp:lastModifiedBy>
  <dcterms:modified xsi:type="dcterms:W3CDTF">2020-08-31T12:13:57Z</dcterms:modified>
  <cp:revision>449</cp:revision>
  <dc:subject/>
  <dc:title>Slide 1</dc:title>
</cp:coreProperties>
</file>