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6B3A-9F6F-46BE-AEA6-B971CD401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9060-0F17-46B2-9E45-E8BF553F7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D6B8-C948-4E18-B0F0-67D5A356F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AE51-22A2-429E-A68F-3F62A20FD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568C-B02D-470E-BE63-2B9AACF1C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23B2-0BF0-442D-B8BC-272CA22B9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53FF-8410-434B-AF41-6AAE547AE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299F-E982-4C17-95EB-C8B3EC72C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D7BE-4187-4EBA-965F-AA660493A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1C8E-59C6-4716-ACA3-3C4D0756F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75FB-DCA1-4037-8008-56C3FF474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3ADF-4C0C-4137-BBB3-2B953632D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42E7-E432-49C0-8C3B-2C28991DE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C276-F8F5-4250-907C-ACF7B897B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5CDC-444C-4431-AA75-EFCFCABE8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AE23-5B4A-46F7-A200-581234946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A26F-7D83-49A0-B365-BDFB7620F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0484-6065-48EF-93B5-1576DC5F3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BB5D-EAA4-47BA-B258-4D49091C7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6777-DEA8-49EE-9A4C-795EA4948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D6E8-3AD8-498D-B300-07E842D65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5E30-0F81-4477-8853-D85CF2529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04FA-BC27-4D6E-BA28-505AADB10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3712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GAME OF HEARTS, WHAT WILL YOU DO IF YOU GET ALL 13 HEARTS AND THE QUEEN OF SPAD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AM PLAYS THEIR HOME GAMES AT GREAT AMERICAN BALL P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ODFATHER  PART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SIDES "LORD OF THE RINGS: RETURN OF THE KING", WHAT IS THE ONLY SEQUEL THAT WON AN OSCAR FOR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Y  IT  AGAIN,  S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QUOTED LINE FROM "CASABLANCA", EVEN THOUGH HUMPHREY BOGART'S CHARACTER NEVER SAYS IT EXACT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EE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HIGH PERFORMANCE CAR WITH AN UNASSUMING EXTERIOR IS KNOWN AS    A Q-CAR IN THE U.K.,     AND A WHAT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15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HAT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OROUGH OF NYC CONTAINS CENTRAL P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Y  B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TERM FOR A PERIOD MARKED BY A SIGNIFICANTLY INCREASED BIRTH R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THER  OF  THE  B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0 FILM ABOUT A WEDDING STARRED SPENCER TRACY, JOAN BENNETT, AND ELIZABETH TAYL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AM PLAYS THEIR HOME GAMES AT GREAT AMERICAN BALL PA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WN  &amp;  COU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LDEST CONTINUALLY PUBLISHED GENERAL INTEREST MAGAZINE IN THE U.S., FORMERLY KNOWN AS "THE HOME JOURN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OT  THE 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43040" y="762120"/>
            <a:ext cx="7657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GAME OF HEARTS, WHAT WILL YOU DO IF YOU GET ALL 13 HEARTS AND THE QUEEN OF SPAD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DIANE  KEATON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SIDES "LORD OF THE RINGS: RETURN OF THE KING", WHAT IS THE ONLY SEQUEL THAT WON AN OSCAR FOR BEST PIC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00280" y="762120"/>
            <a:ext cx="754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QUOTED LINE FROM "CASABLANCA", EVEN THOUGH HUMPHREY BOGART'S CHARACTER NEVER SAYS IT EXACT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HIGH PERFORMANCE CAR WITH AN UNASSUMING EXTERIOR IS KNOWN AS    A Q-CAR IN THE U.K.,     AND A WHAT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OROUGH OF NYC CONTAINS CENTRAL PA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TERM FOR A PERIOD MARKED BY A SIGNIFICANTLY INCREASED BIRTH R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0 FILM ABOUT A WEDDING STARRED SPENCER TRACY, JOAN BENNETT, AND ELIZABETH TAYL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LDEST CONTINUALLY PUBLISHED GENERAL INTEREST MAGAZINE IN THE U.S., FORMERLY KNOWN AS "THE HOME JOURN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30T14:45:07Z</dcterms:created>
  <dc:creator>Jennifer Budzinski</dc:creator>
  <dc:description/>
  <dc:language>en-US</dc:language>
  <cp:lastModifiedBy>Erich Friedman</cp:lastModifiedBy>
  <dcterms:modified xsi:type="dcterms:W3CDTF">2020-08-31T12:13:57Z</dcterms:modified>
  <cp:revision>449</cp:revision>
  <dc:subject/>
  <dc:title>Slide 1</dc:title>
</cp:coreProperties>
</file>