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D712-3896-4DB8-B792-009F5FC92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47AB-53E9-4991-8548-AC60BFA70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0294-4B34-4CDC-888F-AD10AC00C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1244-72D9-483C-A433-DD7212BFB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5EF2-4941-4C87-80EA-E7E059A33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C9C8-34DE-4757-AAED-D51327194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8D38-36BC-409F-8909-FF00FAA4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BBB7-A5A9-4735-8F8C-8341A334B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A865-6D27-448F-9A44-3F19A77F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C3F8-D5A0-4CFD-90B1-56C4857F0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969A-CE93-4D76-AE0E-DFFAEA4D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F0E1-E8E5-4ED2-8E51-A659FAF1F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F5E5-E9EE-4EF5-B766-D9B38250E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DA99-0C91-438C-91B6-964C88C7B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540A-E419-4886-9214-B5948CD8E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89A9-4B4E-4320-95A1-7C8DE28FE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27B-AD49-4794-879F-BA317094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FB61-5E3B-4E67-9593-E96764160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8785-BDF8-494D-8492-D8755BBC7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B654-F91C-4FDE-B1A8-B3DFF6A1D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936C-EAA9-470C-9846-C5EE28145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D7D2-71F5-48EE-8BA9-089AD1959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4E5E-12C7-40CD-8A3B-B5490D480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HEARTS, WHAT WILL YOU DO IF YOU GET ALL 13 HEARTS AND THE QUEEN OF SPA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PLAYS THEIR HOME GAMES AT GREAT AMERICAN BAL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DFATHER  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LORD OF THE RINGS: RETURN OF THE KING", WHAT IS THE ONLY SEQUEL THAT WON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Y  IT  AGAIN,  S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QUOTED LINE FROM "CASABLANCA", EVEN THOUGH HUMPHREY BOGART'S CHARACTER NEVER SAYS IT EXACT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HIGH PERFORMANCE CAR WITH AN UNASSUMING EXTERIOR IS KNOWN AS    A Q-CAR IN THE U.K.,     AND A WHA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CONTAINS CENTR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B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D MARKED BY A SIGNIFICANTLY INCREASED BIRTH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FILM ABOUT A WEDDING STARRED SPENCER TRACY, JOAN BENNETT, AND ELIZABETH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AM PLAYS THEIR HOME GAMES AT GREAT AMERICAN BAL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WN  &amp; 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KNOWN AS "THE HOME JOURN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OT  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4304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GAME OF HEARTS, WHAT WILL YOU DO IF YOU GET ALL 13 HEARTS AND THE QUEEN OF SPA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DIANE  KEATO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SIDES "LORD OF THE RINGS: RETURN OF THE KING", WHAT IS THE ONLY SEQUEL THAT WON AN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QUOTED LINE FROM "CASABLANCA", EVEN THOUGH HUMPHREY BOGART'S CHARACTER NEVER SAYS IT EXACT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HIGH PERFORMANCE CAR WITH AN UNASSUMING EXTERIOR IS KNOWN AS    A Q-CAR IN THE U.K.,     AND A WHAT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BOROUGH OF NYC CONTAINS CENTR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D MARKED BY A SIGNIFICANTLY INCREASED BIRTH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0 FILM ABOUT A WEDDING STARRED SPENCER TRACY, JOAN BENNETT, AND ELIZABETH TAY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CONTINUALLY PUBLISHED GENERAL INTEREST MAGAZINE IN THE U.S., FORMERLY KNOWN AS "THE HOME JOURN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30T14:45:07Z</dcterms:created>
  <dc:creator>Jennifer Budzinski</dc:creator>
  <dc:description/>
  <dc:language>en-US</dc:language>
  <cp:lastModifiedBy>Erich Friedman</cp:lastModifiedBy>
  <dcterms:modified xsi:type="dcterms:W3CDTF">2020-08-31T12:13:57Z</dcterms:modified>
  <cp:revision>449</cp:revision>
  <dc:subject/>
  <dc:title>Slide 1</dc:title>
</cp:coreProperties>
</file>