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F27F-90B0-45CD-8F27-A1D5956A4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DC33-E432-4278-A80B-BCD18B01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6307-1F0D-456F-93CC-F9ADDB6E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8110-D009-4176-B649-34911EAB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6F18-87BD-4166-B190-F18B2E2DD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C06-8D41-4B1B-858C-0211A50FD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B83A-7133-4149-B60C-70C990602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0460-EF53-4082-816F-D3B0C7BCF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655-0E09-48D4-890D-E64ED8D43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1533-FAA0-4371-9DBC-B9234385F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3442-DBCF-4ED0-B3B2-2A279962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4BB8-AA42-43BE-BFB7-CE5954F1C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003E-0F00-4432-AF3A-9FF0D576A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18A2-AB5E-45B3-99D6-9BA99D2F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6DD6-5C50-417E-8C13-92876264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5EDC-65C6-4DD9-9FC3-E876C2E74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A21-7001-49BC-A387-15B46C53C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7FF4-3D84-4C1F-9CEE-72A99C72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D80B-E625-4A0A-A42C-4748ED15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A3BB-E075-47A2-BA43-4BE4FAC6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7E67-857C-4F7D-9997-EC257A704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576E-D996-4347-AB70-D12AA86D0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CC5F-1D73-4724-8488-7E183CBE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ICALLY, WHAT IS THE COLDEST MONTH IN THE NORTHERN HEMI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REY  DAH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ERIAL KILLER KNOWN AS "THE MILWAUKEE CANNIB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WHAT STATE ARE KNOWN AS HOOS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6858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NAME IS SHARED BY THE BEST ACTRESS WINNERS OF 1952'S "COME BACK LITTLE SHEBA" AND 1983'S "TERMS OF ENDEAR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  CH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 FROM THE FILM "FARGO" IS ON DISPLAY IN THE FARGO VISITOR CENTER, WITH A MANNEQUIN LEG STICKING OUT OF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68580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ASON'S PET IGUANA IN THE COMIC STRIP "FOXTR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LICITY  HU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DESPERATE HOUSEWIVES" ACTRESS WAS RECENTLY SENTENCED TO 14 DAYS IN JAIL FOR HER PART IN A CHEATING SCAND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096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ALE TUR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ERIAL KILLER KNOWN AS "THE MILWAUKEE CANNIB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STEPHEN, PHILIP, NICANOR, TIMON, PROCHORUS, PARMENAS, AND NICHOLAS FIRST H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ICALLY, WHAT IS THE COLDEST MONTH IN THE NOR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3809880"/>
            <a:ext cx="5943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 PEOPLE  WITH  LAST  NAME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WHAT STATE ARE KNOWN AS HOOSI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NAME IS SHARED BY THE BEST ACTRESS WINNERS OF 1952'S "COME BACK LITTLE SHEBA" AND 1983'S "TERMS OF ENDEAR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 FROM THE FILM "FARGO" IS ON DISPLAY IN THE FARGO VISITOR CENTER, WITH A MANNEQUIN LEG STICKING OUT OF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ASON'S PET IGUANA IN THE COMIC STRIP "FOXTR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DESPERATE HOUSEWIVES" ACTRESS WAS RECENTLY SENTENCED TO 14 DAYS IN JAIL FOR HER PART IN A CHEATING SCAND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ALE TUR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STEPHEN, PHILIP, NICANOR, TIMON, PROCHORUS, PARMENAS, AND NICHOLAS FIRST H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9T23:41:21Z</dcterms:created>
  <dc:creator>Jennifer Budzinski</dc:creator>
  <dc:description/>
  <dc:language>en-US</dc:language>
  <cp:lastModifiedBy>Erich Friedman</cp:lastModifiedBy>
  <dcterms:modified xsi:type="dcterms:W3CDTF">2020-08-31T12:14:18Z</dcterms:modified>
  <cp:revision>448</cp:revision>
  <dc:subject/>
  <dc:title>Slide 1</dc:title>
</cp:coreProperties>
</file>