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A413-7C9F-4725-8D8E-5B6AD90C3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7527-047B-4E30-85F1-BAA9E0C1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AC7E-8AAE-4DDA-8996-E6B9E9589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EA0-2AE9-4C14-9342-D56592C6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9DD8-71B8-4A4F-9F8D-E5B6DE95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C585-4C1D-434C-B4B0-FDD3F762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4516-452C-4F76-8C4C-8BF955D94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7EA9-21AA-459F-A341-C97E61CE2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781F-BD13-4B2E-8A8C-44E3C0FE8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9875-7C0C-417D-AD8A-8D3DCB97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0FC3-183B-4666-87EC-36C12EDCF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B35-C69E-4CD1-A68E-BDADC011B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F662-9220-49DB-9952-C76D294D2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6F2E-23C5-426B-9BBE-61148BDC6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5AD3-3AE5-4CEE-B007-7D41EE208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F04B-0901-46F1-86B7-C3AEB4DC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22B9-9496-48B0-8490-0E35E20DC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097A-47CD-41F3-96BC-57EC6939D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328E-B95E-4803-A6DD-E9814F05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5EF3-AF3F-4ADD-98D0-DA8A22E43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DD15-34D7-42DE-B10B-D8E2D13D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CD02-B891-4CA7-8331-BBA02CD2C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44C8-6C25-477D-8958-E5594F957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LY, WHAT IS THE COLDEST MONTH IN THE NORTHERN HEMISP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DAH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ERIAL KILLER KNOWN AS "THE MILWAUKEE CANNIB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WHAT STATE ARE KNOWN AS HOOS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685800"/>
            <a:ext cx="8534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NAME IS SHARED BY THE BEST ACTRESS WINNERS OF 1952'S "COME BACK LITTLE SHEBA" AND 1983'S "TERMS OF ENDEAR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  CH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 FROM THE FILM "FARGO" IS ON DISPLAY IN THE FARGO VISITOR CENTER, WITH A MANNEQUIN LEG STICKING OUT OF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68580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ASON'S PET IGUANA IN THE COMIC STRIP "FOXTR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CITY  HU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DESPERATE HOUSEWIVES" ACTRESS WAS RECENTLY SENTENCED TO 14 DAYS IN JAIL FOR HER PART IN A CHEATING SCAND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3880" y="762120"/>
            <a:ext cx="6096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ALE TUR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SERIAL KILLER KNOWN AS "THE MILWAUKEE CANNIB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STEPHEN, PHILIP, NICANOR, TIMON, PROCHORUS, PARMENAS, AND NICHOLAS FIRST H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ICALLY, WHAT IS THE COLDEST MONTH IN THE NORTHERN HEMISP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3809880"/>
            <a:ext cx="5943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 PEOPLE  WITH  LAST  NAM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WHAT STATE ARE KNOWN AS HOOS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NAME IS SHARED BY THE BEST ACTRESS WINNERS OF 1952'S "COME BACK LITTLE SHEBA" AND 1983'S "TERMS OF ENDEAR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P FROM THE FILM "FARGO" IS ON DISPLAY IN THE FARGO VISITOR CENTER, WITH A MANNEQUIN LEG STICKING OUT OF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JASON'S PET IGUANA IN THE COMIC STRIP "FOXTR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DESPERATE HOUSEWIVES" ACTRESS WAS RECENTLY SENTENCED TO 14 DAYS IN JAIL FOR HER PART IN A CHEATING SCAND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ALE TUR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ID STEPHEN, PHILIP, NICANOR, TIMON, PROCHORUS, PARMENAS, AND NICHOLAS FIRST H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9T23:41:21Z</dcterms:created>
  <dc:creator>Jennifer Budzinski</dc:creator>
  <dc:description/>
  <dc:language>en-US</dc:language>
  <cp:lastModifiedBy>Erich Friedman</cp:lastModifiedBy>
  <dcterms:modified xsi:type="dcterms:W3CDTF">2020-08-31T12:14:18Z</dcterms:modified>
  <cp:revision>448</cp:revision>
  <dc:subject/>
  <dc:title>Slide 1</dc:title>
</cp:coreProperties>
</file>