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083-3083-4978-A25C-9E1AB2F1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29CF-973C-4409-ABBF-145B826A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94D6-AA42-45F5-980D-D12D11B13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68D-875D-4C7C-BD62-9B993822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CD12-8E08-43C4-BC58-EE677CF1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5041-4F58-483B-8D84-261E7D04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464-69DD-4123-864A-01274DCA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0E0B-78B8-44E9-BAE9-842628B17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FD1-5CC7-4F49-9AD6-D2D47254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0FBC-2BD1-406F-A965-97E9DE19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25CA-E670-43E9-9447-17FCE0942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677-94FB-4050-982D-E76A8EDF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459-8214-4636-9FA8-3666F109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A164-CCE6-489F-A277-9AC9B17B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8ADE-A928-43AC-9618-5075C2BF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A3C-9556-4169-880A-D63FB2C1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451-4B7F-4AF5-92B4-29C47E60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BA93-5884-4A27-A4CE-3705DE0E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48DA-86E1-42AF-B043-E05C230A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42DC-F0DD-43EF-B0F6-345CF1FE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FAEE-0D9A-4743-B194-C6A4BD41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9795-C4D5-40B2-A4E9-17556C44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7C6F-4EC2-4340-80EF-CCF10012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LY, WHAT IS THE COLDEST MONTH IN THE NORTH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DAH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ERIAL KILLER KNOWN AS "THE MILWAUKEE CANNIB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WHAT STATE ARE KNOWN AS HOOS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6858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NAME IS SHARED BY THE BEST ACTRESS WINNERS OF 1952'S "COME BACK LITTLE SHEBA" AND 1983'S "TERMS OF ENDEAR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  CH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 FROM THE FILM "FARGO" IS ON DISPLAY IN THE FARGO VISITOR CENTER, WITH A MANNEQUIN LEG STICKING OUT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68580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ASON'S PET IGUANA IN THE COMIC STRIP "FOXTR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CITY  HU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DESPERATE HOUSEWIVES" ACTRESS WAS RECENTLY SENTENCED TO 14 DAYS IN JAIL FOR HER PART IN A CHEATING SCAN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ALE TUR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ERIAL KILLER KNOWN AS "THE MILWAUKEE CANNIB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STEPHEN, PHILIP, NICANOR, TIMON, PROCHORUS, PARMENAS, AND NICHOLAS FIRST H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LY, WHAT IS THE COLDEST MONTH IN THE NOR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3809880"/>
            <a:ext cx="5943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 PEOPLE  WITH  LAST  NAM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WHAT STATE ARE KNOWN AS HOOS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NAME IS SHARED BY THE BEST ACTRESS WINNERS OF 1952'S "COME BACK LITTLE SHEBA" AND 1983'S "TERMS OF ENDEAR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 FROM THE FILM "FARGO" IS ON DISPLAY IN THE FARGO VISITOR CENTER, WITH A MANNEQUIN LEG STICKING OUT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ASON'S PET IGUANA IN THE COMIC STRIP "FOXTR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DESPERATE HOUSEWIVES" ACTRESS WAS RECENTLY SENTENCED TO 14 DAYS IN JAIL FOR HER PART IN A CHEATING SCAN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ALE TUR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STEPHEN, PHILIP, NICANOR, TIMON, PROCHORUS, PARMENAS, AND NICHOLAS FIRST H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3:41:21Z</dcterms:created>
  <dc:creator>Jennifer Budzinski</dc:creator>
  <dc:description/>
  <dc:language>en-US</dc:language>
  <cp:lastModifiedBy>Erich Friedman</cp:lastModifiedBy>
  <dcterms:modified xsi:type="dcterms:W3CDTF">2020-08-31T12:14:18Z</dcterms:modified>
  <cp:revision>448</cp:revision>
  <dc:subject/>
  <dc:title>Slide 1</dc:title>
</cp:coreProperties>
</file>