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381-C964-42B0-BDED-AC8A658E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7CE0-E5DE-44C4-9B68-464DD1B2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E51F-65F0-440B-988C-2361AE6E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5559-3688-491E-97BA-23915F75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BC8B-E52B-4D2E-90A6-C827C842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48BF-1DC6-4FFA-AEF3-ACC5ABA13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772D-713B-4411-A572-3252EBF4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AE1B-6CC9-4E9C-8EFC-0A116D46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CB9-DB7C-4241-81D9-994D159D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9DB-2142-44A7-A58D-D70795E1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C0A-6256-4680-A185-4C290851A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508-4BBE-4A2B-AFE8-7CF9B9D5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077C-0F8E-42B0-9441-54743DC6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F8D9-B236-4289-8F86-543E390B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D95-2DCA-4379-9124-8A4EB28F4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E54-8BC8-4A32-9778-4E5A32F75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8EE4-A3C4-4A3C-A64E-9C04389F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A3C-648D-49D3-9074-A6842B13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B466-5154-4891-9057-DCC6E264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00D0-BC07-4F94-84E5-0BDB6F3DE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C411-DA00-4F53-9E4F-B2B26C4C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C0A3-25C2-4E5F-83DA-C27256BC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31A7-EF00-4CD4-9029-F5FC180D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ARGENTINA FROM 1946 TO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O 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"PUSS IN BOOTS" IN THAT FILM AND THE SHREK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  CUER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6858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TEQUILA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THE MOST NFL  GAMES WITHOUT WINNING A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N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ABBA SONG THAT BEGINS WITH THE LYRICS "CAN YOU HEAR THE DRUMS" WAS THEIR ONLY SINGLE TO SELL 10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VADOR  D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5000"/>
            <a:ext cx="6705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THE PERSISTENCE OF MEM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836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G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'S LARGE FRESCOES HELPED ESTABLISH THE MEXICAN MURAL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UNTIL HIS DEATH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"PUSS IN BOOTS" IN THAT FILM AND THE SHREK FRANCHI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 AND  RIVER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AN  PE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ARGENTINA FROM 1946 TO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343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THAT  CAN  FOLLOW  THE  WORD  "SA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TEQUILA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THE MOST NFL  GAMES WITHOUT WINNING A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ABBA SONG THAT BEGINS WITH THE LYRICS "CAN YOU HEAR THE DRUMS" WAS THEIR ONLY SINGLE TO SELL 10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THE PERSISTENCE OF MEM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'S LARGE FRESCOES HELPED ESTABLISH THE MEXICAN MURAL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UNTIL HIS DEATH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0:57:49Z</dcterms:created>
  <dc:creator>Jennifer Budzinski</dc:creator>
  <dc:description/>
  <dc:language>en-US</dc:language>
  <cp:lastModifiedBy>Erich Friedman</cp:lastModifiedBy>
  <dcterms:modified xsi:type="dcterms:W3CDTF">2020-08-31T12:14:44Z</dcterms:modified>
  <cp:revision>451</cp:revision>
  <dc:subject/>
  <dc:title>Slide 1</dc:title>
</cp:coreProperties>
</file>