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3F44-8F61-4513-A708-D5DEC6E33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92F5-7A56-494C-BDD1-90B25FE91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3D9B-7BB7-4A8C-9656-282EADFAA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EE2D-4E72-4473-8921-73DC5A13F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2673-35BB-4712-A54E-6FBA96788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10B0-8C44-4C0E-A894-965144D08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13D9-4AF6-4958-B2B2-DB2F4A51A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C591-5305-4EDE-BE42-75481C2C3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59D8-252C-490B-99C0-4A1917758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2BD3-B1B0-4410-BEC9-C82F1B644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7761-43DA-4A85-8592-0E3085780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99E4-2710-43C1-A5B0-F9E4DFC93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C547-6F7E-4D36-AC38-9BB0D3774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228BD-89F0-4E5A-8631-C85FD57CD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C650-AEFC-42E9-A24C-D38C5EE11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4B03-4978-4D98-AEA3-B5B0F938F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2B38-9CBA-4E82-A905-203CED452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F702-4777-4EE3-B15A-2217F8949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B51E-B4C9-40D2-9EFD-6E6AB9BCF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052C-2A42-43D2-B954-D7422351E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1055-E051-4F90-894C-099E607B3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6255-80FF-48E2-9083-96D12F768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486A-C254-40E6-84BB-CD2EA5C56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ARGENTINA FROM 1946 TO 195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ONIO  BANDE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33480" y="762120"/>
            <a:ext cx="727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VIDED THE VOICE FOR "PUSS IN BOOTS" IN THAT FILM AND THE SHREK FRANCHI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  CUER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68580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TEQUILA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MAR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HAS WON THE MOST NFL  GAMES WITHOUT WINNING A SUPER BOW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N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6 ABBA SONG THAT BEGINS WITH THE LYRICS "CAN YOU HEAR THE DRUMS" WAS THEIR ONLY SINGLE TO SELL 10 MILLION COP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VADOR  D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9320" y="765000"/>
            <a:ext cx="67053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"THE PERSISTENCE OF MEM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836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EGO  RIV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IST'S LARGE FRESCOES HELPED ESTABLISH THE MEXICAN MURAL MOV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ISCO  FRA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676520" y="762120"/>
            <a:ext cx="5790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SPAIN FROM 1939 UNTIL HIS DEATH IN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VIDED THE VOICE FOR "PUSS IN BOOTS" IN THAT FILM AND THE SHREK FRANCHIS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QUIN  AND  RIVER  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ONLY BROTHERS TO BOTH BE OSCAR-NOMINATED FOR AC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AN  PER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ARGENTINA FROM 1946 TO 195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3434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NAMES  THAT  CAN  FOLLOW  THE  WORD  "SA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TEQUILA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HAS WON THE MOST NFL  GAMES WITHOUT WINNING A SUPER BOW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6 ABBA SONG THAT BEGINS WITH THE LYRICS "CAN YOU HEAR THE DRUMS" WAS THEIR ONLY SINGLE TO SELL 10 MILLION COP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"THE PERSISTENCE OF MEM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IST'S LARGE FRESCOES HELPED ESTABLISH THE MEXICAN MURAL MOV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676520" y="762120"/>
            <a:ext cx="5790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SPAIN FROM 1939 UNTIL HIS DEATH IN 197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ONLY BROTHERS TO BOTH BE OSCAR-NOMINATED FOR AC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30T10:57:49Z</dcterms:created>
  <dc:creator>Jennifer Budzinski</dc:creator>
  <dc:description/>
  <dc:language>en-US</dc:language>
  <cp:lastModifiedBy>Erich Friedman</cp:lastModifiedBy>
  <dcterms:modified xsi:type="dcterms:W3CDTF">2020-08-31T12:14:44Z</dcterms:modified>
  <cp:revision>451</cp:revision>
  <dc:subject/>
  <dc:title>Slide 1</dc:title>
</cp:coreProperties>
</file>