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E46D-1B98-452E-8EC0-EED74009D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A516-A5C0-4FB6-9065-EF3C7C43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0EC-A708-4B68-B8E0-ADD58377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F923-CF29-4790-85F5-674F98FA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5909-5FCB-4671-BEC6-710DDCE4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E1C1-B9A0-4BFB-BFB1-7C65D2D6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82A0-B786-46D4-9C20-041ABA6E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3863-C994-41F7-B00E-ACF84B42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6EB-BA37-4CD3-B6C1-C154A661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5D17-A227-4ACA-BA43-713A23A1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0C31-3BE8-4E52-8EA5-64B97B09C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2E49-8B76-4BA1-BF73-4FA1A6E6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FA18-59E6-4C98-A994-5403587BE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2B5C-2986-464D-A0D9-AABC7916D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236D-A489-47F9-A5A4-D929323F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4101-533B-4387-936C-6A12A516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051D-C43A-482C-A896-E1903AE9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F6F-03BC-4CCB-A905-61736A4C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6BDC-381E-4A70-84C9-D0A0E7EE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F94-A910-4822-B459-4337980E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4238-7171-4C3D-AA26-FC61937F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C131-0205-4455-A9B9-4A6A0629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9BE0-6765-403C-AD9D-BC23DE5A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ARGENTINA FROM 1946 TO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O  BAND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"PUSS IN BOOTS" IN THAT FILM AND THE SHREK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  CUER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68580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TEQUILA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THE MOST NFL  GAMES WITHOUT WINNING A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N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ABBA SONG THAT BEGINS WITH THE LYRICS "CAN YOU HEAR THE DRUMS" WAS THEIR ONLY SINGLE TO SELL 10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VADOR  D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5000"/>
            <a:ext cx="6705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THE PERSISTENCE OF MEM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836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GO  RI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'S LARGE FRESCOES HELPED ESTABLISH THE MEXICAN MURAL MOV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76520" y="762120"/>
            <a:ext cx="579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UNTIL HIS DEATH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"PUSS IN BOOTS" IN THAT FILM AND THE SHREK FRANCHI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QUIN  AND  RIVER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AN  PER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ARGENTINA FROM 1946 TO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3434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THAT  CAN  FOLLOW  THE  WORD  "SA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TEQUILA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THE MOST NFL  GAMES WITHOUT WINNING A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ABBA SONG THAT BEGINS WITH THE LYRICS "CAN YOU HEAR THE DRUMS" WAS THEIR ONLY SINGLE TO SELL 10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THE PERSISTENCE OF MEM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'S LARGE FRESCOES HELPED ESTABLISH THE MEXICAN MURAL MOV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UNTIL HIS DEATH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0:57:49Z</dcterms:created>
  <dc:creator>Jennifer Budzinski</dc:creator>
  <dc:description/>
  <dc:language>en-US</dc:language>
  <cp:lastModifiedBy>Erich Friedman</cp:lastModifiedBy>
  <dcterms:modified xsi:type="dcterms:W3CDTF">2020-08-31T12:14:44Z</dcterms:modified>
  <cp:revision>451</cp:revision>
  <dc:subject/>
  <dc:title>Slide 1</dc:title>
</cp:coreProperties>
</file>