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FF3D-D2A2-490A-8654-A2CFDB8A2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6C4D-6BC3-4B49-B56C-15D6068BC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4974-F39B-4572-9011-00A5D9492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DF44-1A31-4ACB-BE34-12537A8C9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9F84-5887-4A0D-A33C-7113BF592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5D3B-6A25-4E96-8C9D-13C8F68F1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9AE5-094B-4DA4-837E-C15198E45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B8E5-6E40-4050-B30A-8E5CC0EE1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7ED5-4C56-48E1-81B1-2C2E9FEFB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C2EF-9D81-468E-B19F-F9A83CAC3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7489-A989-4896-81AB-42441840A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9E83-3A58-44F7-BBA8-9941DD0BA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64B1-E5B8-4811-B79E-0BA1030E2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DFF5-F40F-4D30-8F2A-4081028DE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2247-E010-48E3-9519-CBAEDD817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79A1-D673-4218-9320-C3C1999C5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477A-F9DA-47BB-8654-6624353FF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50CA-E952-4BD1-9D06-990770C80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D99A-955F-4257-9EEE-8302DAD16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1B20-91E9-4A1B-AD2B-823DAA033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73E9-86A4-4E75-9744-AB94E334A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ECD5-DF2A-4C1B-A730-086FBC23A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0B25-C093-4237-AC9B-A0E2702F1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V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5-1970 NBC SHOW STARRED BARBARA EDEN AND LARRY HAG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TV SHOW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RN  NO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7-2013 USA      SHOW STARRED JEFFREY DONOVAN AS A FORMER CIA OPERATIVE WORKING AS A PRIVATE INVESTIGA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X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6-2013 SHOWTIME SERIES STARRED MICHAEL C. HALL AS A SERIAL KILLER WHO KILLS BAD PEOP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. J. HOO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33520" y="762120"/>
            <a:ext cx="80769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2-1986 TV SERIES STARRED WILLIAM SHATNER AS A VETERAN POLICE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E  THE  VIR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2014-2019 CW SERIES DID GINA RODRIGUEZ WIN A GOLDEN GLOBE FOR TV BEST ACTR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OLDEN  GIR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685800"/>
            <a:ext cx="74678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ERIES STARRED BEATRICE ARTHUR, BETTY WHITE, RUE MCCLANAHAN, AND ESTELLE GET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IP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90720" y="762120"/>
            <a:ext cx="71625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4-1967 TV SHOW HAS BEEN CALLED      "THE AQUATIC LASSI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P / T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52560" y="762120"/>
            <a:ext cx="7238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3-2010 FX SHOW FOLLOWED A CUTTING-EDGE ELECTIVE PLASTIC SURGERY CEN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7-2013 USA       SHOW STARRED JEFFREY DONOVAN AS A FORMER CIA OPERATIVE WORKING AS A PRIVATE INVESTIGA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SH  OFF  THE  BO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RRENT ABC SERIES IS THE ONLY SERIES ON NETWORK TV ABOUT AN ASIAN-AMERICAN FAMI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DREAM  OF  JEANN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5-1970 NBC SHOW STARRED BARBARA EDEN AND LARRY HAG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3520" y="4876920"/>
            <a:ext cx="8076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ALL  SET  IN  FLOR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85800" y="76212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TV SHOW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6-2013 SHOWTIME SERIES STARRED MICHAEL C. HALL AS A SERIAL KILLER WHO KILLS BAD PEOP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80880" y="76212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2-1986 TV SERIES STARRED WILLIAM SHATNER AS A VETERAN POLICE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2014-2019 CW SERIES DID GINA RODRIGUEZ WIN A GOLDEN GLOBE FOR TV BEST ACTR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ERIES STARRED BEATRICE ARTHUR, BETTY WHITE, RUE MCCLANAHAN, AND ESTELLE GET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4-1967 TV SHOW HAS BEEN CALLED      "THE AQUATIC LASSI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3-2010 FX SHOW FOLLOWED A CUTTING-EDGE ELECTIVE PLASTIC SURGERY CEN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RRENT ABC SERIES IS THE ONLY SERIES ON NETWORK TV ABOUT AN ASIAN-AMERICAN FAMI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0T13:00:36Z</dcterms:created>
  <dc:creator>Jennifer Budzinski</dc:creator>
  <dc:description/>
  <dc:language>en-US</dc:language>
  <cp:lastModifiedBy>Erich Friedman</cp:lastModifiedBy>
  <dcterms:modified xsi:type="dcterms:W3CDTF">2020-08-31T12:15:08Z</dcterms:modified>
  <cp:revision>449</cp:revision>
  <dc:subject/>
  <dc:title>Slide 1</dc:title>
</cp:coreProperties>
</file>