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1A0B-2733-4E4F-AE57-A913C6021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BE65-15C1-43D9-AE6C-D5BA57279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C121-4A44-4DF4-86AC-06997D47D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1EA1-517A-4E06-B8B1-CB704873B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7C1D-CCCD-43B2-B89B-AB02F4397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19FC-056E-4DA7-8765-30CEDA43A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5DA8-0230-4B92-91A4-98B4C299D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BD06-8C30-4011-9580-3E522B7D0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B498-56EA-4C6A-8AF3-21228DD14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CE3C-BF2C-4FE4-9B20-47981AD74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DBC3-A027-46DC-81EB-00F38C88C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2B75-048C-4CCE-9BEB-5BB2DFAC1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F4BC-AEEB-47B1-82DB-1685FD0C3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5A80-62C3-4AF0-BAF3-22CAA0D48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222C-A2AA-441A-9C70-CA472F774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2452-FFB7-49ED-8298-E6F1CD5E2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CAC0-AA2E-483D-B5CC-F1B2E8B4C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F424-052A-44D5-869E-9F3B09FA6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BECE-9ED2-4100-A71D-87639BD4B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EB66-86DB-4C90-BE98-059ADB140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2CBA-A695-4DD0-B77F-BDA7FB2D5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C788-E0DD-456C-95FF-2CD0A773A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65D9-01A0-4575-B917-703EC21BE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V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5-1970 NBC SHOW STARRED BARBARA EDEN AND LARRY HAG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TV SHOW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N  NO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-2013 USA      SHOW STARRED JEFFREY DONOVAN AS A FORMER CIA OPERATIVE WORKING AS A PRIVATE INVESTIG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X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-2013 SHOWTIME SERIES STARRED MICHAEL C. HALL AS A SERIAL KILLER WHO KILLS BAD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. J. HOO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-1986 TV SERIES STARRED WILLIAM SHATNER AS A VETERAN POLIC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THE  VIR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14-2019 CW SERIES DID GINA RODRIGUEZ WIN A GOLDEN GLOBE FOR TV BEST AC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LDEN 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685800"/>
            <a:ext cx="7467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ERIES STARRED BEATRICE ARTHUR, BETTY WHITE, RUE MCCLANAHAN, AND ESTELLE GET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I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4-1967 TV SHOW HAS BEEN CALLED      "THE AQUATIC LASS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P / T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-2010 FX SHOW FOLLOWED A CUTTING-EDGE ELECTIVE PLASTIC SURGERY CEN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-2013 USA       SHOW STARRED JEFFREY DONOVAN AS A FORMER CIA OPERATIVE WORKING AS A PRIVATE INVESTIG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SH  OFF  THE  BO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ABC SERIES IS THE ONLY SERIES ON NETWORK TV ABOUT AN ASIAN-AMERICAN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DREAM  OF  JEAN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5-1970 NBC SHOW STARRED BARBARA EDEN AND LARRY HAG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LL  SET  IN  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TV SHOW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-2013 SHOWTIME SERIES STARRED MICHAEL C. HALL AS A SERIAL KILLER WHO KILLS BAD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-1986 TV SERIES STARRED WILLIAM SHATNER AS A VETERAN POLIC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14-2019 CW SERIES DID GINA RODRIGUEZ WIN A GOLDEN GLOBE FOR TV BEST ACT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ERIES STARRED BEATRICE ARTHUR, BETTY WHITE, RUE MCCLANAHAN, AND ESTELLE GET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4-1967 TV SHOW HAS BEEN CALLED      "THE AQUATIC LASS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-2010 FX SHOW FOLLOWED A CUTTING-EDGE ELECTIVE PLASTIC SURGERY CEN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ABC SERIES IS THE ONLY SERIES ON NETWORK TV ABOUT AN ASIAN-AMERICAN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0T13:00:36Z</dcterms:created>
  <dc:creator>Jennifer Budzinski</dc:creator>
  <dc:description/>
  <dc:language>en-US</dc:language>
  <cp:lastModifiedBy>Erich Friedman</cp:lastModifiedBy>
  <dcterms:modified xsi:type="dcterms:W3CDTF">2020-08-31T12:15:08Z</dcterms:modified>
  <cp:revision>449</cp:revision>
  <dc:subject/>
  <dc:title>Slide 1</dc:title>
</cp:coreProperties>
</file>