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47A3-145D-4981-BB90-3557FDAF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2271-2BA5-4D8D-84D4-BC1EB4D5C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C6DA-7A8A-494A-A30C-F2CC1963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CD7-05BC-4179-936B-303D37F55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0210-EAAC-44CE-91DF-E465E3B40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BFE6-5A92-40B9-BECE-35EF681B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8FA0-62D6-4368-A370-17C9FBEA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348B-7490-45D5-BD2A-1D6A37325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F18E-2FA4-4656-BE75-CA985D8F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171F-7B7F-4246-A94F-F67A7B3C4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AB15-5C45-43DD-A48A-0BB72B5AF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C4DA-051B-4E9A-9CD2-0F44B412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775E-37F7-4F1F-9BCF-11FBC11E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26A4-69F4-4B4A-95A6-724A05D97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BD9D-09FC-4AEC-998E-99FE96E16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F04E-C85F-4D7B-B27D-C229B701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6C8F-D9C2-47A0-807F-985649D2D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AC2-B6E0-4E1C-8EE1-137ABCA1A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5CFE-4C96-49E8-A7FC-E46DCBF9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BD2D-09C8-4312-AB66-C111FC03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A132-DC39-4115-9CFF-8F43F9C7A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ADBB-322D-44B5-B78B-3D6DE40AC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E19B-4FD8-40CF-B710-5FF1CC11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1970 NBC SHOW STARRED BARBARA EDEN AND LARRY HA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  NO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-2013 USA      SHOW STARRED JEFFREY DONOVAN AS A FORMER CIA OPERATIVE WORKING AS A PRIVATE INVESTIG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X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3 SHOWTIME SERIES STARRED MICHAEL C. HALL AS A SERIAL KILLER WHO KILLS BAD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. J. HO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6 TV SERIES STARRED WILLIAM SHATNER AS A VETERAN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THE  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4-2019 CW SERIES DID GINA RODRIGUEZ WIN A GOLDEN GLOBE FOR TV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LDEN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68580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STARRED BEATRICE ARTHUR, BETTY WHITE, RUE MCCLANAHAN, AND ESTELLE GET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-1967 TV SHOW HAS BEEN CALLED      "THE AQUATIC LASS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P / T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-2010 FX SHOW FOLLOWED A CUTTING-EDGE ELECTIVE PLASTIC SURGERY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-2013 USA       SHOW STARRED JEFFREY DONOVAN AS A FORMER CIA OPERATIVE WORKING AS A PRIVATE INVESTIG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  OFF  THE  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ABC SERIES IS THE ONLY SERIES ON NETWORK TV ABOUT AN ASIAN-AMERICAN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DREAM  OF  JEAN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1970 NBC SHOW STARRED BARBARA EDEN AND LARRY HA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SET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3 SHOWTIME SERIES STARRED MICHAEL C. HALL AS A SERIAL KILLER WHO KILLS BAD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6 TV SERIES STARRED WILLIAM SHATNER AS A VETERAN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4-2019 CW SERIES DID GINA RODRIGUEZ WIN A GOLDEN GLOBE FOR TV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STARRED BEATRICE ARTHUR, BETTY WHITE, RUE MCCLANAHAN, AND ESTELLE GET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-1967 TV SHOW HAS BEEN CALLED      "THE AQUATIC LASS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-2010 FX SHOW FOLLOWED A CUTTING-EDGE ELECTIVE PLASTIC SURGERY CE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ABC SERIES IS THE ONLY SERIES ON NETWORK TV ABOUT AN ASIAN-AMERICAN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0T13:00:36Z</dcterms:created>
  <dc:creator>Jennifer Budzinski</dc:creator>
  <dc:description/>
  <dc:language>en-US</dc:language>
  <cp:lastModifiedBy>Erich Friedman</cp:lastModifiedBy>
  <dcterms:modified xsi:type="dcterms:W3CDTF">2020-08-31T12:15:08Z</dcterms:modified>
  <cp:revision>449</cp:revision>
  <dc:subject/>
  <dc:title>Slide 1</dc:title>
</cp:coreProperties>
</file>