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BCE-9C2D-4D04-9323-77802F61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12F2-953B-4444-9EAC-7F36D166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7B7-2F1E-4F10-83A3-AB659580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259E-165C-4034-B49A-FCE7B88C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B16-35ED-4FF4-BF00-99A32577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D45-D037-434F-989B-DC3FE312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908-9554-489F-B5E5-8ECBB4AA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D6F-3A95-444A-94E1-207899BD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91D9-EFD4-4B7E-8735-B7018A56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8F3-E5C7-4AB2-AE15-D1707478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AB1-86CC-4217-8603-276EBE12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4DD-45FB-4210-82AD-75391A3E5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EFA-F138-44B3-BF64-F17F4389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3256-2402-4F48-9213-03C7B7A5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771-050F-4F2B-AE91-4FB63879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D254-E5CA-4E66-A395-91FFBFAD5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AB08-44E5-4976-A6D2-D11B2D03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E94-3E8F-4C81-B2DD-5BB9C4E0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0823-8784-4AD6-BCBC-DEB8F9AE0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4CB-FA62-4927-9B9F-05DB21F0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DF3-30AD-4E35-B33A-1C6D6CBD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670B-0A2D-448E-B55D-E8CEFF37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910-5483-4B71-BCC2-7F3A4898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TA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C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U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57160" y="4876920"/>
            <a:ext cx="742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  L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ED  IN  THE  FILM  "THE  EXPENDABLE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2:15:25Z</dcterms:modified>
  <cp:revision>463</cp:revision>
  <dc:subject/>
  <dc:title>Slide 1</dc:title>
</cp:coreProperties>
</file>