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AB71-B494-4C94-956B-A3AFD111E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BD0E-1095-4F07-803E-63280EE31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0FE0-040A-46A0-8651-A0325629F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1BF7-4BD2-4B9A-9853-D9A25317B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2FE2-16DC-48AF-A0BD-1D28872D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9EA5-E458-474C-A137-2A07E8F9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644D-8B2A-49BF-8FDA-F251015AC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3012-0BB9-4605-8A24-497C4B19B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567B-CF2B-4247-88E3-AF041B1D6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6A47-456B-440A-9FBD-94DE7216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A8AC-9A68-4602-975B-99918656D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ECF9-D5FB-4B4C-913E-2034BF67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FD68-B793-49F6-949A-7FC0B279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D7F4-D1E4-4F00-B1B5-7D014565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98D0-1FEF-403F-B2E1-FC8F909C1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F087-B808-434A-9739-EE6681748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1412-4E04-483B-9192-6962CC373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EA31-FA5E-4EB5-87D1-D82C3C0EA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B65D-7F15-4C5F-8924-3299879D8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850F-155A-4E37-9E01-1DE984A8C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51A9-75C1-4032-9369-FB805193C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88A0-1894-4525-B984-9DED9AEA7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C985-5E0B-49E4-864C-24AF0839D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FILMS "THE PUNISHER", "THE PEACEKEEPER", AND "THE DEFE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  STAL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19120" y="762120"/>
            <a:ext cx="63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DEMOLITION MAN" AND "CLIFFHA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US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43040" y="762120"/>
            <a:ext cx="7657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WENT BY THE NICKNAME "STONE C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STAT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TRANSPOR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CR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FOOTBALL PLAYER NOW HOSTS "AMERICA'S GOT TAL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U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BOXER WON A GOLDEN GLOBE AWARD FOR HIS PERFORMANCE IN "THE WREST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57160" y="4876920"/>
            <a:ext cx="742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PRESIDENT'S COUNCIL ON PHYSICAL FITNESS BEFORE HE BECAME GOVERNOR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47600" y="762120"/>
            <a:ext cx="704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5 "DIE HARD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DEMOLITION MAN" AND "CLIFFHAN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T  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PLAYED THE VILLAIN IN "LETHAL WEAPON 4" AND "THE MUMMY: TOMB OF THE DRAGON EMPER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  LUNDG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FILMS "THE PUNISHER", "THE PEACEKEEPER", AND "THE DEFE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267080"/>
            <a:ext cx="5790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RED  IN  THE  FILM  "THE  EXPENDABLE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WENT BY THE NICKNAME "STONE C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TRANSPOR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FOOTBALL PLAYER NOW HOSTS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BOXER WON A GOLDEN GLOBE AWARD FOR HIS PERFORMANCE IN "THE WREST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PRESIDENT'S COUNCIL ON PHYSICAL FITNESS BEFORE HE BECAME GOVERNOR OF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5 "DIE HARD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PLAYED THE VILLAIN IN "LETHAL WEAPON 4" AND "THE MUMMY: TOMB OF THE DRAGON EMPER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8-31T12:15:25Z</dcterms:modified>
  <cp:revision>463</cp:revision>
  <dc:subject/>
  <dc:title>Slide 1</dc:title>
</cp:coreProperties>
</file>