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D0EC-2B24-4878-88A9-8D52A15D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B88-BA9A-4440-A109-C7D829C5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1883-E7E7-42F0-882B-DDEA9E58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C2A0-22AA-4CBC-80B2-C693AF01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E4F3-9673-49C2-9977-891409A7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4EBD-0A3B-4672-AB60-184C21B4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2A2-ED9A-411F-B0AC-88890C54F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2E3D-F771-4CEC-8F02-4A410072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26AA-8F68-4DEE-8713-645A4D57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959-7DDB-4540-BBAA-9FB33F99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D4F-D03F-4727-AB86-B3C778AD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76A0-5744-483B-94A5-594A7201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6C19-E918-4DBE-A8C1-B517E954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54A-E18D-418A-8F96-491A3CC2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BD2-F824-4364-B245-E88E06853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AD17-AAA3-4FBE-8697-1CD5739E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AC05-8301-4EC3-88B7-402CD9D1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131-5E7F-4F00-92B5-3F513098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C9AA-5FDA-4008-B56A-C2B9A3AD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1E0-6481-4625-9A64-AAF55BAE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2A3F-4C9B-4B85-9436-F48C4A1B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DC5B-A2E6-45B3-A17D-C19EF1117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2A3A-0C7F-4FD9-A947-81D2FC06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FILMS "THE PUNISHER", "THE PEACEKEEPER", AND "THE DEFE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19120" y="762120"/>
            <a:ext cx="63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DEMOLITION MAN" AND "CLIFFHA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WENT BY THE NICK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TAT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TRANSPOR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C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FOOTBALL PLAYER NOW HOSTS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U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BOXER WON A GOLDEN GLOBE AWARD FOR HIS PERFORMANCE IN "THE WREST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57160" y="4876920"/>
            <a:ext cx="742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PRESIDENT'S COUNCIL ON PHYSICAL FITNESS BEFORE HE BECAME GOVERNOR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5 "DIE HAR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DEMOLITION MAN" AND "CLIFFHAN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  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PLAYED THE VILLAIN IN "LETHAL WEAPON 4" AND "THE MUMMY: TOMB OF THE DRAGON EMPER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  L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FILMS "THE PUNISHER", "THE PEACEKEEPER", AND "THE DEFE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267080"/>
            <a:ext cx="579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ED  IN  THE  FILM  "THE  EXPENDABLE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WENT BY THE NICK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TRANSPOR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FOOTBALL PLAYER NOW HOSTS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BOXER WON A GOLDEN GLOBE AWARD FOR HIS PERFORMANCE IN "THE WREST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PRESIDENT'S COUNCIL ON PHYSICAL FITNESS BEFORE HE BECAME GOVERNOR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5 "DIE HAR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PLAYED THE VILLAIN IN "LETHAL WEAPON 4" AND "THE MUMMY: TOMB OF THE DRAGON EMPER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2:15:25Z</dcterms:modified>
  <cp:revision>463</cp:revision>
  <dc:subject/>
  <dc:title>Slide 1</dc:title>
</cp:coreProperties>
</file>