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4EF0-B3AB-4D62-AA33-6B2DF76A3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BF46-B3D2-47D0-9415-03EF2ACA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02F-63C8-45B2-9510-2677A544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3564-E732-4B10-9E83-9F0D8948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886B-0AE6-458F-80CD-1DE2E60D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6302-3859-43E9-B434-F5C3DBE7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3EF-380A-4FA2-B236-1919289A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8AC8-A743-47E2-8B41-8EEBF26F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95E4-5BB5-4CAE-B9FF-020325902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7800-61FD-4AF5-B54A-A90FF8C7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7C3-3271-4615-A00D-8DA86A240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677F-B0BE-492B-B13A-8BF9D1A9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A7E6-AD22-47D9-B332-F181490A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8E32-5035-4C92-883C-0CE4F88F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0FD0-A10C-43D1-92EB-CBD20BA2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78C3-1302-4CA9-A9F6-BA76196F5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CB05-96E7-45F1-B986-646EE30D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EDA-3C62-4249-94C4-F85D39BC3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F087-D87D-49DB-A1B2-AA81F208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9ECB-C383-4EEC-870A-0E83EAF74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47C-E8E3-45F5-8BD6-3B9A4B65B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B3F-F5C4-410B-8AB3-D24FD897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95A3-1FED-41EE-8608-EC95647B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"LUCILLE" AND "COWARD OF THE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MAN FROM THE U.K. TO WIN A MAJOR TENNIS SINGLES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OM HANKS IN "SLEEPLESS IN SEATTLE" AND "YOU'VE GOT M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HYSICIST AND MATHEMATICIAN IS GENERALLY ACCEPTED AS THE MOST INFLUENTIAL SCIENTIST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D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05040" y="762120"/>
            <a:ext cx="733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ORTRAYED JAMES BOND IN "THE LIVING DAYLIGHTS" AND "LICENSE TO K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 HOUSE PRESS SECRETARY WAS DISABLED IN THE ASSASSINATION ATTEMPT OF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46000" y="762120"/>
            <a:ext cx="74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36800" y="762120"/>
            <a:ext cx="707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MAN FROM THE U.K. TO WIN A MAJOR TENNIS SINGLES TOURN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ERMIONE IN  THE "HARRY POTTER" FILMS, DESPITE ONLY ACTING IN SCHOOL PLAYS BEFORE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 SANG "LUCILLE" AND "COWARD OF THE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4197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LAST  NAMES  WITH  STARTING  NFL  QUARTER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OM HANKS IN "SLEEPLESS IN SEATTLE" AND "YOU'VE GOT M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HYSICIST AND MATHEMATICIAN IS GENERALLY ACCEPTED AS THE MOST INFLUENTIAL SCIENTIST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ORTRAYED JAMES BOND IN "THE LIVING DAYLIGHTS" AND "LICENSE TO K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 HOUSE PRESS SECRETARY WAS DISABLED IN THE ASSASSINATION ATTEMPT OF RONALD RE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ERMIONE IN   THE "HARRY POTTER" FILMS, DESPITE ONLY ACTING IN SCHOOL PLAYS BEFORE T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2:15:53Z</dcterms:modified>
  <cp:revision>444</cp:revision>
  <dc:subject/>
  <dc:title>Slide 1</dc:title>
</cp:coreProperties>
</file>