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E613-53DD-4D33-8B55-A4355FDE7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0AF6-BC23-40A3-856C-06B108E3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644C-3CCC-4D7D-90FB-89CC69CC3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B47E-D38D-427C-B10C-1EE55E737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1C08-0D11-40F5-83B6-C7F84D164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E644-48D4-40BB-9FEC-61DFBEBF2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38D5-72EA-44CE-A996-A4606870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7B38-B24F-4C31-BA21-D4EC1103E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B8BD-DBF1-4D46-A709-D535C211D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955C-A923-4996-997B-9B6637E03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0CA2-3F8A-430B-8BDB-93B944DA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6F57-556B-4A85-AE9B-5FC37BB31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BE2D-B3D2-4310-B806-7B11DAD0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B04C-5771-4D3D-A170-399D0FDCE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BE17-57D9-4EA1-81C0-9798CC67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F95A-BE69-494B-9CDE-F36C5BA48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DC9C-9F14-476B-A28E-0C4B0CF67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DA6D-275A-4BE5-B0C5-4544144FC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F6D9-3996-4F2E-B6B9-CDE57C19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4B7A-7093-4F9E-AF13-B13D2595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A182-00CE-4212-B567-F217AE1D5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CCE6-9AC8-414C-9E60-EDFD44020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CCB4-47E2-4A80-937B-00E32D463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"LUCILLE" AND "COWARD OF THE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MAN FROM THE U.K. TO WIN A MAJOR TENNIS SINGLES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OM HANKS IN "SLEEPLESS IN SEATTLE" AND "YOU'VE GOT MA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HYSICIST AND MATHEMATICIAN IS GENERALLY ACCEPTED AS THE MOST INFLUENTIAL SCIENTIST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D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05040" y="762120"/>
            <a:ext cx="733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ORTRAYED JAMES BOND IN "THE LIVING DAYLIGHTS" AND "LICENSE TO K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 HOUSE PRESS SECRETARY WAS DISABLED IN THE ASSASSINATION ATTEMPT OF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46000" y="762120"/>
            <a:ext cx="745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36800" y="762120"/>
            <a:ext cx="707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MAN FROM THE U.K. TO WIN A MAJOR TENNIS SINGLES TOURN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ERMIONE IN  THE "HARRY POTTER" FILMS, DESPITE ONLY ACTING IN SCHOOL PLAYS BEFORE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 SANG "LUCILLE" AND "COWARD OF THE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4197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E  LAST  NAMES  WITH  STARTING  NFL  QUARTER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OM HANKS IN "SLEEPLESS IN SEATTLE" AND "YOU'VE GOT MA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HYSICIST AND MATHEMATICIAN IS GENERALLY ACCEPTED AS THE MOST INFLUENTIAL SCIENTIST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0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ORTRAYED JAMES BOND IN "THE LIVING DAYLIGHTS" AND "LICENSE TO K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7760" y="761760"/>
            <a:ext cx="844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 HOUSE PRESS SECRETARY WAS DISABLED IN THE ASSASSINATION ATTEMPT OF RONALD RE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33560" y="761760"/>
            <a:ext cx="707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ERMIONE IN   THE "HARRY POTTER" FILMS, DESPITE ONLY ACTING IN SCHOOL PLAYS BEFORE T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2:15:53Z</dcterms:modified>
  <cp:revision>444</cp:revision>
  <dc:subject/>
  <dc:title>Slide 1</dc:title>
</cp:coreProperties>
</file>