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0321-7BD6-4062-A2F5-464140BDD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E078-9ABF-43B2-8A09-4090DC016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35F9-E4FB-4C1F-948E-7C26C56CE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30B8-3E06-4061-A809-5B42CDC0D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AAD2-8E35-4FA2-8FE5-6101B5573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6E09-0173-447A-B850-44ED9CC5A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A05E-DF2F-4168-AD4D-DF94158EB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664A-2ADD-4228-8C8E-C8CE81BFE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0898-E54A-41CD-91D1-6A60C050A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6C2C-5F3D-4A4F-84AF-9B0CF81E0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F19B-5CAE-4448-AFCD-7237F26DA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0E24-97F8-400A-A07D-27421D90B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F6FC-0504-422F-8A8B-3EF6D653F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A409-065D-4C6A-83E0-8CA8D971F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4537-6467-4357-A2A2-3759C1936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F39A-844C-4A1F-BF97-B1655E856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7899-E4DB-4C42-9D62-461254780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DD3F-7120-442C-B216-E60E46F43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6F6D-4B2A-48D6-9043-FC97CF9B2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6FE7-7BB9-4902-BE73-CD1E4A303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8B36-07EE-44F2-BED5-338C581DC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EE96-8C62-409D-B418-A67D7AA3F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DBF0-8366-4DDB-A0C8-8F7CB07A9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76440" y="761760"/>
            <a:ext cx="7791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SANG "LUCILLE" AND "COWARD OF THE COUN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04880" y="762120"/>
            <a:ext cx="773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MAN FROM THE U.K. TO WIN A MAJOR TENNIS SINGLES TOURN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2666880" y="4952880"/>
            <a:ext cx="381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G  RY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99880" y="762120"/>
            <a:ext cx="8542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TOM HANKS IN "SLEEPLESS IN SEATTLE" AND "YOU'VE GOT MAI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AAC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HYSICIST AND MATHEMATICIAN IS GENERALLY ACCEPTED AS THE MOST INFLUENTIAL SCIENTIST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OTHY  DA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05040" y="762120"/>
            <a:ext cx="7333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ORTRAYED JAMES BOND IN "THE LIVING DAYLIGHTS" AND "LICENSE TO KI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07880" y="762120"/>
            <a:ext cx="8328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ITE HOUSE PRESS SECRETARY WAS DISABLED IN THE ASSASSINATION ATTEMPT OF RONALD REA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ROW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46000" y="762120"/>
            <a:ext cx="7452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U.S. DURING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36800" y="762120"/>
            <a:ext cx="7070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HOST A LATE NIGHT NETWORK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8480" y="762120"/>
            <a:ext cx="754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MAN FROM THE U.K. TO WIN A MAJOR TENNIS SINGLES TOURN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MA  WA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99960" y="762120"/>
            <a:ext cx="8344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ERMIONE IN  THE "HARRY POTTER" FILMS, DESPITE ONLY ACTING IN SCHOOL PLAYS BEFORE T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NY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1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 SANG "LUCILLE" AND "COWARD OF THE COUN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419720"/>
            <a:ext cx="8076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E  LAST  NAMES  WITH  STARTING  NFL  QUARTER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TOM HANKS IN "SLEEPLESS IN SEATTLE" AND "YOU'VE GOT MAI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HYSICIST AND MATHEMATICIAN IS GENERALLY ACCEPTED AS THE MOST INFLUENTIAL SCIENTIST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0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ORTRAYED JAMES BOND IN "THE LIVING DAYLIGHTS" AND "LICENSE TO KI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7760" y="761760"/>
            <a:ext cx="8447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ITE HOUSE PRESS SECRETARY WAS DISABLED IN THE ASSASSINATION ATTEMPT OF RONALD REA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U.S. DURING W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33560" y="761760"/>
            <a:ext cx="707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HOST A LATE NIGHT NETWORK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53520" y="762120"/>
            <a:ext cx="8434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ERMIONE IN   THE "HARRY POTTER" FILMS, DESPITE ONLY ACTING IN SCHOOL PLAYS BEFORE T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08-31T12:15:53Z</dcterms:modified>
  <cp:revision>444</cp:revision>
  <dc:subject/>
  <dc:title>Slide 1</dc:title>
</cp:coreProperties>
</file>