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D626-9E25-4CF3-AD52-EECC1B5EC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D625-2631-4519-87EB-CBB1C18EC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A9B6-F070-40F5-B2F4-0F3D438BF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7777-EB34-4C35-9498-41C50E410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A023-B991-4112-8512-B4393BCB7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C18F-5FCC-4659-B429-7327FBAAB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6788-D474-4E29-9EEF-985A157C0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FAB0-5885-4BE4-9DA2-7CF11AE35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285B-7265-4232-B14D-3203692E4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9DF7-32F8-4C42-9219-262417363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42A6-5B3D-42FB-88B0-E1A79A228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22061-79F1-44A0-9699-B945EDBD7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1A8E-23F0-4CFF-BA72-7C9876B43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A84D-4010-4AB8-9766-C3F76F6CA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9435-C0C3-44FE-B82F-143BF262E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E4CA-57DF-45E9-B920-67E66CCF4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A714-B589-4847-8B44-84A18F0CD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5DCE-29E6-4DA8-B499-D24B73169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DCE68-984D-4E38-AFF3-3469E2F1C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12F5-738F-4E48-9626-898427600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3152-2ED0-47EB-B353-26CF501F5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55C4-F90F-4287-95C8-615C07564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0537-1536-4E18-9F35-361C384B6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IS MADE FROM UNCOOKED PORK AND VEAL, SEASONED WITH GARLIC, RED WINE, AND PEPPER, AND THEN DRIED AND CUR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  DEE  MESS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COUNTRY ARTIST HAD SIX #1 HITS INCLUDING "I'M ALRIGHT", "THAT'S THE WAY", AND "MY GIVE A DAMN'S BUST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T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EADING AMERICAN MAGAZINE FOR BILINGUAL, BICULTURAL HISPANIC WOM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YRACUSE  O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N'S COLLEGE BASKETBALL TEAM HOLDS THE ACTIVE RECORD FOR CONSECUTIVE WINNING SEASONS AT 4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ROUD  OF  TUR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03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POSED BURIAL CLOTH OF JESUS HAS BEEN CARBON DATED TO 1400 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ORIDA CITY HAS MORE GOLF COURSES PER CAPITA THAN ANY OTHER CITY IN THE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RRICANE  FLO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219320" y="762120"/>
            <a:ext cx="67053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RGE STORM WREAKED HAVOC ON THE CAROLINAS IN SEPTEMBER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ERCHANT  OF  VEN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AKESPEARE PLAY FEATURES THE CHARACTER OF SHYLOCK, THE JEWISH MONEYLEN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COUNTRY ARTIST HAD SIX #1 HITS INCLUDING "I'M ALRIGHT", "THAT'S THE WAY", AND "MY GIVE A DAMN'S BUST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76520" y="4343400"/>
            <a:ext cx="5790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EN  IN  ROME,  DO  AS  THE  ROMANS 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95360" y="76212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COMMON PHRASE ORIGINATED WITH ST. AMBROSE, WHO FASTED IN A CITY HE WAS VISITING BECAUSE EVERYONE ELSE THERE WAS DOING S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NOA  SALA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IS MADE FROM UNCOOKED PORK AND VEAL, SEASONED WITH GARLIC, RED WINE, AND PEPPER, AND THEN DRIED AND CUR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876920"/>
            <a:ext cx="8076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CITIES  IN  ITA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EADING AMERICAN MAGAZINE FOR BILINGUAL, BICULTURAL HISPANIC WOM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33520" y="762120"/>
            <a:ext cx="8076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N'S COLLEGE BASKETBALL TEAM HOLDS THE ACTIVE RECORD FOR CONSECUTIVE WINNING SEASONS AT 4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POSED BURIAL CLOTH OF JESUS HAS BEEN CARBON DATED TO 1400 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ORIDA CITY HAS MORE GOLF COURSES PER CAPITA THAN ANY OTHER CITY IN THE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RGE STORM WREAKED HAVOC ON THE CAROLINAS IN SEPTEMBER 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AKESPEARE PLAY FEATURES THE CHARACTER OF SHYLOCK, THE JEWISH MONEYLEN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COMMON PHRASE ORIGINATED WITH ST. AMBROSE, WHO FASTED IN A CITY HE WAS VISITING BECAUSE EVERYONE ELSE THERE WAS DOING S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2T12:01:37Z</dcterms:created>
  <dc:creator>Jennifer Budzinski</dc:creator>
  <dc:description/>
  <dc:language>en-US</dc:language>
  <cp:lastModifiedBy>Erich Friedman</cp:lastModifiedBy>
  <dcterms:modified xsi:type="dcterms:W3CDTF">2020-08-31T12:16:16Z</dcterms:modified>
  <cp:revision>451</cp:revision>
  <dc:subject/>
  <dc:title>Slide 1</dc:title>
</cp:coreProperties>
</file>