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F13B-AD49-4C15-A067-DA1522316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EC06-C637-49FF-99C2-855DB90E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B508-8AF3-4F63-8640-17DE0FC6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E4D1-7805-4721-BA3B-D3A81EF0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EB0C-3506-4ED3-A253-D0CF65E7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9FD8-1AC0-494D-BBAF-16F6ABFA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242D-7D58-4090-89B3-8001F036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E7BA-DC6C-41DC-9157-DE0C71C4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B99-E360-4043-A396-3B29CBA4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248D-F131-4D4E-9268-503C31170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32F-C670-4B6B-A3F3-CEB8ACDD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C908-B742-45C6-B202-E6CEB14AC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EE5-5568-420E-8365-9746726BE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E682-6CEF-4710-9883-869BC87A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107-352B-426D-8F0C-3A6A54DF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6679-4B28-4728-9383-16C3CF0E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AF0E-A277-4AB1-9E52-F3377ED6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47C8-1F2E-4896-987A-A4053A85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E2B-61E8-4E04-9366-13A4298DA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9AC-2F46-42C2-8832-DB686DB8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C3B7-2BAC-496F-893E-C7132E8FB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9744-6F0B-40E6-A4BE-60E17E47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8C40-087C-423C-9186-775B69C0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MADE FROM UNCOOKED PORK AND VEAL, SEASONED WITH GARLIC, RED WINE, AND PEPPER, AND THEN DRIED AND CU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  DEE  MESS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HAD SIX #1 HITS INCLUDING "I'M ALRIGHT", "THAT'S THE WAY", AND "MY GIVE A DAMN'S BUS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ADING AMERICAN MAGAZINE FOR BILINGUAL, BICULTURAL HISPANIC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ACUSE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COLLEGE BASKETBALL TEAM HOLDS THE ACTIVE RECORD FOR CONSECUTIVE WINNING SEASONS AT 4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ROUD  OF  TU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03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 BURIAL CLOTH OF JESUS HAS BEEN CARBON DATED TO 1400 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MORE GOLF COURSES PER CAPITA THAN ANY OTHER CITY IN THE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  FLO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STORM WREAKED HAVOC ON THE CAROLINAS IN SEPTEMBER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ERCHANT  OF  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FEATURES THE CHARACTER OF SHYLOCK, THE JEWISH MONEYL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HAD SIX #1 HITS INCLUDING "I'M ALRIGHT", "THAT'S THE WAY", AND "MY GIVE A DAMN'S BUS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IN  ROME,  DO  AS  THE  ROMANS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OA  SAL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MADE FROM UNCOOKED PORK AND VEAL, SEASONED WITH GARLIC, RED WINE, AND PEPPER, AND THEN DRIED AND CU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ITIES  IN 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ADING AMERICAN MAGAZINE FOR BILINGUAL, BICULTURAL HISPANIC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COLLEGE BASKETBALL TEAM HOLDS THE ACTIVE RECORD FOR CONSECUTIVE WINNING SEASONS AT 4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 BURIAL CLOTH OF JESUS HAS BEEN CARBON DATED TO 1400 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MORE GOLF COURSES PER CAPITA THAN ANY OTHER CITY IN THE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STORM WREAKED HAVOC ON THE CAROLINAS IN SEPTEMBER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FEATURES THE CHARACTER OF SHYLOCK, THE JEWISH MONEYL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12:01:37Z</dcterms:created>
  <dc:creator>Jennifer Budzinski</dc:creator>
  <dc:description/>
  <dc:language>en-US</dc:language>
  <cp:lastModifiedBy>Erich Friedman</cp:lastModifiedBy>
  <dcterms:modified xsi:type="dcterms:W3CDTF">2020-08-31T12:16:16Z</dcterms:modified>
  <cp:revision>451</cp:revision>
  <dc:subject/>
  <dc:title>Slide 1</dc:title>
</cp:coreProperties>
</file>