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D446-97E2-4CA4-9578-B90DE05BD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9385-6EDC-4410-9CB5-1CEA8E781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A8BF-4BC3-4F36-82C0-EF3E3572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EA6-3B61-42DB-AE62-E25CA37C7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E8B6-FF55-464F-8135-BDB760EF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D1DB-4E2A-4598-9FE3-063D91605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372C-617A-47F2-BAFC-B0F285828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D509-9A74-422C-9D67-6F950A2C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00B5-8CF7-4B1C-812B-2A9FD468D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62FD-3175-4903-94ED-A517EE63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3412-C3EA-43D5-A403-E4712639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4807-B556-4A6D-ACB4-1823646E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F8D9-FF75-4229-A43D-0B8D5E47E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CC2D-BDA9-4D38-B869-D4B08399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63BF-268E-45BC-A18B-A5F53E9E3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3D66-7F3D-4F2B-9A7A-BFA2CEA6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1792-81FC-4888-86F3-7F2FA4C6E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9C86-545B-4BCB-9523-E5AA1B9D1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6688-0FB3-4CC6-8DC4-4F80CCD54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114D-FA9A-4885-BFF1-FECCC61B1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8B27-0BC5-4FEB-8AA9-060808AE0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F3FE-F864-48BC-98D4-9A4A511BB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D70-ED16-4E08-8F9B-1939E574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MADE FROM UNCOOKED PORK AND VEAL, SEASONED WITH GARLIC, RED WINE, AND PEPPER, AND THEN DRIED AND CU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  DEE  MESS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HAD SIX #1 HITS INCLUDING "I'M ALRIGHT", "THAT'S THE WAY", AND "MY GIVE A DAMN'S BUS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ADING AMERICAN MAGAZINE FOR BILINGUAL, BICULTURAL HISPANIC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RACUSE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COLLEGE BASKETBALL TEAM HOLDS THE ACTIVE RECORD FOR CONSECUTIVE WINNING SEASONS AT 4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ROUD  OF  TU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03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 BURIAL CLOTH OF JESUS HAS BEEN CARBON DATED TO 1400 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MORE GOLF COURSES PER CAPITA THAN ANY OTHER CITY IN THE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  FLO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STORM WREAKED HAVOC ON THE CAROLINAS IN SEPTEMBER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ERCHANT  OF  VE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FEATURES THE CHARACTER OF SHYLOCK, THE JEWISH MONEYL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HAD SIX #1 HITS INCLUDING "I'M ALRIGHT", "THAT'S THE WAY", AND "MY GIVE A DAMN'S BUS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IN  ROME,  DO  AS  THE  ROMANS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OA  SAL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MADE FROM UNCOOKED PORK AND VEAL, SEASONED WITH GARLIC, RED WINE, AND PEPPER, AND THEN DRIED AND CU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ITIES  IN  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ADING AMERICAN MAGAZINE FOR BILINGUAL, BICULTURAL HISPANIC WO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COLLEGE BASKETBALL TEAM HOLDS THE ACTIVE RECORD FOR CONSECUTIVE WINNING SEASONS AT 4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 BURIAL CLOTH OF JESUS HAS BEEN CARBON DATED TO 1400 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MORE GOLF COURSES PER CAPITA THAN ANY OTHER CITY IN THE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STORM WREAKED HAVOC ON THE CAROLINAS IN SEPTEMBER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FEATURES THE CHARACTER OF SHYLOCK, THE JEWISH MONEYL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12:01:37Z</dcterms:created>
  <dc:creator>Jennifer Budzinski</dc:creator>
  <dc:description/>
  <dc:language>en-US</dc:language>
  <cp:lastModifiedBy>Erich Friedman</cp:lastModifiedBy>
  <dcterms:modified xsi:type="dcterms:W3CDTF">2020-08-31T12:16:16Z</dcterms:modified>
  <cp:revision>451</cp:revision>
  <dc:subject/>
  <dc:title>Slide 1</dc:title>
</cp:coreProperties>
</file>