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EF66-D25E-4365-8BFB-395CC7029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9F27-2344-4D32-A998-EA7DAD51B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7EC0-3EE8-4FF2-BFF6-7BA575A08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E675-8E3C-42B1-8DF7-F05AD1F8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E82E-3419-43F4-8F09-EBBC7453C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74C5-09D5-456F-A40A-AA68D77F9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F6C8-AC9D-4622-B9E4-E35F52998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613E-7053-4609-A250-6778D3249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8897-D9C2-462D-AF0C-CD3DF2ECE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AFBE-8C1C-4AA8-908A-9E8942147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E33A-2DB6-4187-927F-F5A771B50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D290-6C54-446E-AE6A-126A27F20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FBB2-40E2-4481-AD0F-C82E1756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8065-B7EE-4C30-B0AA-F226BD4CA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F62B-AE24-4BED-BE8E-D246D916C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9D70-DE81-429C-B038-5C42A9D49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3102-DDD5-4622-BFBA-DDB0D5D2B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0BC8-6149-44F9-B70A-032C4F2DF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684E-62E6-4769-9EA1-90E9FCA2E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AE4B-BCD4-4331-8D07-31C056513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C823-F002-4EF9-B770-909076E65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409C-AEC1-40DD-8B86-0C89A61C2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A635-08B3-446B-9FB4-2BC08D5D2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O THESE AIRCRAFT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747880" cy="16765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"/>
          <p:cNvPicPr/>
          <p:nvPr/>
        </p:nvPicPr>
        <p:blipFill>
          <a:blip r:embed="rId2"/>
          <a:stretch/>
        </p:blipFill>
        <p:spPr>
          <a:xfrm>
            <a:off x="3193920" y="2743200"/>
            <a:ext cx="2756160" cy="16765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27129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09480" y="68580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 DISASTER CAUSED BY AN EARTHQUAKE KILLED MORE THAN 100,000 PEOPLE IN CHINA IN 19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38080" y="68580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-2011 HBO SERIES STARRED BILL PULLMAN AS A POLYGAM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  SP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04920" y="685800"/>
            <a:ext cx="8534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RTESIAN SPRING IN THE WORLD AND THE SITE OF THE OLDEST COMMERCIAL TOURIST ATTRACTION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  (BAREIL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3352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EMALE POP STAR WHO SANG "LOVE SONG", "BRAVE", AND "KING OF ANY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YP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95360" y="68580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MUSICAL STARRING ETHEL MERMAN WAS MADE INTO A 1962 FILM STARRING ROSALIND RUSSELL AND NATALIE W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066680" y="68580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IGMUND FREUD BELIEVE WERE MANIFESTATIONS OF ONE'S DEEPEST DESIRES AND ANXIE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571680" y="6858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DID SARAH MCLACHLAN WRITE ABOUT THE HEROIN OVERDOSE OF THE SMASHING PUMPKINS KEYBOARD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 DISASTER CAUSED BY AN EARTHQUAKE KILLED MORE THAN 100,000 PEOPLE IN CHINA IN 19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33520" y="685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ATOP THE DOME OF THE U.S. CAPITOL BUILDING SINCE 1963 IS KNOWN AS THE STATUE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609480" y="685800"/>
            <a:ext cx="7925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O ALL THESE U.S. AIRCRAFT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747880" cy="1676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"/>
          <p:cNvPicPr/>
          <p:nvPr/>
        </p:nvPicPr>
        <p:blipFill>
          <a:blip r:embed="rId2"/>
          <a:stretch/>
        </p:blipFill>
        <p:spPr>
          <a:xfrm>
            <a:off x="3193920" y="2743200"/>
            <a:ext cx="2756160" cy="16765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271296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1257480" y="434340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LEETWOOD  MAC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-2011 HBO SERIES STARRED BILL PULLMAN AS A POLYGAM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RTESIAN SPRING IN THE WORLD AND THE SITE OF THE OLDEST COMMERCIAL TOURIST ATTRACTION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EMALE POP STAR WHO SANG "LOVE SONG", "BRAVE", AND "KING OF ANY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MUSICAL STARRING ETHEL MERMAN WAS MADE INTO A 1962 FILM STARRING ROSALIND RUSSELL AND NATALIE W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IGMUND FREUD BELIEVE WERE MANIFESTATIONS OF ONE'S DEEPEST DESIRES AND ANXIE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DID SARAH MCLACHLAN WRITE ABOUT THE HEROIN OVERDOSE OF THE SMASHING PUMPKINS KEYBOARD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ATOP THE DOME OF THE U.S. CAPITOL BUILDING SINCE 1963 IS KNOWN AS THE STATUE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19:01:14Z</dcterms:created>
  <dc:creator>Jennifer Budzinski</dc:creator>
  <dc:description/>
  <dc:language>en-US</dc:language>
  <cp:lastModifiedBy>Erich Friedman</cp:lastModifiedBy>
  <dcterms:modified xsi:type="dcterms:W3CDTF">2020-08-31T12:16:36Z</dcterms:modified>
  <cp:revision>456</cp:revision>
  <dc:subject/>
  <dc:title>Slide 1</dc:title>
</cp:coreProperties>
</file>