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2C01-27CB-4AEA-957D-DC7E5020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F5E3-A93A-43FA-9F0E-BA7E50AD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C3F-AD1D-4E7A-9E07-74618AB1F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36F6-F006-47B2-B294-C9272FC8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5658-2F60-40E6-98C7-3208341C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DBDF-A016-4034-A370-D2564882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2CBA-0BBA-4E76-9F1B-85BFAA4E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EA5E-9ED8-43EF-BCD2-0F674844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312D-A42C-436C-BFD9-8ECC65E7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E12-8374-4520-8A6F-15DF5572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030E-44AC-48BE-BD4F-9A6609AA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4EB-18EC-4074-A1B4-7ECDAE18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8B8-01DF-4134-BCE8-B4B6C28FA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EDC5-85FF-46F1-A661-99C7C1622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1D4D-9F45-4E1D-9B3C-2FE5F1A75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77B2-C5AE-4090-AE88-446CD45D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4BEE-A548-42F8-9458-9A065C1A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730-2390-425C-BC6B-81C4CD55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20D-2FA5-4027-9CF3-E94CF660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907F-F3DB-486F-96E8-EEBD7FCD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093-07A1-4D52-B034-F41B0356E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E27D-8C4A-4D44-BA14-CE141DB6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A63A-B785-455A-BD68-8A14FBB8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O THESE AIRCRAF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747880" cy="1676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3193920" y="2743200"/>
            <a:ext cx="2756160" cy="16765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7129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09480" y="68580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 DISASTER CAUSED BY AN EARTHQUAKE KILLED MORE THAN 100,000 PEOPLE IN CHINA IN 19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1 HBO SERIES STARRED BILL PULLMAN AS A POLYGAM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04920" y="6858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RTESIAN SPRING IN THE WORLD AND THE SITE OF THE OLDEST COMMERCIAL TOURIST ATTRACTION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(BAREIL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EMALE POP STAR WHO SANG "LOVE SONG", "BRAVE", AND "KING OF AN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YP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95360" y="68580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MUSICAL STARRING ETHEL MERMAN WAS MADE INTO A 1962 FILM STARRING ROSALIND RUSSELL AND NATALIE 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66680" y="68580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IGMUND FREUD BELIEVE WERE MANIFESTATIONS OF ONE'S DEEPEST DESIRES AND ANX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71680" y="685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DID SARAH MCLACHLAN WRITE ABOUT THE HEROIN OVERDOSE OF THE SMASHING PUMPKINS KEYBOARD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 DISASTER CAUSED BY AN EARTHQUAKE KILLED MORE THAN 100,000 PEOPLE IN CHINA IN 19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685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DOME OF THE U.S. CAPITOL BUILDING SINCE 1963 IS KNOWN AS THE STATU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609480" y="6858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O ALL THESE U.S. AIRCRAF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747880" cy="1676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2"/>
          <a:stretch/>
        </p:blipFill>
        <p:spPr>
          <a:xfrm>
            <a:off x="3193920" y="2743200"/>
            <a:ext cx="2756160" cy="1676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7129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257480" y="43434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EETWOOD  MAC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1 HBO SERIES STARRED BILL PULLMAN AS A POLYGAM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RTESIAN SPRING IN THE WORLD AND THE SITE OF THE OLDEST COMMERCIAL TOURIST ATTRACTION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EMALE POP STAR WHO SANG "LOVE SONG", "BRAVE", AND "KING OF AN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MUSICAL STARRING ETHEL MERMAN WAS MADE INTO A 1962 FILM STARRING ROSALIND RUSSELL AND NATALIE 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IGMUND FREUD BELIEVE WERE MANIFESTATIONS OF ONE'S DEEPEST DESIRES AND ANXIE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DID SARAH MCLACHLAN WRITE ABOUT THE HEROIN OVERDOSE OF THE SMASHING PUMPKINS KEYBOARD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DOME OF THE U.S. CAPITOL BUILDING SINCE 1963 IS KNOWN AS THE STATU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19:01:14Z</dcterms:created>
  <dc:creator>Jennifer Budzinski</dc:creator>
  <dc:description/>
  <dc:language>en-US</dc:language>
  <cp:lastModifiedBy>Erich Friedman</cp:lastModifiedBy>
  <dcterms:modified xsi:type="dcterms:W3CDTF">2020-08-31T12:16:36Z</dcterms:modified>
  <cp:revision>456</cp:revision>
  <dc:subject/>
  <dc:title>Slide 1</dc:title>
</cp:coreProperties>
</file>