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F7616-7FCA-4358-9EBF-7152F7B091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F3FDE-9E69-4B0D-AE15-05104EE7B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F6BC1-B924-474D-9FB8-2855B838F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51B9A-563F-47AE-8B7C-778FB3134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837CB-1611-4BF2-BBEB-0A0F8A658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A91B3-8B52-4042-9821-A457F5D5E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FEC6B-EAE0-402D-B3E1-7025E7870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631ED-6B32-483D-8B92-0691A38FC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38463-E21F-4DC7-B0D2-D44F76F23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34A9C-5B11-4F0A-B5FB-CC718E112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7B158-3973-4909-BE44-6B3B08CD0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C351B-6622-4E08-ACAF-E674B4133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AA33C-5841-4EB0-8694-656B91B89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CABFA-F009-49E1-B2C6-F24E7FA7E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BB779-DD6C-4F3B-9A51-E24F51051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CEC5C-3924-4185-92D4-F717AB6E4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63BE3-4B59-436C-9B30-180C28AF4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10FF1-F5E8-48C8-BAF3-AB412F4C2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4EC19-5DEF-4350-9D6B-8B4FC0CA3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A56F7-D4B9-4AD4-8B80-8BDAF2C2A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DBDEF-ADDF-4C97-B655-4C73A5378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FE591-DA6F-47CC-A7C2-DB565EEA1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607FA-8C1B-46E7-B6E8-AFBE3C712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95280" y="1371240"/>
            <a:ext cx="6553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ICKNAME DO THESE AIRCRAFT HAV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3" descr=""/>
          <p:cNvPicPr/>
          <p:nvPr/>
        </p:nvPicPr>
        <p:blipFill>
          <a:blip r:embed="rId1"/>
          <a:stretch/>
        </p:blipFill>
        <p:spPr>
          <a:xfrm>
            <a:off x="228600" y="2743200"/>
            <a:ext cx="2747880" cy="167652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4" descr=""/>
          <p:cNvPicPr/>
          <p:nvPr/>
        </p:nvPicPr>
        <p:blipFill>
          <a:blip r:embed="rId2"/>
          <a:stretch/>
        </p:blipFill>
        <p:spPr>
          <a:xfrm>
            <a:off x="3193920" y="2743200"/>
            <a:ext cx="2756160" cy="167652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5" descr=""/>
          <p:cNvPicPr/>
          <p:nvPr/>
        </p:nvPicPr>
        <p:blipFill>
          <a:blip r:embed="rId3"/>
          <a:stretch/>
        </p:blipFill>
        <p:spPr>
          <a:xfrm>
            <a:off x="6172200" y="2743200"/>
            <a:ext cx="271296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ND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609480" y="68580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TURAL DISASTER CAUSED BY AN EARTHQUAKE KILLED MORE THAN 100,000 PEOPLE IN CHINA IN 192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G 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838080" y="68580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6-2011 HBO SERIES STARRED BILL PULLMAN AS A POLYGAM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LVER  SPR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304920" y="685800"/>
            <a:ext cx="85341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ARTESIAN SPRING IN THE WORLD AND THE SITE OF THE OLDEST COMMERCIAL TOURIST ATTRACTION IN FLORI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RA  (BAREILL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533520" y="68580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FEMALE POP STAR WHO SANG "LOVE SONG", "BRAVE", AND "KING OF ANYTH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YPS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495360" y="685800"/>
            <a:ext cx="81532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9 MUSICAL STARRING ETHEL MERMAN WAS MADE INTO A 1962 FILM STARRING ROSALIND RUSSELL AND NATALIE WOO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E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1066680" y="685800"/>
            <a:ext cx="7010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SIGMUND FREUD BELIEVE WERE MANIFESTATIONS OF ONE'S DEEPEST DESIRES AND ANXIET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G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571680" y="68580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T SONG DID SARAH MCLACHLAN WRITE ABOUT THE HEROIN OVERDOSE OF THE SMASHING PUMPKINS KEYBOARD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TURAL DISASTER CAUSED BY AN EARTHQUAKE KILLED MORE THAN 100,000 PEOPLE IN CHINA IN 192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1676520" y="4876920"/>
            <a:ext cx="5790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EED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533520" y="685800"/>
            <a:ext cx="80769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TATUE ATOP THE DOME OF THE U.S. CAPITOL BUILDING SINCE 1963 IS KNOWN AS THE STATUE OF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AGONF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2"/>
          <p:cNvSpPr/>
          <p:nvPr/>
        </p:nvSpPr>
        <p:spPr>
          <a:xfrm>
            <a:off x="609480" y="685800"/>
            <a:ext cx="792504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ICKNAME DO ALL THESE U.S. AIRCRAFT HA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"/>
          <p:cNvPicPr/>
          <p:nvPr/>
        </p:nvPicPr>
        <p:blipFill>
          <a:blip r:embed="rId1"/>
          <a:stretch/>
        </p:blipFill>
        <p:spPr>
          <a:xfrm>
            <a:off x="228600" y="2743200"/>
            <a:ext cx="2747880" cy="167652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4" descr=""/>
          <p:cNvPicPr/>
          <p:nvPr/>
        </p:nvPicPr>
        <p:blipFill>
          <a:blip r:embed="rId2"/>
          <a:stretch/>
        </p:blipFill>
        <p:spPr>
          <a:xfrm>
            <a:off x="3193920" y="2743200"/>
            <a:ext cx="2756160" cy="167652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5" descr=""/>
          <p:cNvPicPr/>
          <p:nvPr/>
        </p:nvPicPr>
        <p:blipFill>
          <a:blip r:embed="rId3"/>
          <a:stretch/>
        </p:blipFill>
        <p:spPr>
          <a:xfrm>
            <a:off x="6172200" y="2743200"/>
            <a:ext cx="2712960" cy="167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3"/>
          <p:cNvSpPr/>
          <p:nvPr/>
        </p:nvSpPr>
        <p:spPr>
          <a:xfrm>
            <a:off x="1257480" y="4343400"/>
            <a:ext cx="6629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FLEETWOOD  MAC  SO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6-2011 HBO SERIES STARRED BILL PULLMAN AS A POLYGAMI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04920" y="762120"/>
            <a:ext cx="85341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ARTESIAN SPRING IN THE WORLD AND THE SITE OF THE OLDEST COMMERCIAL TOURIST ATTRACTION IN FLORI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FEMALE POP STAR WHO SANG "LOVE SONG", "BRAVE", AND "KING OF ANYTHI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9 MUSICAL STARRING ETHEL MERMAN WAS MADE INTO A 1962 FILM STARRING ROSALIND RUSSELL AND NATALIE WOO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SIGMUND FREUD BELIEVE WERE MANIFESTATIONS OF ONE'S DEEPEST DESIRES AND ANXIET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T SONG DID SARAH MCLACHLAN WRITE ABOUT THE HEROIN OVERDOSE OF THE SMASHING PUMPKINS KEYBOARDI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TATUE ATOP THE DOME OF THE U.S. CAPITOL BUILDING SINCE 1963 IS KNOWN AS THE STATUE OF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2T19:01:14Z</dcterms:created>
  <dc:creator>Jennifer Budzinski</dc:creator>
  <dc:description/>
  <dc:language>en-US</dc:language>
  <cp:lastModifiedBy>Erich Friedman</cp:lastModifiedBy>
  <dcterms:modified xsi:type="dcterms:W3CDTF">2020-08-31T12:16:36Z</dcterms:modified>
  <cp:revision>456</cp:revision>
  <dc:subject/>
  <dc:title>Slide 1</dc:title>
</cp:coreProperties>
</file>