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4664A-5D3D-491E-95EA-1EBC0B5BBB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768C3-B846-41C8-B2B8-B45A9817E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24BC8-82F8-46F1-91B3-4CF280487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27CE3-7A0F-49A7-9365-E5822098F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5611B-20BC-486B-9F26-51DDB9CA5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4B6E4-D4EC-4A9B-93B6-2165ACF79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1E8F8-ACA1-4701-80DA-F354793C8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63477-D65A-42DE-AD86-D7288DA41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C3DA3-020F-4BDB-8D1B-0BEFC2B6A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E1E97-24FB-41EC-A8F0-0C649E4C8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4A1F6-893F-47EF-B945-4D6E37E02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8C61A-F8EF-4571-9F3D-5D2DB9C6A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E2F51-F4CA-4F13-A6FF-7B35012B3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57155-1B2A-403F-A045-EDBFB95CB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6A890-597E-437C-AD92-A8F6D3EAA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ED795-3880-4E23-9C93-A8916F960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A3AB2-2D68-4FF0-9FC3-E77D3C4A3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7E41C-5F80-41D4-BE01-003D99720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E8B81-7BC1-4FA2-B7F3-0EC9A7476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4036F-EC6D-4F51-8E82-C783CAE7B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01B84-5710-41AC-87D4-AB35AE8DB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25352-CDB3-47B8-BB67-B1CC401DC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039DC-B7C9-44E7-AB82-C9F6A5B1F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609120" y="10666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LL IN THE BLANK SONGS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TAND AND 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ADAM AND THE ANT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ME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OM PETTY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V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95360" y="762120"/>
            <a:ext cx="81532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WOMAN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ELECTRIC LIGHT ORCHESTR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WAYS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CARLOS SANTAN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19040" y="762120"/>
            <a:ext cx="8305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LONGEST 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BILLY JOE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IS ON MY SIDE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ROLLING STON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8808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L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HUNGRY LIKE THE 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DURAN DURA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HE 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SHAKIR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33804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ONLY KNOWS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BEACH BOY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ANK ___ I'M A COUNTRY BOY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OHN  DENVE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U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90440" y="762120"/>
            <a:ext cx="8763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DON'T TAKE YOUR ___  TO TOWN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OHNNY CASH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OD &amp; ___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LYNYRD SKYNYR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228600" y="4876920"/>
            <a:ext cx="8763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19040" y="760320"/>
            <a:ext cx="838224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THE LINE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AEROSMITH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IN, LOSE OR 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ALLMAN BROTHERS BAN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V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00280" y="762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YMPATHY FOR THE 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ROLLING STON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IN DISGUISE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ELVIS PRESLE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WOMAN"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ELECTRIC LIGHT ORCHESTRA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WAYS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CARLOS SANTANA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R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00280" y="747720"/>
            <a:ext cx="7543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SHORTEST 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METALLIC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FINAL 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R.E.M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33520" y="762120"/>
            <a:ext cx="8076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TAND AND 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ADAM AND THE ANT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ME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OM PETT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43080" y="487692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RE  WORDS  BACKW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LONGEST 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BILLY JOEL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IS ON MY SIDE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ROLLING STONE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HUNGRY LIKE THE 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DURAN DURA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HE 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SHAKIR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266760" y="76176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ONLY KNOWS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BEACH BOY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ANK ___ I'M A COUNTRY BOY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OHN  DENVER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52280" y="762120"/>
            <a:ext cx="88394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DON'T TAKE YOUR ___  TO TOWN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OHNNY CASH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OD &amp; ___"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LYNYRD SKYNYRD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THE LINE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AEROSMITH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IN, LOSE OR 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ALLMAN BROTHERS BAND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YMPATHY FOR THE 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ROLLING STONE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IN DISGUISE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ELVIS PRESLEY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SHORTEST 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METALLICA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FINAL 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R.E.M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7T19:50:13Z</dcterms:created>
  <dc:creator>Jennifer Budzinski</dc:creator>
  <dc:description/>
  <dc:language>en-US</dc:language>
  <cp:lastModifiedBy>Erich Friedman</cp:lastModifiedBy>
  <dcterms:modified xsi:type="dcterms:W3CDTF">2020-08-24T13:47:00Z</dcterms:modified>
  <cp:revision>394</cp:revision>
  <dc:subject/>
  <dc:title>Slide 1</dc:title>
</cp:coreProperties>
</file>