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4D3C-799B-4287-A033-012A31354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EBE5-60D9-4209-A6AC-E9F5DDEFC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C376-07B6-4060-9EF9-272A901A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D267-D87E-451F-8592-23B5FAF4D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6278-BB5D-4279-8080-383F6D685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3A69-C176-47F9-AEB3-9909E21FA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FCF1-19D8-4977-89D8-F996EC0A7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97A6-36D0-4323-9F68-BE5BD63A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6330-193C-424B-87A2-F2D275A2F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A964-EE22-4C91-87BF-FA6EC3EFF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E5FA-2B50-48A7-8270-F1CB5846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7822-3F3E-4B4C-A9B5-FB568232E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4AED-25AE-4419-B6CA-1D2E37375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17BB-E94B-41A9-830E-8069B72C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9D7D-6578-48B6-9A5F-1D696702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B8A8-D3FC-4FD2-89DD-66BE74E6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D99F-4101-4993-88C6-812DA730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31C3-B316-4E91-B2C7-3CC130B0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5C49-1693-4368-9FB2-E2CF6A512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1D8D-751C-4E10-80D5-540BB5F5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8D24-0297-4BFA-8F99-024789589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8F27-739E-410F-87A1-915D30FDD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D26A-0DFE-48B6-B455-2C289572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AND AND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DAM AND THE AN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OMAN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AY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RLOS SANTA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EST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S ON MY SID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UNGRY LIKE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URAN DUR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HAKI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3804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NLY KNOW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CH BOY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___ I'M A COUNTRY BO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 DENV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TAKE YOUR ___  TO TOW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D &amp;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0320"/>
            <a:ext cx="8382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HE LI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EROSMIT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, LOSE OR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LLMAN BROTHERS BA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YMPATHY FOR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DISGUIS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OMAN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WAY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ARLOS SANTA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477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HORTEST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ETALL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NAL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.E.M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AND AND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DAM AND THE A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WORDS  BACK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EST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S ON MY SID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UNGRY LIKE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URAN DUR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HAKI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NLY KNOW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CH BOY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___ I'M A COUNTRY BO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 DENV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TAKE YOUR ___  TO TOW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NY CAS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D &amp;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HE LI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EROSMIT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, LOSE OR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LLMAN BROTHERS BA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YMPATHY FOR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DISGUIS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HORTEST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ETALLIC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NAL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.E.M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19:50:13Z</dcterms:created>
  <dc:creator>Jennifer Budzinski</dc:creator>
  <dc:description/>
  <dc:language>en-US</dc:language>
  <cp:lastModifiedBy>Erich Friedman</cp:lastModifiedBy>
  <dcterms:modified xsi:type="dcterms:W3CDTF">2020-08-24T13:47:00Z</dcterms:modified>
  <cp:revision>394</cp:revision>
  <dc:subject/>
  <dc:title>Slide 1</dc:title>
</cp:coreProperties>
</file>