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4A27-B2D9-4AB0-938D-C2A2470E4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537D-222E-4F3E-AB23-5D915CB5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D868-353E-40FA-8977-82E011521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F913-F244-46EB-B666-C4352DC2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47C-4D8A-4F72-A090-9231B18D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A303-2C4A-4787-BBF7-98A23350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349F-F6B8-4FF2-B5D1-DED85881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5243-8440-4054-A200-1F7824BE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1666-3BCA-4BAD-A77A-5C26ED036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BBD3-028C-4407-9015-69402C14A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4BB0-9C53-4954-A88A-1515B6AC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8DF-8D90-48CB-8B23-088A011E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A063-9ABE-4461-A1DA-9049FFD6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204A-F782-4FCE-B2CE-C2974D9F7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5876-AE04-422C-B0F0-DE92F600B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FB9D-E0AB-42F5-A96C-21D90A731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ABB6-1382-4D78-AAFD-DDEC856E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3609-A6E7-4C00-BA3C-7EDEA7F82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C41B-5431-4804-8946-FE0CF08AA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AD80-0210-43A4-80A6-2680BF13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0C4-2BE5-496B-ADAA-A222AE09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ECE-F112-4008-84BE-5C305F77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1C90-591E-49CB-82B8-D0BDA4961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AND AND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DAM AND THE AN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OMAN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AY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RLOS SANTA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EST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S ON MY SID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UNGRY LIKE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URAN DUR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HAKI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3804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NLY KNOW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CH BOY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___ I'M A COUNTRY BO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 DENV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TAKE YOUR ___  TO TOW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D &amp;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0320"/>
            <a:ext cx="8382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HE LI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EROSMI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, LOSE OR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LLMAN BROTHERS BA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YMPATHY FOR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DISGUIS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OMAN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AY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RLOS SANTA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477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HORTEST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ETALL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NAL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.E.M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AND AND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DAM AND THE A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WORDS  BACK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EST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S ON MY SID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UNGRY LIKE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URAN DUR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HAKI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NLY KNOW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CH BOY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___ I'M A COUNTRY BO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 DENV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TAKE YOUR ___  TO TOW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D &amp;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HE LI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EROSMIT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, LOSE OR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LLMAN BROTHERS BA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YMPATHY FOR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DISGUIS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HORTEST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ETALLIC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NAL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.E.M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19:50:13Z</dcterms:created>
  <dc:creator>Jennifer Budzinski</dc:creator>
  <dc:description/>
  <dc:language>en-US</dc:language>
  <cp:lastModifiedBy>Erich Friedman</cp:lastModifiedBy>
  <dcterms:modified xsi:type="dcterms:W3CDTF">2020-08-24T13:47:00Z</dcterms:modified>
  <cp:revision>394</cp:revision>
  <dc:subject/>
  <dc:title>Slide 1</dc:title>
</cp:coreProperties>
</file>