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E57F-370D-4ACF-9FEE-46351650D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F503-1A72-4D3F-A188-DDC58DC03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CB92-96F9-4395-8FC7-45436DA1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4E79-A16B-441E-A2FF-6B61ABF6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26F0-C11D-4978-9F49-A61B185D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3D84-E7F6-431B-8676-321B0011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8650-623D-40B9-8C77-18C39A8A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7522-C1F3-423A-AC30-58C4F050B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E6F4-E8A2-4870-9141-EC2909A2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4AEF-B464-43F3-82C3-BB5782F64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741C-5C67-40EF-86DC-4FFCBF9E9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907B-D495-47DE-9916-3593ADF4D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D8AD-CB7F-4A04-8C03-9359D2213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2ACD-0331-4E8A-B65C-8C018F6E8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6906-B10D-492C-BFE5-70E0508B0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46B-4433-4CDA-849A-6AA423D39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5959-A377-4D91-96BB-FF0947753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E0B4-7895-47F4-B250-F989D5A3E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D064-8005-451A-9701-45427E51F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7E27-18DF-4509-9F07-D5E261D7B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2992-3657-4B47-B8A5-3E46722F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4C9F-6E55-4FDB-B85E-A437986DE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4663-CBD7-4E26-99BA-FC26FC8A3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      OF THE TITLE OF WALT WHITMAN'S MOST FAMOUS AND CONTROVERSIAL 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  (LEN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ERSON WHO HOSTE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ONIGHT SHOW" AFTER JOHNNY CA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UROPE'S LARGEST PAY-TV BROADCA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YPE OF GOLF SHOT IS THE BALL HIT BRIEFLY INTO THE AIR OVER SOME OBSTACLE TO LAND AND ROLL ON THE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ENGLISH-SPEAKING PEOPLE, AS WELL AS THE RUSSIANS, SWISS, AND DUTCH, TOLD TO SAY WHEN THEIR PICTURE IS TA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  (SWEAT  &amp;  TEA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" STAND FOR IN THE MUSICAL ABBREVIATION "BS&amp;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-2004 TV SERIES WAS A SPIN-OFF OF "BUFFY THE VAMPIRE SLAY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OM)  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U.S. SECRETARY OF HOMELAND SECU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ERSON WHO HOSTE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ONIGHT SHOW" AFTER JOHNNY CA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-152280" y="838080"/>
            <a:ext cx="5257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NAME OF THIS NEBULA, THE REMNANT OF A 1054 SUPERNO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EAVES  OF)  G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      OF THE TITLE OF WALT WHITMAN'S MOST FAMOUS AND CONTROVERSIAL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43000" y="43434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ALL  FOLLOW  THE  WORD  "BLU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UROPE'S LARGEST PAY-TV BROADCA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YPE OF GOLF SHOT IS THE BALL HIT BRIEFLY INTO THE AIR OVER SOME OBSTACLE TO LAND AND ROLL ON THE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ENGLISH-SPEAKING PEOPLE, AS WELL AS THE RUSSIANS, SWISS, AND DUTCH, TOLD TO SAY WHEN THEIR PICTURE IS TAK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" STAND FOR IN THE MUSICAL ABBREVIATION "BS&amp;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-2004 TV SERIES WAS A SPIN-OFF OF "BUFFY THE VAMPIRE SLAY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U.S. SECRETARY OF HOMELAND SECU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228960" y="8380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 NAME OF THIS NEBULA, THE REMNANT OF A 1054 SUPERNOV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52:30Z</dcterms:created>
  <dc:creator>Jennifer Budzinski</dc:creator>
  <dc:description/>
  <dc:language>en-US</dc:language>
  <cp:lastModifiedBy>Erich Friedman</cp:lastModifiedBy>
  <dcterms:modified xsi:type="dcterms:W3CDTF">2020-08-31T12:16:54Z</dcterms:modified>
  <cp:revision>460</cp:revision>
  <dc:subject/>
  <dc:title>Slide 1</dc:title>
</cp:coreProperties>
</file>