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FAF8-D964-45F1-AB1E-D71DAEF62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0900-3AE7-4E2C-BAB6-FC9DCC5A8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74C4-C5A1-4F54-8DD7-754B5DB12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373F-497C-4593-B19D-F3EA259E1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D76C-2717-4F05-8B2B-6EF1FA6E9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AA37-B158-4D42-A928-628228239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D19B-6A1D-4E5D-B797-32E09B4D8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6A2A-B771-4B63-8259-B0FCCB800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9BA0-7B5D-41F5-A58D-46AB1E0B6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D3A3-B7BB-41A2-B32C-F6F631742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2626-559B-401D-A15C-FEE041F34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D2BA-58A6-4587-9E38-A77C5A243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AED6-7A8A-4915-AB6F-4EC87DDF5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0E1E-4A5C-4A4F-AC6B-686987B69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B10D-7FC1-4069-852D-562D84F09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E02E-66E7-4F14-82D8-41D10F755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E0B5-2909-4C7A-958D-2D0DD504B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5846-2E06-4953-8A7E-09F49B3DA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D37C-3A14-424D-9894-E76EE55B0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0EEC-61FD-4A5B-8D44-E0CC50C88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821B-F617-4177-940B-C1A70994E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B32A-34EF-4C88-87D3-26952CAC2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1799-479A-4791-AFDF-E68A9B103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137124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      OF THE TITLE OF WALT WHITMAN'S MOST FAMOUS AND CONTROVERSIAL 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  (LEN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ERSON WHO HOSTE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ONIGHT SHOW" AFTER JOHNNY CAR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UROPE'S LARGEST PAY-TV BROADCA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YPE OF GOLF SHOT IS THE BALL HIT BRIEFLY INTO THE AIR OVER SOME OBSTACLE TO LAND AND ROLL ON THE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ENGLISH-SPEAKING PEOPLE, AS WELL AS THE RUSSIANS, SWISS, AND DUTCH, TOLD TO SAY WHEN THEIR PICTURE IS TAK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  (SWEAT  &amp;  TEA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" STAND FOR IN THE MUSICAL ABBREVIATION "BS&amp;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-2004 TV SERIES WAS A SPIN-OFF OF "BUFFY THE VAMPIRE SLAY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TOM)  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U.S. SECRETARY OF HOMELAND SECU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PERSON WHO HOSTED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TONIGHT SHOW" AFTER JOHNNY CAR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-152280" y="838080"/>
            <a:ext cx="5257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NAME OF THIS NEBULA, THE REMNANT OF A 1054 SUPERNO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LEAVES  OF)  GR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      OF THE TITLE OF WALT WHITMAN'S MOST FAMOUS AND CONTROVERSIAL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43000" y="43434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ALL  FOLLOW  THE  WORD  "BLU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UROPE'S LARGEST PAY-TV BROADCA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YPE OF GOLF SHOT IS THE BALL HIT BRIEFLY INTO THE AIR OVER SOME OBSTACLE TO LAND AND ROLL ON THE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ENGLISH-SPEAKING PEOPLE, AS WELL AS THE RUSSIANS, SWISS, AND DUTCH, TOLD TO SAY WHEN THEIR PICTURE IS TAK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B" STAND FOR IN THE MUSICAL ABBREVIATION "BS&amp;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-2004 TV SERIES WAS A SPIN-OFF OF "BUFFY THE VAMPIRE SLAY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FIRST U.S. SECRETARY OF HOMELAND SECUR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228960" y="83808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 NAME OF THIS NEBULA, THE REMNANT OF A 1054 SUPERNOV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5257800" y="9907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52:30Z</dcterms:created>
  <dc:creator>Jennifer Budzinski</dc:creator>
  <dc:description/>
  <dc:language>en-US</dc:language>
  <cp:lastModifiedBy>Erich Friedman</cp:lastModifiedBy>
  <dcterms:modified xsi:type="dcterms:W3CDTF">2020-08-31T12:16:54Z</dcterms:modified>
  <cp:revision>460</cp:revision>
  <dc:subject/>
  <dc:title>Slide 1</dc:title>
</cp:coreProperties>
</file>