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19F4-2BFD-462A-A1BE-B547509C3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6E56-99FF-4697-AA62-41E58714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1996-6737-4E3F-8AA7-52EBE2AC4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626-2B55-44EC-A4A2-5C4119EB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7F61-981C-4844-B3C2-B3023B3E0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3577-98BF-4FD2-847A-3338E9441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7E1A-CD29-402E-9895-9601AC1FA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37B4-A652-484C-B949-78975A56A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15FB-DCA6-478C-A84C-1C1CAFA85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CEAA-1566-465F-B137-D220D3AB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0721-478E-4EEE-B54D-01E5D2CD7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2559-6BD4-4D80-B7C7-04EC8EF2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672E-2395-4E56-B7EC-694FFEAC2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3730-1B1F-4C83-92C8-12871900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BFFD-FDD8-438B-AABC-0D2088D6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C37D-0F17-458D-94F8-46748A2EF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2BEC-96F2-465B-99F2-E64E8F1B2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240-4558-44C4-B31F-DF79BF89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27BD-05E2-4C31-A2D0-5E59E69B0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B853-4E0F-42F8-ABC6-82E12A64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6BDE-D0EB-4CCD-9CF7-5382CDFD0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243-193C-459A-9F7B-95CD2629A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8F5F-1807-4E1E-AC9E-5A1A0F34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    OF THE TITLE OF WALT WHITMAN'S MOST FAMOUS AND CONTROVERSIAL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  (LEN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ONIGHT SHOW" AFTER JOHNNY CA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PAY-TV BROADCA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YPE OF GOLF SHOT IS THE BALL HIT BRIEFLY INTO THE AIR OVER SOME OBSTACLE TO LAND AND ROLL ON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ENGLISH-SPEAKING PEOPLE, AS WELL AS THE RUSSIANS, SWISS, AND DUTCH, TOLD TO SAY WHEN THEIR PICTURE IS TA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  (SWEAT  &amp;  TEA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STAND FOR IN THE MUSICAL ABBREVIATION "BS&amp;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-2004 TV SERIES WAS A SPIN-OFF OF "BUFFY THE VAMPIRE S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M)  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U.S. SECRETARY OF HOMELAND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ONIGHT SHOW" AFTER JOHNNY CA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-152280" y="838080"/>
            <a:ext cx="5257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NEBULA, THE REMNANT OF A 1054 SUPERNO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EAVES  OF)  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    OF THE TITLE OF WALT WHITMAN'S MOST FAMOUS AND CONTROVERSI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43000" y="43434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ALL  FOLLOW  THE  WORD  "BLU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PAY-TV BROADCA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YPE OF GOLF SHOT IS THE BALL HIT BRIEFLY INTO THE AIR OVER SOME OBSTACLE TO LAND AND ROLL ON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ENGLISH-SPEAKING PEOPLE, AS WELL AS THE RUSSIANS, SWISS, AND DUTCH, TOLD TO SAY WHEN THEIR PICTURE IS TAK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STAND FOR IN THE MUSICAL ABBREVIATION "BS&amp;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-2004 TV SERIES WAS A SPIN-OFF OF "BUFFY THE VAMPIRE S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U.S. SECRETARY OF HOMELAND SECU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228960" y="8380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 NAME OF THIS NEBULA, THE REMNANT OF A 1054 SUPERNOV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52:30Z</dcterms:created>
  <dc:creator>Jennifer Budzinski</dc:creator>
  <dc:description/>
  <dc:language>en-US</dc:language>
  <cp:lastModifiedBy>Erich Friedman</cp:lastModifiedBy>
  <dcterms:modified xsi:type="dcterms:W3CDTF">2020-08-31T12:16:54Z</dcterms:modified>
  <cp:revision>460</cp:revision>
  <dc:subject/>
  <dc:title>Slide 1</dc:title>
</cp:coreProperties>
</file>