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67AF-E480-4D47-849E-26BD4BBC7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8F2-E49F-4676-8A77-2BCE1325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433-9DF4-4247-A9B7-50ADBFA85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D725-D3C4-4FAD-A688-844AA892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B37-CD24-49F8-90BB-DCD4830D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A5D6-3837-4ADF-A34D-8DAA7DE6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FFE8-D315-4B7A-A996-772D9AEE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5F1E-0E2C-487D-BB45-B060586C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25B-2606-440A-8452-1C578F89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D13-3D00-4789-8EEC-40AA558A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2D09-3B64-461D-BE16-D84671B2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2CF6-D21C-45C1-B9A4-B3ED9211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7B3-2986-462A-8C61-BE626C9D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FC75-1137-4C80-A4F5-42E8E4850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96A-FC57-4065-AFE6-78D23058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6514-EDD5-432C-BB5C-48E1968D5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89BC-AAB8-4BE4-B18C-EAD32002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805-6F80-4B49-A68C-7F146DE55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EC64-3229-481D-99E2-466F9C02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775-E359-41D5-ACC7-F9E52A7AB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632-9287-431F-9F05-31053212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1A32-8A24-4F9D-B588-09145268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0388-D43B-4D5F-9EC6-2DC66E3C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595520" y="1295280"/>
            <a:ext cx="5952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1882800" y="1295280"/>
            <a:ext cx="537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626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FI  A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1389240" y="1295280"/>
            <a:ext cx="6365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95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BOUR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1351080" y="1295280"/>
            <a:ext cx="644184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1397160" y="137160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595520" y="1295280"/>
            <a:ext cx="5952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827360" y="1295280"/>
            <a:ext cx="54892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882800" y="1295280"/>
            <a:ext cx="537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89240" y="1295280"/>
            <a:ext cx="6365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51080" y="1295280"/>
            <a:ext cx="644184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97160" y="137160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827360" y="1295280"/>
            <a:ext cx="5489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9:01:10Z</dcterms:created>
  <dc:creator>Jennifer Budzinski</dc:creator>
  <dc:description/>
  <dc:language>en-US</dc:language>
  <cp:lastModifiedBy>Erich Friedman</cp:lastModifiedBy>
  <dcterms:modified xsi:type="dcterms:W3CDTF">2020-08-31T12:17:17Z</dcterms:modified>
  <cp:revision>289</cp:revision>
  <dc:subject/>
  <dc:title>Slide 1</dc:title>
</cp:coreProperties>
</file>