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6E45D-5696-4171-BC67-A368FB61F6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701B7-29EF-4473-83D7-490D07100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3B7F9-3A74-4595-9D17-D41BF805C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5C9C-6F87-4DFD-902E-78566B95D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477E2-AACB-41F9-A4CE-2B4E8055F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3053F-9965-4DA1-AE0E-7BC42CA29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9EE9A-4164-4213-8DBC-EAC2DCF27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24374-C831-48C0-9749-4657A6260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C29A5-6CE2-4F97-ADDD-E630A6E4F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0C048-05DF-46BD-8E84-D7A062E04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E80A3-6DD9-486E-BC2C-5FC046CCD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BCD9F-2A59-446A-818A-13AAC0DB0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0B04F-334A-4A58-9F33-456D1165C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005E3-A83E-49F9-955A-E8E7F4152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6D9E2-DB83-4B4B-8477-26AC981D6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FCA95-4424-4AC7-B8DB-93BD9DCC7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5CFA6-3E3F-4989-9039-C033CCA3F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8774B-BA83-4820-AB36-950679E52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A8973-9305-47FC-96D2-7126A92C9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A524F-C17C-44DA-BD47-D3381D0ED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867C4-CFAC-492D-B999-1BA1F2CAA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619FF-D120-4ECA-A162-270E554A5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DC37C-AFA4-4406-A8E6-86B32C449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37124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: IDENTIFY THESE CELEBR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"/>
          <p:cNvPicPr/>
          <p:nvPr/>
        </p:nvPicPr>
        <p:blipFill>
          <a:blip r:embed="rId1"/>
          <a:stretch/>
        </p:blipFill>
        <p:spPr>
          <a:xfrm>
            <a:off x="1914480" y="1295280"/>
            <a:ext cx="5315040" cy="354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RT  REYNOL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3" descr=""/>
          <p:cNvPicPr/>
          <p:nvPr/>
        </p:nvPicPr>
        <p:blipFill>
          <a:blip r:embed="rId1"/>
          <a:stretch/>
        </p:blipFill>
        <p:spPr>
          <a:xfrm>
            <a:off x="1595520" y="1295280"/>
            <a:ext cx="595296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IL  SIM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3" descr=""/>
          <p:cNvPicPr/>
          <p:nvPr/>
        </p:nvPicPr>
        <p:blipFill>
          <a:blip r:embed="rId1"/>
          <a:stretch/>
        </p:blipFill>
        <p:spPr>
          <a:xfrm>
            <a:off x="1882800" y="1295280"/>
            <a:ext cx="537840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304920" y="49626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MCC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3" descr=""/>
          <p:cNvPicPr/>
          <p:nvPr/>
        </p:nvPicPr>
        <p:blipFill>
          <a:blip r:embed="rId1"/>
          <a:stretch/>
        </p:blipFill>
        <p:spPr>
          <a:xfrm>
            <a:off x="1312920" y="1295280"/>
            <a:ext cx="6518160" cy="366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OFI  ANN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3" descr=""/>
          <p:cNvPicPr/>
          <p:nvPr/>
        </p:nvPicPr>
        <p:blipFill>
          <a:blip r:embed="rId1"/>
          <a:stretch/>
        </p:blipFill>
        <p:spPr>
          <a:xfrm>
            <a:off x="1389240" y="1295280"/>
            <a:ext cx="636552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Rectangle 3"/>
          <p:cNvSpPr/>
          <p:nvPr/>
        </p:nvSpPr>
        <p:spPr>
          <a:xfrm>
            <a:off x="457200" y="499572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THONY  BOURD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3" descr=""/>
          <p:cNvPicPr/>
          <p:nvPr/>
        </p:nvPicPr>
        <p:blipFill>
          <a:blip r:embed="rId1"/>
          <a:stretch/>
        </p:blipFill>
        <p:spPr>
          <a:xfrm>
            <a:off x="1351080" y="1295280"/>
            <a:ext cx="6441840" cy="362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ETHA  FRANK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4" descr=""/>
          <p:cNvPicPr/>
          <p:nvPr/>
        </p:nvPicPr>
        <p:blipFill>
          <a:blip r:embed="rId1"/>
          <a:stretch/>
        </p:blipFill>
        <p:spPr>
          <a:xfrm>
            <a:off x="1397160" y="1371600"/>
            <a:ext cx="6349680" cy="356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ILIP  RO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3" descr=""/>
          <p:cNvPicPr/>
          <p:nvPr/>
        </p:nvPicPr>
        <p:blipFill>
          <a:blip r:embed="rId1"/>
          <a:stretch/>
        </p:blipFill>
        <p:spPr>
          <a:xfrm>
            <a:off x="1620720" y="1295280"/>
            <a:ext cx="5902560" cy="354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1595520" y="1295280"/>
            <a:ext cx="595296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WOL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4" descr=""/>
          <p:cNvPicPr/>
          <p:nvPr/>
        </p:nvPicPr>
        <p:blipFill>
          <a:blip r:embed="rId1"/>
          <a:stretch/>
        </p:blipFill>
        <p:spPr>
          <a:xfrm>
            <a:off x="1827360" y="1295280"/>
            <a:ext cx="548928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BARA  BU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3" descr=""/>
          <p:cNvPicPr/>
          <p:nvPr/>
        </p:nvPicPr>
        <p:blipFill>
          <a:blip r:embed="rId1"/>
          <a:stretch/>
        </p:blipFill>
        <p:spPr>
          <a:xfrm>
            <a:off x="1914480" y="1295280"/>
            <a:ext cx="5315040" cy="354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DIED  IN  20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"/>
          <p:cNvPicPr/>
          <p:nvPr/>
        </p:nvPicPr>
        <p:blipFill>
          <a:blip r:embed="rId1"/>
          <a:stretch/>
        </p:blipFill>
        <p:spPr>
          <a:xfrm>
            <a:off x="1882800" y="1295280"/>
            <a:ext cx="537840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3" descr=""/>
          <p:cNvPicPr/>
          <p:nvPr/>
        </p:nvPicPr>
        <p:blipFill>
          <a:blip r:embed="rId1"/>
          <a:stretch/>
        </p:blipFill>
        <p:spPr>
          <a:xfrm>
            <a:off x="1312920" y="1295280"/>
            <a:ext cx="6518160" cy="366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1389240" y="1295280"/>
            <a:ext cx="636552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"/>
          <p:cNvPicPr/>
          <p:nvPr/>
        </p:nvPicPr>
        <p:blipFill>
          <a:blip r:embed="rId1"/>
          <a:stretch/>
        </p:blipFill>
        <p:spPr>
          <a:xfrm>
            <a:off x="1351080" y="1295280"/>
            <a:ext cx="6441840" cy="36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"/>
          <p:cNvPicPr/>
          <p:nvPr/>
        </p:nvPicPr>
        <p:blipFill>
          <a:blip r:embed="rId1"/>
          <a:stretch/>
        </p:blipFill>
        <p:spPr>
          <a:xfrm>
            <a:off x="1397160" y="1371600"/>
            <a:ext cx="6349680" cy="356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3" descr=""/>
          <p:cNvPicPr/>
          <p:nvPr/>
        </p:nvPicPr>
        <p:blipFill>
          <a:blip r:embed="rId1"/>
          <a:stretch/>
        </p:blipFill>
        <p:spPr>
          <a:xfrm>
            <a:off x="1620720" y="1295280"/>
            <a:ext cx="5902560" cy="35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1827360" y="1295280"/>
            <a:ext cx="5489280" cy="373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5T19:01:10Z</dcterms:created>
  <dc:creator>Jennifer Budzinski</dc:creator>
  <dc:description/>
  <dc:language>en-US</dc:language>
  <cp:lastModifiedBy>Erich Friedman</cp:lastModifiedBy>
  <dcterms:modified xsi:type="dcterms:W3CDTF">2020-08-31T12:17:17Z</dcterms:modified>
  <cp:revision>289</cp:revision>
  <dc:subject/>
  <dc:title>Slide 1</dc:title>
</cp:coreProperties>
</file>