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547F-9702-4897-9028-9D8B83BCE8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118B-8D00-48DD-9416-C452D59C8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ADD7-101F-4A5F-8218-80506B1BA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E313-B63C-4C23-BC0D-B74C3FFD4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3A20-6B31-4982-91B6-28F0086FD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0FC0-1D5C-41D2-A1E6-D54BBCBFC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408A-988D-43A1-BCC2-40C4E5BE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628-C8D4-4A88-87FB-53550651C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1247-008B-45A3-B132-05FDFBA5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60CF-78D7-4805-A08A-64BBFED7E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68BF-D4D8-40B0-86A5-9577B678C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0138-8115-4959-8285-ED8D6BFB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395B-6E3C-484B-A5C3-9C1F67642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B7EE-61A9-498D-B802-D2472E76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9D7A-7563-4B44-AEF5-0D6C61D57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74DC-95BF-4882-8FC1-C023027A5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9EF1-3E85-4737-BDAB-938A4566A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2448-6694-4164-8F29-F2D26DE8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E5D4-601F-4005-8F79-7380DA703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309B-E684-48AA-944A-08A8ACC9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EB20-FE8E-4453-B94A-CD6D8C2E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1562-FEFF-4F0A-8177-CDE956E35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66646-5DC4-4EBE-98AA-02EBA06AB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CELEB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T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595520" y="1295280"/>
            <a:ext cx="5952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"/>
          <p:cNvPicPr/>
          <p:nvPr/>
        </p:nvPicPr>
        <p:blipFill>
          <a:blip r:embed="rId1"/>
          <a:stretch/>
        </p:blipFill>
        <p:spPr>
          <a:xfrm>
            <a:off x="1882800" y="1295280"/>
            <a:ext cx="5378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626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FI  AN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"/>
          <p:cNvPicPr/>
          <p:nvPr/>
        </p:nvPicPr>
        <p:blipFill>
          <a:blip r:embed="rId1"/>
          <a:stretch/>
        </p:blipFill>
        <p:spPr>
          <a:xfrm>
            <a:off x="1389240" y="1295280"/>
            <a:ext cx="6365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95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BOURD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1351080" y="1295280"/>
            <a:ext cx="644184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ETHA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1"/>
          <a:stretch/>
        </p:blipFill>
        <p:spPr>
          <a:xfrm>
            <a:off x="1397160" y="137160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R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595520" y="1295280"/>
            <a:ext cx="5952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OL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1827360" y="1295280"/>
            <a:ext cx="54892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882800" y="1295280"/>
            <a:ext cx="5378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1312920" y="1295280"/>
            <a:ext cx="651816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89240" y="1295280"/>
            <a:ext cx="6365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351080" y="1295280"/>
            <a:ext cx="644184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397160" y="137160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827360" y="1295280"/>
            <a:ext cx="5489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9:01:10Z</dcterms:created>
  <dc:creator>Jennifer Budzinski</dc:creator>
  <dc:description/>
  <dc:language>en-US</dc:language>
  <cp:lastModifiedBy>Erich Friedman</cp:lastModifiedBy>
  <dcterms:modified xsi:type="dcterms:W3CDTF">2020-08-31T12:17:17Z</dcterms:modified>
  <cp:revision>289</cp:revision>
  <dc:subject/>
  <dc:title>Slide 1</dc:title>
</cp:coreProperties>
</file>