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A7B-0A8F-4686-98CA-C0215E2A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FA9D-2CAD-4961-81AF-E909BF9DD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7A2-13CE-4F92-B084-47666A6D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7AB-DDCD-4F91-B347-E795FD0AC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93C7-6A3A-4ACA-A9A8-593188AF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396-4773-4157-BC9B-D03130AB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32F3-5067-474E-834F-99D80A19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FF2D-2DB0-4FCC-925A-939137F78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0896-9813-48F2-8054-01792381A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2AA7-CBEB-45C3-BEBA-E78960286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236-9408-4438-990C-173F5CBF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A31-D488-492A-AA24-8C2768B1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8D1-6AFF-489F-BBEB-4EF35F8D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721-BCD6-4DDF-84DF-4570ACA7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08F-3CA9-4879-8E2C-1C1D4D2A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ADB5-7BD7-4D82-BF7F-5D7FDB3D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2A60-69CF-4135-9972-39E9609C0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89D-57E6-4DDC-924E-E6B4CB93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FFE7-5536-4199-9E14-39B975AB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11E0-A4AA-4B74-B35E-DD159ACC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6B1-BACF-46FE-8EA0-C97E3B9E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885-B5B7-49D6-B127-3E56FF63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6606-E133-4DBA-8966-A32FC712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9907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THIS THE COV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US  ANDRO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MATTH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NEW  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 THIS THE COV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0:40:30Z</dcterms:created>
  <dc:creator>Jennifer Budzinski</dc:creator>
  <dc:description/>
  <dc:language>en-US</dc:language>
  <cp:lastModifiedBy>Erich Friedman</cp:lastModifiedBy>
  <dcterms:modified xsi:type="dcterms:W3CDTF">2020-08-31T12:17:39Z</dcterms:modified>
  <cp:revision>463</cp:revision>
  <dc:subject/>
  <dc:title>Slide 1</dc:title>
</cp:coreProperties>
</file>