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2DFA-D802-4F4E-B680-917B89743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6AF18-6FCF-46DF-9194-B47B9556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713D-7101-4A92-B5D5-D4044B6D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1419-0B8B-4077-A8C7-0CDD780E7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D147-D0C3-4F06-978E-45E4FEE79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8A2B-F8AD-4D14-8227-C04544B4D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E2B2-9D18-4254-8DEC-71F979268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8943-0D04-4A4D-90FB-CBD2AF16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AA82-F562-4D39-B26A-7D418B265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584-D321-44EA-8D03-85621850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D396-EA2F-4799-828E-1A2BE3ED1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C4F3-6B96-40B5-A36E-4E6190EE9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6059-815F-4247-990D-6B8D1FEE6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5C1-5ADC-4FE9-8F1B-4EAEC2809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651E-5CCA-429E-B529-5D5E48FC4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BBFE-B3C4-4E1E-A5C7-6195F0174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2451-0A25-4460-92B9-6CCF719DD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BE20-A587-477E-AF90-1A6924A5F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AAC8-4838-4C09-BFF0-6A9953146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746C-B3A0-493A-9FE3-4C24E9F1B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C150-2097-42E1-A7F0-FB30AB737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D848D-C07C-4C06-91D8-B73BB0C94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68D8-CC1B-4479-B6F9-A0027F20E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OF THE ANIMATED SERIES "FAMILY GU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J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04920" y="990720"/>
            <a:ext cx="403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IS THIS THE COVER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886200" cy="393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UTHOR WROTE "ALL YOU NEED IN THIS LIFE IS IGNORANCE AND CONFIDENCE, AND THEN SUCCESS IS S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M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621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QUERED BRITAIN IN 54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US  ANDRONI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IS HIS MOST VIOLENT, AND IS THOUGHT TO BE HIS FIRST TRAG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KE  SKY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ORIGINALLY NAMED ANAKIN STARKI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RRICANE  MATTH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FUL 2016 STORM CAUSED A HUMANITARIAN CRISIS IN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FRANCHISE DOES KEANU REEVES PLAY A RETIRED HITMAN SEEKING VENGE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127 HOU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AIN CHARACTER OF THE ANIMATED SERIES "FAMILY GU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76520" y="4267080"/>
            <a:ext cx="5790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OOKS  OF  THE  NEW  TEST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1066320"/>
            <a:ext cx="419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IS  THIS THE COV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886200" cy="39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ERICAN AUTHOR WROTE "ALL YOU NEED IN THIS LIFE IS IGNORANCE AND CONFIDENCE, AND THEN SUCCESS IS S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NQUERED BRITAIN IN 54 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AKESPEARE PLAY IS HIS MOST VIOLENT, AND IS THOUGHT TO BE HIS FIRST TRAG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WAS ORIGINALLY NAMED ANAKIN STARKIL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FUL 2016 STORM CAUSED A HUMANITARIAN CRISIS IN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127 HOU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6T10:40:30Z</dcterms:created>
  <dc:creator>Jennifer Budzinski</dc:creator>
  <dc:description/>
  <dc:language>en-US</dc:language>
  <cp:lastModifiedBy>Erich Friedman</cp:lastModifiedBy>
  <dcterms:modified xsi:type="dcterms:W3CDTF">2020-08-31T12:17:39Z</dcterms:modified>
  <cp:revision>463</cp:revision>
  <dc:subject/>
  <dc:title>Slide 1</dc:title>
</cp:coreProperties>
</file>