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12F4-3D86-4214-9AA3-B82BAF4E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705E-C47D-4666-96AC-7FA797D3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4C52-6F52-4943-B59D-E74BCD8D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332B-6254-48DF-9938-CBC81264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C70-AF9E-41F0-92E0-E54143B7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F86-8B32-41A3-B8A9-10F1A03A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AC18-E8F7-4579-9348-7262CD306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FF21-4FA9-4BB1-9744-473B14E0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6480-A638-4BEB-AE01-0DEBB412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97D0-00B6-42C1-9A9D-B4B9B4FC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6B34-72B9-4C05-938E-4ABF8617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49B3-931B-476D-B967-A15FA696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0135-00B1-4DB9-AD68-29A25A68C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933-5ADF-4788-B0FC-3AA80EB3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3C8C-A74E-4ABC-921F-F509A836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FE89-6C82-4703-A749-B25053BC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6958-94E6-4291-B987-D365089F5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E7A2-F375-421E-9999-B080DDFF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4EC7-FDC3-4B28-AE0E-3A2B1E7A8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24D8-90FE-4927-AA80-0D860722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8F3-F541-4C28-90C4-FF80BE62F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3B06-9B85-4016-B132-38D4D3888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FE1D-E86D-450C-B67F-BB31334D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OF THE ANIMATED SERIES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J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04920" y="99072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IS THIS THE COV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39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UTHOR WROTE "ALL YOU NEED IN THIS LIFE IS IGNORANCE AND CONFIDENCE, AND THEN SUCCESS IS S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QUERED BRITAIN IN 54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US  ANDRONI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IS HIS MOST VIOLENT, AND IS THOUGHT TO BE HIS FIRST TRAG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SKY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ORIGINALLY NAMED ANAKIN STARKI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MATTH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FUL 2016 STORM CAUSED A HUMANITARIAN CRISIS IN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127 H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OF THE ANIMATED SERIES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76520" y="4267080"/>
            <a:ext cx="579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OKS  OF  THE  NEW  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IS  THIS THE COV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39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UTHOR WROTE "ALL YOU NEED IN THIS LIFE IS IGNORANCE AND CONFIDENCE, AND THEN SUCCESS IS S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QUERED BRITAIN IN 54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IS HIS MOST VIOLENT, AND IS THOUGHT TO BE HIS FIRST TRAG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ORIGINALLY NAMED ANAKIN STARKI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FUL 2016 STORM CAUSED A HUMANITARIAN CRISIS IN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127 H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10:40:30Z</dcterms:created>
  <dc:creator>Jennifer Budzinski</dc:creator>
  <dc:description/>
  <dc:language>en-US</dc:language>
  <cp:lastModifiedBy>Erich Friedman</cp:lastModifiedBy>
  <dcterms:modified xsi:type="dcterms:W3CDTF">2020-08-31T12:17:39Z</dcterms:modified>
  <cp:revision>463</cp:revision>
  <dc:subject/>
  <dc:title>Slide 1</dc:title>
</cp:coreProperties>
</file>