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9802-B641-42C1-A546-F96E191CF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32858-6779-4232-98F1-39B603F09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E262-226F-4A17-B4BD-2ACC85E23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F091-110B-4083-B811-940B026E0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8D85-FD5D-46C0-BCA1-2C168B70D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005C-058A-441D-A840-565EC30BD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C48B-B4B6-4300-927D-5C85C1DA1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D5E2-A4B6-4C80-95EE-8374DCF6B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99A3-7164-430D-850B-02A0B4111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2BFF-7FA4-471D-84F9-04E131BD9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6E3D-09CD-4FBC-89FD-942D7A6FD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788B-3F47-44B5-BB7B-B86AE52F3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34FF-68E9-4EB8-9739-58CA21350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EFB9-840B-4E53-9DB4-EEA1A5E8D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8C2F-8AEA-4C43-B33C-61869C7DD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1EF5-9964-4CA2-9BEA-599F57B56E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E2AF-F39E-45E1-BA52-DFF66A019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0B4C-6292-470F-A60A-70C654216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8A87-597C-42E7-BB9A-6B4D5B91B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4E99-D4B9-429B-B21C-69A15E058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34406-1E8A-43EB-961D-2DDD62EC8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EC74-74CE-4E98-B52B-20B7BC709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57FC-149D-4511-A0C9-C388B1744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MPIRE STATE BUILDING WAS THE TALLEST BUILDING IN THE WORLD 1931-1972, UNTIL WHAT WAS BUI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ON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HIBITION-ERA HARLEM WHITES-ONLY NIGHTCLUB IS FAMOUS FOR THE BLACK PERFORMERS WHO PLAYED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D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143000" y="760320"/>
            <a:ext cx="68580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HUTTLECOCK IN BADMIN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0" y="4876920"/>
            <a:ext cx="5410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KISS  OF  DE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228600" y="838080"/>
            <a:ext cx="434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BARCELONA SCULP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4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RCERER’S  APPREN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EGMENT OF DISNEY’S "FANTASIA" STARRING MICKEY M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VING  LAS  VEG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SHERYL CROW SONG FROM THE ALBUM "TUESDAY NIGHT MUSIC CLUB" WAS HER FIRST PROMOTIONAL VIDE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NG NAME OF WRESTLER-TURNED-ACTOR DWAYNE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CE  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THE SPORTS OF HOCKEY AND LACROSSE RESTARTED AFTER A GO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HIBITION-ERA HARLEM WHITES-ONLY NIGHTCLUB IS FAMOUS FOR THE BLACK PERFORMERS WHO PLAYED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AKE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DOUBLE-1’S IN THE GAME OF CRA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LD  TRADE  CE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MPIRE STATE BUILDING WAS THE TALLEST BUILDING IN THE WORLD 1931-1972, UNTIL WHAT WAS BUI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NICOLAS  CAGE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THE SHUTTLECOCK IN BADMIN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30120" y="914400"/>
            <a:ext cx="431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BARCELONA SCULP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410080" y="304920"/>
            <a:ext cx="3403800" cy="51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SEGMENT OF DISNEY’S "FANTASIA" STARRING MICKEY MO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10 SHERYL CROW SONG FROM THE ALBUM "TUESDAY NIGHT MUSIC CLUB" WAS HER FIRST PROMOTIONAL VIDE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NG NAME OF WRESTLER-TURNED-ACTOR DWAYNE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THE SPORTS OF HOCKEY AND LACROSSE RESTARTED AFTER A GO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ICKNAME OF DOUBLE-1’S IN THE GAME OF CRA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8:58:22Z</dcterms:created>
  <dc:creator>Jennifer Budzinski</dc:creator>
  <dc:description/>
  <dc:language>en-US</dc:language>
  <cp:lastModifiedBy>Erich Friedman</cp:lastModifiedBy>
  <dcterms:modified xsi:type="dcterms:W3CDTF">2020-08-31T12:20:33Z</dcterms:modified>
  <cp:revision>343</cp:revision>
  <dc:subject/>
  <dc:title>Slide 1</dc:title>
</cp:coreProperties>
</file>