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259-37F4-49F0-A614-83BF68B45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668-E29B-4B49-BBAE-C123515A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C17-D6BE-4F1E-B43D-25398DB5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8B0E-3198-4FCD-8835-0AAC517C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5307-9841-42B7-B457-947947FC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1344-8621-4595-B842-E345B990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B92-3D8B-44F6-93E0-110CDE08A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54AA-B849-4FF5-9657-72ECAD28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508-857D-4D86-81F6-56F261A24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216C-C1E1-4D2B-A909-4E75B4A8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B42-1170-433E-82AE-5EC802D1F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996-CE2D-4440-9341-A3EC8346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174E-C887-426D-9882-D694F041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26BB-A892-40FF-86AA-7D9485842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30A-E65B-4826-B84E-4AE34349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3ED0-4FB2-46BE-ACFA-B50DF2899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623-D69A-4C9A-BE83-4DEC7F5E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D02D-5AC6-4459-A06A-7A21B633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95E-709D-4BA9-8B63-1D819135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19E-B0FF-4B54-9EC4-D4CD4ACE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981B-B3C8-41ED-8628-A6E938FE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B0E6-B696-4C1A-BF92-BD7162F7B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2AB-B249-44DD-9553-6EC5B6F0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WAS THE TALLEST BUILDING IN THE WORLD 1931-1972, UNTIL WHAT WAS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HARLEM WHITES-ONLY NIGHTCLUB IS FAMOUS FOR THE BLACK PERFORMERS WHO PLAY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43000" y="76032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HUTTLECOCK IN BADMIN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487692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KISS  OF 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838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ARCELONA SCULP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RCERER’S  APPREN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GMENT OF DISNEY’S "FANTASIA" STARRING MICKEY M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ING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SHERYL CROW SONG FROM THE ALBUM "TUESDAY NIGHT MUSIC CLUB" WAS HER FIRST PROMOTIONAL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WRESTLER-TURNED-ACTO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 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 SPORTS OF HOCKEY AND LACROSSE RESTARTED AFTER A GO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HARLEM WHITES-ONLY NIGHTCLUB IS FAMOUS FOR THE BLACK PERFORMERS WHO PLAYED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DOUBLE-1’S IN THE GAME OF CRA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LD  TRADE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WAS THE TALLEST BUILDING IN THE WORLD 1931-1972, UNTIL WHAT WAS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ICOLAS  CAG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HUTTLECOCK IN BADMIN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914400"/>
            <a:ext cx="431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ARCELONA SCULP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GMENT OF DISNEY’S "FANTASIA" STARRING MICKEY M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SHERYL CROW SONG FROM THE ALBUM "TUESDAY NIGHT MUSIC CLUB" WAS HER FIRST PROMOTIONAL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WRESTLER-TURNED-ACTO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 SPORTS OF HOCKEY AND LACROSSE RESTARTED AFTER A GO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DOUBLE-1’S IN THE GAME OF CRA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0:33Z</dcterms:modified>
  <cp:revision>343</cp:revision>
  <dc:subject/>
  <dc:title>Slide 1</dc:title>
</cp:coreProperties>
</file>