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A92-5169-444E-BD72-D91C1E37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C6E-08A0-4A9A-90A4-0CFF9C69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500-C852-4155-A2D0-53D81E66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0CB6-7278-491B-A0CF-38E7E7B9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B2B7-7655-492C-93F1-E58AAF7E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C03-B2AA-498A-89CD-FCF471C1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3A3-8181-4560-8F99-9664459B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75F-29A9-4D18-9053-8FC1EDFE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4431-68A3-4309-91D8-0BC5DB30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110B-2DF8-4346-83F3-136504ED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04D-9B24-4DE2-9E22-179E403E4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4AA-58C4-402C-996E-EA21C7B6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EFB-95EE-4A75-92DD-5F03FB17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CF9-54BA-4700-A84B-87FADD463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52C7-FD64-4DD0-A33C-AD59398D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EB7B-40EB-468B-A2CA-3FC12150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7FEE-7F5B-4D2F-9B4E-A202E2EF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B96D-1668-40CA-8A14-383CB8EF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431-A828-4AA1-94B5-99A42600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FE4A-FB16-41DC-AC5D-07ADDD15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393-EAEB-4286-B3EC-A5220BD5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EEC-0C10-4A65-87D6-4B70871E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C24-865C-4245-8E2D-482D0CBD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032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48769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KISS  OF 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RCERER’S  APPREN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ING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TRADE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ICOLAS  CAG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914400"/>
            <a:ext cx="431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0:33Z</dcterms:modified>
  <cp:revision>343</cp:revision>
  <dc:subject/>
  <dc:title>Slide 1</dc:title>
</cp:coreProperties>
</file>