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D403-9E66-4961-A650-4E7DF9D66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DE08-733E-4867-8232-C82490B42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D45F-AFD7-449F-83A5-88C043B5E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EB3A-8FF4-4E94-BE78-C33AA1B4D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3B95-DE9C-4DA9-8CB2-324DF46B1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DBF9-7158-4FC4-BCEC-DBF4FFC99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E90A-26BA-48E3-AEEE-B2BA40479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A66E-7D8C-43BA-A548-4531E084E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5761-BF4B-4489-B637-3B5873D29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33ED-B7A2-4452-8E69-9CF82D287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9947-AC95-47B2-9672-53C4DE11B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6CC0-F24F-40F5-87D9-3B6D70731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26F6-E9F1-4005-BBE8-AC2F01508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72CF-6DD3-4A63-BD3A-63F962C11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8CB2-09A0-4D43-B0F9-64351B41D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6DB8-4A70-42B8-83D0-F17746832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D6CC-B87D-4CB6-B110-FFA04C7EF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55ED-3A07-4A6F-B192-DD1A3875E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54FE-464B-42C1-8767-0F8928E74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E9DD-B5F9-404F-850D-77F6A2306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6118-194F-4296-9FFD-5705082ED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F70D-B035-4D35-9B61-B63A1828C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B36A-A7BE-47CF-9082-100A3F74A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S" STAND FOR IN THE "SAG" AW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N(G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BBREVIATION OF THE TRIG FUNCTION THAT IS THE RATIO "OPPOSITE OVER ADJACE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33480" y="762120"/>
            <a:ext cx="7277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DOG IN THE CHILDREN'S BOOK "FUN WITH DICK AND JA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MOST OFTEN IN THE LYRICS OF THE TRAMMPS' SONG "DISCO INFERN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9536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XIMUM WIDTH OF A BOA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8 TV SERIES ABOUT A HIGH SCHOOL THEATER PROGRAM STARRING JOSH RADNOR WAS CANCELED AFTER ONLY 10 EPISOD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609480" y="4876920"/>
            <a:ext cx="7925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YLANN)  RO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BOY RESPONSIBLE FOR THE CHARLESTON MASS SHOOTING IN 2015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219320" y="762120"/>
            <a:ext cx="6705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RAND OF THE WORLD'S FIRST ANTIBACTERIAL SO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14440" y="762120"/>
            <a:ext cx="8115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BBREVIATION OF THE TRIG FUNCTION THAT IS THE RATIO "OPPOSITE OVER ADJACE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1996 FILM ABOUT A PIANIST DID GEOFFREY RUSH WIN AN OSCAR FOR BEST AC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REEN  (ACTORS  GUIL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S" STAND FOR IN THE "SAG"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7925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SU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DOG IN THE CHILDREN'S BOOK "FUN WITH DICK AND JA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MOST OFTEN IN THE LYRICS OF THE TRAMMPS' SONG "DISCO INFERN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XIMUM WIDTH OF A BOA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8 TV SERIES ABOUT A HIGH SCHOOL THEATER PROGRAM STARRING JOSH RADNOR WAS CANCELED AFTER ONLY 10 EPISODE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BOY RESPONSIBLE FOR THE CHARLESTON MASS SHOOTING IN 2015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RAND OF THE WORLD'S FIRST ANTIBACTERIAL SOA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1996 FILM ABOUT A PIANIST DID GEOFFREY RUSH WIN AN OSCAR FOR BEST AC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8T18:21:58Z</dcterms:created>
  <dc:creator>Jennifer Budzinski</dc:creator>
  <dc:description/>
  <dc:language>en-US</dc:language>
  <cp:lastModifiedBy>Erich Friedman</cp:lastModifiedBy>
  <dcterms:modified xsi:type="dcterms:W3CDTF">2020-08-31T12:20:53Z</dcterms:modified>
  <cp:revision>337</cp:revision>
  <dc:subject/>
  <dc:title>Slide 1</dc:title>
</cp:coreProperties>
</file>