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DF42-A7A7-4664-AA1D-F504FFE13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E223-BC1E-4E85-A746-2285AA458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01FB-63E1-47A5-806F-F9699C3E2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BBB3-3B0F-462F-A7BC-5310B5746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54D4-D380-46FE-8923-E596EF0A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6C34-3432-4B6F-977A-C67B56F03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EEFE-A996-4DFA-BAEB-AB2A11FE5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9092-7320-4F31-B8A1-0795C9EB9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A0C1-1AD0-4432-87DF-A520D10E6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A239-2ED5-4897-99A2-EDDA2988A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B1D5-3058-4B6A-88A0-74C220BB1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FBC1-89C7-4F8E-B5BD-AA7BF491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7714-74AB-4F0A-B44E-1EFB581D4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8195-5970-48F8-9D34-E08623352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BE5E-2FE2-4836-A981-11423F9D8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8BCD-32B6-4A2E-8C96-6FD191E8C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D7AC-8B19-4416-AD0D-6D377A0D3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CF3D-A87F-4D96-B0C6-B0FA09BCF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0E21-6098-4637-AD58-2FB0FB57C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ECD1-1004-4F9C-9C1F-41CF1A0A3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CE8C-739B-40EF-8005-A319E0B80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FAE7-7A2D-4D00-8CDA-5F0EEDF18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9717-C865-4745-A51C-E7C457FDC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THE "SAG"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N(G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BBREVIATION OF THE TRIG FUNCTION THAT IS THE RATIO "OPPOSITE OVER ADJAC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OG IN THE CHILDREN'S BOOK "FUN WITH DICK AND J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MOST OFTEN IN THE LYRICS OF THE TRAMMPS' SONG "DISCO INFER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WIDTH OF A BOA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TV SERIES ABOUT A HIGH SCHOOL THEATER PROGRAM STARRING JOSH RADNOR WAS CANCELED AFTER ONLY 10 EPISOD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609480" y="4876920"/>
            <a:ext cx="7925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YLANN)  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OY RESPONSIBLE FOR THE CHARLESTON MASS SHOOTING IN 2015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RAND OF THE WORLD'S FIRST ANTIBACTERIAL SO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BBREVIATION OF THE TRIG FUNCTION THAT IS THE RATIO "OPPOSITE OVER ADJAC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96 FILM ABOUT A PIANIST DID GEOFFREY RUSH WIN AN OSCAR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EN  (ACTORS  GUI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THE "SAG"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SU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OG IN THE CHILDREN'S BOOK "FUN WITH DICK AND J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MOST OFTEN IN THE LYRICS OF THE TRAMMPS' SONG "DISCO INFER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WIDTH OF A BOA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TV SERIES ABOUT A HIGH SCHOOL THEATER PROGRAM STARRING JOSH RADNOR WAS CANCELED AFTER ONLY 10 EPISOD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OY RESPONSIBLE FOR THE CHARLESTON MASS SHOOTING IN 2015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RAND OF THE WORLD'S FIRST ANTIBACTERIAL SOA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96 FILM ABOUT A PIANIST DID GEOFFREY RUSH WIN AN OSCAR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18:21:58Z</dcterms:created>
  <dc:creator>Jennifer Budzinski</dc:creator>
  <dc:description/>
  <dc:language>en-US</dc:language>
  <cp:lastModifiedBy>Erich Friedman</cp:lastModifiedBy>
  <dcterms:modified xsi:type="dcterms:W3CDTF">2020-08-31T12:20:53Z</dcterms:modified>
  <cp:revision>337</cp:revision>
  <dc:subject/>
  <dc:title>Slide 1</dc:title>
</cp:coreProperties>
</file>