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31AA3-6EC0-4A71-8315-78EE1FB08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24A8-BFB7-4E3A-A565-741C802E4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1AC9-7E21-4342-B08F-E84E7C8BF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77C0-33AF-4485-B94F-BF4E1B466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0B78-AB13-43B8-BD04-F8FFE38B6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34A8-8336-4595-B86C-D44188E55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0744-778D-4F85-8616-B84B65C4D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ED9C-B1B1-4490-8EB9-7458522B9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7EA52-8CA2-45F9-8BFE-2DE874509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047D6-9B30-485B-9ED5-8687E9963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9D2B-FD27-461E-83E2-5326452A9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8755-DBB7-42FF-BB12-6C4ACBB26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B651-0A30-47A2-B2E3-4C7AE82E8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1EB1-0B4A-4058-BB0C-766EDCB7C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CB88-C682-4280-A92A-DE0886236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0C3A-5903-43E7-9667-E813FD1FA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D835-E6B1-49D5-BB2A-1DC86FC9A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CA75-B2D1-4194-BD12-9F56A4BFC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4BA2-6705-48D5-86E7-9D098062A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D95D-C224-4092-A2F7-CFFDED874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2C80-6F5C-40C5-BF1A-CC0BD605A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5301-0644-4679-BFFB-4C50C2927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051B-6DD3-4852-B3BC-173B86F76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THE "SAG" AW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AN(G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9480" y="762120"/>
            <a:ext cx="79250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BBREVIATION OF THE TRIG FUNCTION THAT IS THE RATIO "OPPOSITE OVER ADJACEN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33480" y="762120"/>
            <a:ext cx="7277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DOG IN THE CHILDREN'S BOOK "FUN WITH DICK AND JA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MOST OFTEN IN THE LYRICS OF THE TRAMMPS' SONG "DISCO INFERN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495360" y="4876920"/>
            <a:ext cx="81532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XIMUM WIDTH OF A BOAT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8 TV SERIES ABOUT A HIGH SCHOOL THEATER PROGRAM STARRING JOSH RADNOR WAS CANCELED AFTER ONLY 10 EPISODE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609480" y="4876920"/>
            <a:ext cx="7925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DYLANN)  RO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876240" y="762120"/>
            <a:ext cx="73915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OY RESPONSIBLE FOR THE CHARLESTON MASS SHOOTING IN 2015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19320" y="762120"/>
            <a:ext cx="6705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RAND OF THE WORLD'S FIRST ANTIBACTERIAL SOA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14440" y="762120"/>
            <a:ext cx="8115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ABBREVIATION OF THE TRIG FUNCTION THAT IS THE RATIO "OPPOSITE OVER ADJACEN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0769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14400" y="762120"/>
            <a:ext cx="73152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1996 FILM ABOUT A PIANIST DID GEOFFREY RUSH WIN AN OSCAR FOR BEST ACT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REEN  (ACTORS  GUIL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S" STAND FOR IN THE "SAG" AW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609480" y="4876920"/>
            <a:ext cx="7925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THE  WORD  "SUN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DOG IN THE CHILDREN'S BOOK "FUN WITH DICK AND JA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APPEARS MOST OFTEN IN THE LYRICS OF THE TRAMMPS' SONG "DISCO INFERNO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AXIMUM WIDTH OF A BOAT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8 TV SERIES ABOUT A HIGH SCHOOL THEATER PROGRAM STARRING JOSH RADNOR WAS CANCELED AFTER ONLY 10 EPISODES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BOY RESPONSIBLE FOR THE CHARLESTON MASS SHOOTING IN 2015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219320" y="761760"/>
            <a:ext cx="67053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BRAND OF THE WORLD'S FIRST ANTIBACTERIAL SOA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 WHAT 1996 FILM ABOUT A PIANIST DID GEOFFREY RUSH WIN AN OSCAR FOR BEST ACT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8T18:21:58Z</dcterms:created>
  <dc:creator>Jennifer Budzinski</dc:creator>
  <dc:description/>
  <dc:language>en-US</dc:language>
  <cp:lastModifiedBy>Erich Friedman</cp:lastModifiedBy>
  <dcterms:modified xsi:type="dcterms:W3CDTF">2020-08-31T12:20:53Z</dcterms:modified>
  <cp:revision>337</cp:revision>
  <dc:subject/>
  <dc:title>Slide 1</dc:title>
</cp:coreProperties>
</file>