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439A-9CD5-4BEB-9F6D-6FECE2269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D9B3-4FC6-4BF8-9E46-A29D2BD1E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573D-C753-4181-9954-53208D9C3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9F18-795A-4B31-A340-0107F5FA4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8876-8A2C-4DF3-9A45-B04E17B39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D51D-AF96-44CB-ACF5-5CC43D85B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A869-B04E-47D4-88BC-D19A3A36C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50A0-A825-494D-B9CD-A75C1F9DE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12CF-0099-487F-85CC-DEC5672FE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17FA-EE81-4575-8DB4-12A1D6724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DEEB-C670-43F1-955A-046BB32FB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65B9-BDCF-49D6-B649-C63E080A8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596C-1A3D-4A3B-9676-5FE1B511C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6848-69D2-4DBA-95E1-904015DD4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39B3-6A86-4748-869E-FA2895DA8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4AED-11F6-4080-AA48-C0857601A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76A1-2432-4491-8E53-A3555708F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B010-0C87-442F-AC25-24C08B394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8152-8D45-4BD8-8659-99B8EDF1B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0C22-6A8F-4C65-9525-06D191106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7488-9A8D-4E69-8DDE-DCE8D7775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9EE1-300F-4DA2-BFBC-A261EBCA8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E53A-0426-41EE-9FE1-CA57EC169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METIME TV SHOW WAS THE #1 OR #2 RATED SHOW FROM 1980 TO 198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68580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RICK  GA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PRESIDENT OBAMA NOMINATE TO REPLACE ANTONIN SCALIA ON THE U.S. SUPREME COU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VING  BER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RE'S  NO BUSINESS LIKE SHOW BUSINESS", "GOD BLESS AMERICA", AND "WHITE CHRISTM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523880" y="4343400"/>
            <a:ext cx="6096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ITTLE  OLD  LADY  FROM  PASAD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"SURF CITY", WHAT WAS JAN AND DEAN'S BIGGEST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95360" y="490536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SQ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 OF WHAT TREE COMES FROM THE AZTEC WORD "MIZQUIT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GA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GROUP SANG THE #1 HITS "WANT TO", "ALL I WANT TO DO", "SETTLIN' ", "ALREADY GONE", AND "IT HAPPEN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LINGTON  NATIONAL  CEME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ARE 396 MEDAL OF HONOR RECIPIENTS BURI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D  EL  PA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GENERAL MILLS' BRAND OF MEXICAN FOOD PRODUCT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PRESIDENT OBAMA NOMINATE TO REPLACE ANTONIN SCALIA ON THE U.S. SUPREME COU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AUS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WRESTLER IS KNOWN BY HIS RING NAME "STONE CO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L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METIME TV SHOW WAS THE #1 OR #2 RATED SHOW FROM 1980 TO 198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CITIES  IN  TEX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RE'S  NO BUSINESS LIKE SHOW BUSINESS", "GOD BLESS AMERICA", AND "WHITE CHRISTMA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"SURF CITY", WHAT WAS JAN AND DEAN'S BIGGEST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 OF WHAT TREE COMES FROM THE AZTEC WORD "MIZQUIT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GROUP SANG THE #1 HITS "WANT TO", "ALL I WANT TO DO", "SETTLIN' ", "ALREADY GONE", AND "IT HAPPEN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ARE 396 MEDAL OF HONOR RECIPIENTS BURI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GENERAL MILLS' BRAND OF MEXICAN FOOD PRODUCT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WRESTLER IS KNOWN BY HIS RING NAME "STONE CO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8T18:58:22Z</dcterms:created>
  <dc:creator>Jennifer Budzinski</dc:creator>
  <dc:description/>
  <dc:language>en-US</dc:language>
  <cp:lastModifiedBy>Erich Friedman</cp:lastModifiedBy>
  <dcterms:modified xsi:type="dcterms:W3CDTF">2020-08-31T12:21:10Z</dcterms:modified>
  <cp:revision>338</cp:revision>
  <dc:subject/>
  <dc:title>Slide 1</dc:title>
</cp:coreProperties>
</file>