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C40E-0DFC-49A7-ABF7-A51298EB6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B8E5-D23A-424F-B1AE-23E98C9ED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4D1B-3711-4D97-A80E-56AD6DC01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CDF9-4EFB-4F00-B413-A4E030D6D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2865-1840-4D52-8F23-F4926F960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7A2B-5DCD-4F01-8420-8DFFB2D3C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B956-63F0-40E3-87FB-F0CD5AACA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AA8A-13A6-4CC3-87B8-0D00A14B3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B07B-B080-4095-9385-EE064DEFF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2B79-3441-43D8-96BA-47B26EC97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C322-26D0-43B9-A1ED-2EA0A82A9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6F12-576F-4991-BC62-6E67A3A7C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2789-1298-4FEF-B991-A19C29526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5DC0-1014-4094-B7AE-3CB49BCF4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938C-5C9A-4703-A216-C59619293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D0C7-53BE-4FD1-887D-FF10F4A00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F7B9-D175-45D5-B628-5F278CDA6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7C3E-3B39-487C-A77B-E10F67484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7AE3-2325-43B3-A368-E86208515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DB41-F910-4DF0-830F-4EAF2D73D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8946-B59D-42C2-91EB-FEDF2B4E7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6BB8-5048-438C-BCF5-69D234041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68D7-7720-4E44-9C39-E2F172364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METIME TV SHOW WAS THE #1 OR #2 RATED SHOW FROM 1980 TO 198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68580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RICK  GA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PRESIDENT OBAMA NOMINATE TO REPLACE ANTONIN SCALIA ON THE U.S. SUPREME COU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VING  BER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RE'S  NO BUSINESS LIKE SHOW BUSINESS", "GOD BLESS AMERICA", AND "WHITE CHRISTM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523880" y="4343400"/>
            <a:ext cx="6096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ITTLE  OLD  LADY  FROM  PASAD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IDE FROM "SURF CITY", WHAT WAS JAN AND DEAN'S BIGGEST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95360" y="490536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SQ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ME OF WHAT TREE COMES FROM THE AZTEC WORD "MIZQUIT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GA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GROUP SANG THE #1 HITS "WANT TO", "ALL I WANT TO DO", "SETTLIN' ", "ALREADY GONE", AND "IT HAPPEN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LINGTON  NATIONAL  CEME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ARE 396 MEDAL OF HONOR RECIPIENTS BURI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D  EL  PA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GENERAL MILLS' BRAND OF MEXICAN FOOD PRODUCT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PRESIDENT OBAMA NOMINATE TO REPLACE ANTONIN SCALIA ON THE U.S. SUPREME COU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AUS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WRESTLER IS KNOWN BY HIS RING NAME "STONE CO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L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METIME TV SHOW WAS THE #1 OR #2 RATED SHOW FROM 1980 TO 198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CITIES  IN  TEX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RE'S  NO BUSINESS LIKE SHOW BUSINESS", "GOD BLESS AMERICA", AND "WHITE CHRISTMA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IDE FROM "SURF CITY", WHAT WAS JAN AND DEAN'S BIGGEST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ME OF WHAT TREE COMES FROM THE AZTEC WORD "MIZQUIT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GROUP SANG THE #1 HITS "WANT TO", "ALL I WANT TO DO", "SETTLIN' ", "ALREADY GONE", AND "IT HAPPEN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ARE 396 MEDAL OF HONOR RECIPIENTS BURI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GENERAL MILLS' BRAND OF MEXICAN FOOD PRODUCT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WRESTLER IS KNOWN BY HIS RING NAME "STONE CO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8T18:58:22Z</dcterms:created>
  <dc:creator>Jennifer Budzinski</dc:creator>
  <dc:description/>
  <dc:language>en-US</dc:language>
  <cp:lastModifiedBy>Erich Friedman</cp:lastModifiedBy>
  <dcterms:modified xsi:type="dcterms:W3CDTF">2020-08-31T12:21:10Z</dcterms:modified>
  <cp:revision>338</cp:revision>
  <dc:subject/>
  <dc:title>Slide 1</dc:title>
</cp:coreProperties>
</file>