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8078-97F6-4E9B-861C-7EB51AEC4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B6B2-1377-47FC-A1FB-D884C9A6F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316F-0A4F-4156-AA50-2F592A3B7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3C5E-D625-4669-8AFA-65DB6A994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3467-5960-486E-B843-2B68CD55C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CAF5-4D96-471F-AA37-06528D901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EEB6-A949-4ACE-9979-54E9F35B7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364D-6A4E-497E-B27E-871E9C03D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418C-6A29-4685-B528-B373DF7ED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F86F-184F-4484-A55A-606F419E9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E81D-FEE8-4F65-B871-0296E5C48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5A89-19F5-4430-BE9C-734A3A9D2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06E4-AE9F-431C-B2F0-1B70D98EE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60EA-E595-4EC5-BEB7-8DB9F1F13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1043-27C3-4CE1-A75E-090F31BAD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F80A-9B12-4B5D-B693-1F499DC0A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9FC2-F7BC-4509-99DB-685D2AF41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4C53-2398-43FA-A2F4-586C40B07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E4A7-49AA-4690-8613-AAEA33FBD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F280-B5C7-46B5-B770-FE9FFC85F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CB20-3F47-48E1-9A37-D454F98F1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FFBC-0665-4E1D-894E-4D2DDFF34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23A7-AAAC-498D-8B65-89282A81E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METIME TV SHOW WAS THE #1 OR #2 RATED SHOW FROM 1980 TO 198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68580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RICK  GA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PRESIDENT OBAMA NOMINATE TO REPLACE ANTONIN SCALIA ON THE U.S. SUPREME COU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VING  BE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RE'S  NO BUSINESS LIKE SHOW BUSINESS", "GOD BLESS AMERICA", AND "WHITE CHRIST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523880" y="4343400"/>
            <a:ext cx="6096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ITTLE  OLD  LADY  FROM  PASADE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"SURF CITY", WHAT WAS JAN AND DEAN'S BIGGE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95360" y="490536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SQ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WHAT TREE COMES FROM THE AZTEC WORD "MIZQUIT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GA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GROUP SANG THE #1 HITS "WANT TO", "ALL I WANT TO DO", "SETTLIN' ", "ALREADY GONE", AND "IT HAPPEN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LINGTON  NATIONAL  CEME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ARE 396 MEDAL OF HONOR RECIPIENTS BUR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D  EL  PA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ENERAL MILLS' BRAND OF MEXICAN FOOD PRODUCT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PRESIDENT OBAMA NOMINATE TO REPLACE ANTONIN SCALIA ON THE U.S. SUPREME COU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AUS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IS KNOWN BY HIS RING NAME "STONE C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METIME TV SHOW WAS THE #1 OR #2 RATED SHOW FROM 1980 TO 198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CITIES  IN  TEX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RE'S  NO BUSINESS LIKE SHOW BUSINESS", "GOD BLESS AMERICA", AND "WHITE CHRISTM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"SURF CITY", WHAT WAS JAN AND DEAN'S BIGGE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WHAT TREE COMES FROM THE AZTEC WORD "MIZQUIT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GROUP SANG THE #1 HITS "WANT TO", "ALL I WANT TO DO", "SETTLIN' ", "ALREADY GONE", AND "IT HAPPEN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ARE 396 MEDAL OF HONOR RECIPIENTS BUR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GENERAL MILLS' BRAND OF MEXICAN FOOD PRODUCT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IS KNOWN BY HIS RING NAME "STONE C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8T18:58:22Z</dcterms:created>
  <dc:creator>Jennifer Budzinski</dc:creator>
  <dc:description/>
  <dc:language>en-US</dc:language>
  <cp:lastModifiedBy>Erich Friedman</cp:lastModifiedBy>
  <dcterms:modified xsi:type="dcterms:W3CDTF">2020-08-31T12:21:10Z</dcterms:modified>
  <cp:revision>338</cp:revision>
  <dc:subject/>
  <dc:title>Slide 1</dc:title>
</cp:coreProperties>
</file>