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492D-B2C2-4C4A-A418-A84D287C0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207-D1F4-4DF8-86E0-68D4DE74C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50D-36AD-43E9-A956-ADC988E0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F6F1-19CE-4217-8FE7-BEAF2A30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FA1D-98A6-49D1-A205-A4EB18E4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111C-B6BB-4752-A3B9-2D77A083E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106-901E-44B9-A03D-EFF0ABB70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7F3E-2C3C-450D-B41F-2BC9872F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5612-4236-4416-9E2D-8EF48279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6B15-39BC-4DBC-8105-F2F00C67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284-B6AE-484B-8A19-5E550C4A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A1E9-A635-4ACB-897D-721D7F22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8BCA-74B0-4730-AE93-0563C524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BE62-3568-48EF-A8FA-7CC3F28A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6EC2-3F5E-4EAD-BAF9-ABC1D854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CDC3-7258-47FC-819B-4975025E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C6E-DAE6-471C-AD00-E5995D81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12B3-E2AC-48B1-BD24-86C5305D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5120-8A5C-414D-98CB-9BE1B1D6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D119-0E72-43BB-AF5A-293461A9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2521-5734-43FC-9E78-AC36A27B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BABF-D1ED-4D2C-8DB0-662679BA7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5C21-77D4-4F78-B81C-FFDD765E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ON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FL PLAYER WHO WAS MVP OF 4 DIFFERENT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VOCAL RANGE OF ALL VOICE TY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CHEST FAMIL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AMMY", "THE BOSS", "THE HEAT", AND "LIFE OF THE PA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  GOLD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1200" y="765000"/>
            <a:ext cx="7581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BLACK WOMAN TO HAVE WON  EMMY, GRAMMY, OSCAR, AND TON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 IS CREDITED WITH WRITING MOST OF THE DECLARATION OF INDEPEN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NFL PLAYER TO RUSH FOR 2000 YARD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FL PLAYER WHO WAS MVP OF 4 DIFFERENT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AXI DRIVER" AND BEST ACTRESS FOR "THE 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NY  LEE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ON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3809880"/>
            <a:ext cx="685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S  LAST  NAMES  THAT  THERE  ARE  TV  SHOWS  NAMED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VOCAL RANGE OF ALL VOICE TYP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CHEST FAMIL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AMMY", "THE BOSS", "THE HEAT", AND "LIFE OF THE PA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000" y="762120"/>
            <a:ext cx="796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BLACK WOMAN TO HAVE WON  EMMY, GRAMMY, OSCAR, AND TON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 IS CREDITED WITH WRITING MOST OF THE DECLARATION OF INDEPEND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NFL PLAYER TO RUSH FOR 2000 YARD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AXI DRIVER" AND BEST ACTRESS FOR "THE 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12:08Z</dcterms:created>
  <dc:creator>Jennifer Budzinski</dc:creator>
  <dc:description/>
  <dc:language>en-US</dc:language>
  <cp:lastModifiedBy>Erich Friedman</cp:lastModifiedBy>
  <dcterms:modified xsi:type="dcterms:W3CDTF">2020-08-31T12:21:30Z</dcterms:modified>
  <cp:revision>457</cp:revision>
  <dc:subject/>
  <dc:title>Slide 1</dc:title>
</cp:coreProperties>
</file>