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04E-FEC1-4082-80CF-71DE59AF2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267C-6622-446D-8DDC-C13D3FC9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5BE1-24DA-4BD6-B3C2-E34D4624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B2F-3B5D-4CA6-8955-6CDB6A8A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18B0-C58F-4C08-86C1-13C5AE47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E4E-A998-4251-8F80-0B42AFC1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02F1-CA1C-41B5-A539-BCB048F67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57CF-5B9F-4AED-AD87-AD130664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4CF-DBC9-4A9F-B0E7-9D71DCDF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6EA9-735F-4A1F-B16B-8DF80CCEC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1C8-E934-408F-9554-6AEDE317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D5FD-F250-498D-ACE4-4FC6224F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9F53-365B-482A-A8E8-CF227440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FA4D-B714-4132-8F65-C621700A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680D-C8BB-4F68-AB5A-35F22ABA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1351-6626-4E21-89FD-A0248D26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C93-0EBC-4613-AEC1-D79CC572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6ED2-BFC7-4CE3-9EAC-CE2016F3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F1B8-4AC4-4BB6-8366-07B43FA66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3AC5-43CA-4749-93BA-F4E5B9FE7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384A-996C-4CE2-ABB0-40171536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512C-6219-45C3-8EC3-FD7A9943F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A98-2199-46BB-A785-49A94189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ON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FL PLAYER WHO WAS MVP OF 4 DIFFERENT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VOCAL RANGE OF ALL VOICE TY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CHEST FAMIL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AMMY", "THE BOSS", "THE HEAT", AND "LIFE OF THE PA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  GOLD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1200" y="765000"/>
            <a:ext cx="7581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BLACK WOMAN TO HAVE WON  EMMY, GRAMMY, OSCAR, AND TON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 IS CREDITED WITH WRITING MOST OF THE DECLARATION OF INDEPEN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NFL PLAYER TO RUSH FOR 2000 YARD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FL PLAYER WHO WAS MVP OF 4 DIFFERENT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AXI DRIVER" AND BEST ACTRESS FOR "THE 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NY  LEE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ON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3809880"/>
            <a:ext cx="685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S  LAST  NAMES  THAT  THERE  ARE  TV  SHOWS  NAMED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VOCAL RANGE OF ALL VOICE TYP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CHEST FAMIL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AMMY", "THE BOSS", "THE HEAT", AND "LIFE OF THE PA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000" y="762120"/>
            <a:ext cx="796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BLACK WOMAN TO HAVE WON  EMMY, GRAMMY, OSCAR, AND TON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 IS CREDITED WITH WRITING MOST OF THE DECLARATION OF INDEPEND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NFL PLAYER TO RUSH FOR 2000 YARD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AXI DRIVER" AND BEST ACTRESS FOR "THE 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12:08Z</dcterms:created>
  <dc:creator>Jennifer Budzinski</dc:creator>
  <dc:description/>
  <dc:language>en-US</dc:language>
  <cp:lastModifiedBy>Erich Friedman</cp:lastModifiedBy>
  <dcterms:modified xsi:type="dcterms:W3CDTF">2020-08-31T12:21:30Z</dcterms:modified>
  <cp:revision>457</cp:revision>
  <dc:subject/>
  <dc:title>Slide 1</dc:title>
</cp:coreProperties>
</file>