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776B-4F5B-43B7-BEB3-C0E2D134D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43AA-7B36-409F-9975-FF2A01F47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75E7-2C4C-4C16-8FFB-699540714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441C-4F17-41EB-BB8C-33CC17FCD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643F-4799-43B5-80DF-128012C94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AC36-5F40-49DF-B08B-5D7ECDC41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23FF-F07C-48F9-BADA-A66D7255F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A59E-65E6-4929-9CB0-E58519AA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9BDA-7C46-4BBF-9C65-B4B241F17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0104-107E-444D-B6E5-E07A1BE05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D3DA-7DB3-49A4-9A52-9509A0AA9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9FF3-0B4E-46AA-BCE1-B5AB2FF12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C330-9ABA-4B06-B7D0-6C1AC0DB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EE9F-337F-4B83-BB57-80F39A1D7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FA34-106D-434A-945E-48955F949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204F-ADB8-4A98-AA76-C97069D08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A2FE-415B-4FA3-B330-6EBC414C8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5980-344D-47EE-8D8C-DA937BE45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5A5F-CCC4-460F-A8B0-5EAE8A5E7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1E35-9F84-4DE4-846A-3618FE191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F1C2-9FF5-41CA-A279-1FDCB7484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07D2-8C2F-491B-A978-DF0F2BCDF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861F-4E5F-4219-A856-A5058990D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RLOCK HOLMES ON "ELEMEN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FL PLAYER WHO WAS MVP OF 4 DIFFERENT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R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VOCAL RANGE OF ALL VOICE TYP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CHEST FAMIL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AMMY", "THE BOSS", "THE HEAT", AND "LIFE OF THE PAR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OPI  GOLD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81200" y="765000"/>
            <a:ext cx="7581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BLACK WOMAN TO HAVE WON  EMMY, GRAMMY, OSCAR, AND TON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JEFF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SON IS CREDITED WITH WRITING MOST OF THE DECLARATION OF INDEPEN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. J. 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NFL PLAYER TO RUSH FOR 2000 YARDS IN A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FL PLAYER WHO WAS MVP OF 4 DIFFERENT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DI  F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AXI DRIVER" AND BEST ACTRESS FOR "THE 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NY  LEE  M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RLOCK HOLMES ON "ELEMEN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3809880"/>
            <a:ext cx="685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S  LAST  NAMES  THAT  THERE  ARE  TV  SHOWS  NAMED 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VOCAL RANGE OF ALL VOICE TYP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71600" y="76212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CHEST FAMIL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AMMY", "THE BOSS", "THE HEAT", AND "LIFE OF THE PAR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000" y="762120"/>
            <a:ext cx="7962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BLACK WOMAN TO HAVE WON  EMMY, GRAMMY, OSCAR, AND TON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SON IS CREDITED WITH WRITING MOST OF THE DECLARATION OF INDEPEND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NFL PLAYER TO RUSH FOR 2000 YARDS IN A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AXI DRIVER" AND BEST ACTRESS FOR "THE SILENCE OF THE LAM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12:08Z</dcterms:created>
  <dc:creator>Jennifer Budzinski</dc:creator>
  <dc:description/>
  <dc:language>en-US</dc:language>
  <cp:lastModifiedBy>Erich Friedman</cp:lastModifiedBy>
  <dcterms:modified xsi:type="dcterms:W3CDTF">2020-08-31T12:21:30Z</dcterms:modified>
  <cp:revision>457</cp:revision>
  <dc:subject/>
  <dc:title>Slide 1</dc:title>
</cp:coreProperties>
</file>