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0B07-E490-4148-A603-CCC37E784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434B-1258-48E4-9E2E-786C4540E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7672-C62F-4CBA-8F63-F2E64D763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A50E-96A9-4ABF-AC8D-F92FC82F2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AFA9-769C-46CC-8D64-CDB70425A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4CF5-FDB1-4806-9743-66CFD09E7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8702-64E6-4BCB-B31E-108935888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52B4-8B18-4B59-B518-26534F7D7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AF29-3C33-4F36-A317-378297A5C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1149-CE08-4E2B-9EB0-E99F252D9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5173-6483-499F-BC8D-5963671FB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2624-ED9F-4CFD-83B9-BFC15FD26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4907-E2BC-4464-92AF-5B5C065FD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A720-D5D1-4DFD-B52C-F906665AD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85F5-7D45-48B8-B45B-349370160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0F47-DD06-4DC5-B49B-E83339F57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3EB5-8952-44D0-843D-10924FCE2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9747-4244-4814-9C94-9F2FE92E7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812C-1BA0-4BC3-9EE4-40CE0665A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1229-6CD2-49F0-B664-8318CE24C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4538-5CDF-4069-ABE4-EEA419EA7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1285-B5C3-47A4-AE9C-AE8669D55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1820-A65A-4659-8CF5-873468CDC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STETSON UNIVERSITY’S SPORTS MASC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VATE EQUITY AND VENTURE CAPITAL FILM DID MITT ROMNEY CO-F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68580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THRILLER FILM STARRED JESSICA LANGE AND GWYNETH PALTR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CAREC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RAY BOLGER PLAY IN “THE WIZARD OF OZ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500040" y="48988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IDD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UZZLE COLUMN CALLED AT NATE SILVER’S POLITICS / SPORTS SITE FIVETHIRTYEIGHT.C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ISON  I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AVES OF THREE, LET IT BE" IS A CAUTIONARY RHYME ABOUT WHAT PL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GU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EROR, CHINSTRAP, MACARONI, AND KING ARE DIFFERENT SPECIES OF WHAT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SPACE WESTERN TV SERIES STARRING NATHAN FILLION WAS CANCELED AFTER ONLY        11 EPISO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VATE EQUITY AND VENTURE CAPITAL FILM DID MITT ROMNEY CO-F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2 OF IN AMERICAN DECKS OF CARDS, BUT 3 OF IN GERMAN AND AUSTRIAN DE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D  HA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STETSON UNIVERSITY’S SPORTS MASC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BATMAN  VILL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THRILLER FILM STARRED JESSICA LANGE AND GWYNETH PALTR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47920" y="76212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RAY BOLGER PLAY IN “THE WIZARD OF OZ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UZZLE COLUMN CALLED AT NATE SILVER’S POLITICS / SPORTS SITE FIVETHIRTYEIGHT.C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AVES OF THREE, LET IT BE" IS A CAUTIONARY RHYME ABOUT WHAT PL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EROR, CHINSTRAP, MACARONI, AND KING ARE DIFFERENT SPECIES OF WHAT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SPACE WESTERN TV SERIES STARRING NATHAN FILLION WAS CANCELED AFTER ONLY      11 EPISOD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2 OF IN AMERICAN DECKS OF CARDS, BUT 3 OF IN GERMAN AND AUSTRIAN DEC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8T18:58:22Z</dcterms:created>
  <dc:creator>Jennifer Budzinski</dc:creator>
  <dc:description/>
  <dc:language>en-US</dc:language>
  <cp:lastModifiedBy>Erich Friedman</cp:lastModifiedBy>
  <dcterms:modified xsi:type="dcterms:W3CDTF">2020-08-31T12:21:55Z</dcterms:modified>
  <cp:revision>347</cp:revision>
  <dc:subject/>
  <dc:title>Slide 1</dc:title>
</cp:coreProperties>
</file>