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AC04-D13C-4F7E-8A67-F509C9C2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B69B-A554-4671-826E-7B552B8B7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A658-602F-4468-A53F-10DBAB524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AA34-CCAF-4744-A4D8-F86D59B2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70F3-A442-476A-84F1-E726D95A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9FF-EF08-40AE-BD4E-0DD2F8A1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362-20D6-41A4-A93C-31135E470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6B6-03DB-4C12-A34C-4EFFA445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14D4-8422-496E-9D25-18F0DACB3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096-2801-412E-AE67-B277CB8C4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45E-C21D-4207-9979-F4E31A3E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FAE-4558-452E-9CBB-8A976DF9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B268-6252-4F13-B6F8-3D6AB59D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A5BA-8696-49FC-98E2-61090E4D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7E0-F627-491C-8EDD-605BADE40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633-31C1-4804-9316-784A6E4C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0D2E-78D1-4B28-A282-74D858DE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B48A-1F2A-4A2A-8D51-B4D88182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249-9E49-4C3A-8EB4-07F2A748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311B-CA12-4C80-B30F-1C37573B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1DF0-0D57-435C-B63A-90630E22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A043-7AC6-4041-9EE6-E399A8D55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9BF6-304D-48AA-A048-CF1AB4FD4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TSON UNIVERSITY’S SPORTS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VATE EQUITY AND VENTURE CAPITAL FILM DID MITT ROMNEY CO-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68580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THRILLER FILM STARRED JESSICA LANGE AND GWYNETH PALT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“THE WIZARD OF OZ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00040" y="4898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D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ZZLE COLUMN CALLED AT NATE SILVER’S POLITICS / SPORTS SITE FIVETHIRTYEIGHT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SON  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VES OF THREE, LET IT BE" IS A CAUTIONARY RHYME ABOUT WHAT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, CHINSTRAP, MACARONI, AND KING ARE DIFFERENT SPECIES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PACE WESTERN TV SERIES STARRING NATHAN FILLION WAS CANCELED AFTER ONLY        11 EPIS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VATE EQUITY AND VENTURE CAPITAL FILM DID MITT ROMNEY CO-F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2 OF IN AMERICAN DECKS OF CARDS, BUT 3 OF IN GERMAN AND AUSTRIAN D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D  H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TSON UNIVERSITY’S SPORT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ATMAN  VIL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THRILLER FILM STARRED JESSICA LANGE AND GWYNETH PALT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“THE WIZARD OF OZ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ZZLE COLUMN CALLED AT NATE SILVER’S POLITICS / SPORTS SITE FIVETHIRTYEIGHT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VES OF THREE, LET IT BE" IS A CAUTIONARY RHYME ABOUT WHAT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, CHINSTRAP, MACARONI, AND KING ARE DIFFERENT SPECIES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PACE WESTERN TV SERIES STARRING NATHAN FILLION WAS CANCELED AFTER ONLY      11 EPIS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2 OF IN AMERICAN DECKS OF CARDS, BUT 3 OF IN GERMAN AND AUSTRIAN DE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1:55Z</dcterms:modified>
  <cp:revision>347</cp:revision>
  <dc:subject/>
  <dc:title>Slide 1</dc:title>
</cp:coreProperties>
</file>