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AAC5-138D-453F-A9D9-894CF21EF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6FF3-07CC-498F-B225-D450D5D8A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7EDD-3DFC-48E0-92D2-9C4C566DF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B0BE-9AA5-4421-B20B-F7F683B60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3B19-8461-4D4E-A119-00EB91A3C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A056-5DDC-4E81-904D-D752528E1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A29C-2FCE-4CCE-84C3-34F31315F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B609-6985-4978-9A28-7A3DF7765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8D29-57EF-4AF9-8C28-DDFA535AC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C6E8-DA36-4BA2-B9AF-44F4A9F25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3E47-C86D-47D7-A03D-9F0B64598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B24E-C0A5-4B44-9171-5A91EAD51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6E24-556F-4CDF-B680-6CFD2DE82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BB06-6D5D-4E4A-937D-D36A21889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0157-FDF6-4B4F-9DFB-3398DC3D1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23F9-57EE-4019-A829-B94CE5FD0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0E66-BFE8-465D-A371-372B4BDA2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88F2-C66F-4C90-AC24-923AC5C17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7E95-AB48-4D9D-805F-4260B7411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DE2D-DE15-4DB6-941D-3CF59ADB9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3FFF-6AC5-4C9D-9EF1-327827CE1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384C-2CA4-41C7-8228-1A6787B9B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9FE4-4763-41DC-9FE6-8EDED4928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STETSON UNIVERSITY’S SPORTS MASC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VATE EQUITY AND VENTURE CAPITAL FILM DID MITT ROMNEY CO-FOU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68580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THRILLER FILM STARRED JESSICA LANGE AND GWYNETH PALTR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CAREC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95280" y="762120"/>
            <a:ext cx="65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RAY BOLGER PLAY IN “THE WIZARD OF OZ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500040" y="48988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IDD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UZZLE COLUMN CALLED AT NATE SILVER’S POLITICS / SPORTS SITE FIVETHIRTYEIGHT.C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ISON  I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EAVES OF THREE, LET IT BE" IS A CAUTIONARY RHYME ABOUT WHAT PL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GU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PEROR, CHINSTRAP, MACARONI, AND KING ARE DIFFERENT SPECIES OF WHAT ANI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SPACE WESTERN TV SERIES STARRING NATHAN FILLION WAS CANCELED AFTER ONLY        11 EPISOD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VATE EQUITY AND VENTURE CAPITAL FILM DID MITT ROMNEY CO-FOU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RE 2 OF IN AMERICAN DECKS OF CARDS, BUT 3 OF IN GERMAN AND AUSTRIAN DE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AD  HA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STETSON UNIVERSITY’S SPORTS MASC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BATMAN  VILL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THRILLER FILM STARRED JESSICA LANGE AND GWYNETH PALTR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47920" y="762120"/>
            <a:ext cx="624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RAY BOLGER PLAY IN “THE WIZARD OF OZ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UZZLE COLUMN CALLED AT NATE SILVER’S POLITICS / SPORTS SITE FIVETHIRTYEIGHT.C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EAVES OF THREE, LET IT BE" IS A CAUTIONARY RHYME ABOUT WHAT PL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PEROR, CHINSTRAP, MACARONI, AND KING ARE DIFFERENT SPECIES OF WHAT ANI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SPACE WESTERN TV SERIES STARRING NATHAN FILLION WAS CANCELED AFTER ONLY      11 EPISOD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RE 2 OF IN AMERICAN DECKS OF CARDS, BUT 3 OF IN GERMAN AND AUSTRIAN DEC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8T18:58:22Z</dcterms:created>
  <dc:creator>Jennifer Budzinski</dc:creator>
  <dc:description/>
  <dc:language>en-US</dc:language>
  <cp:lastModifiedBy>Erich Friedman</cp:lastModifiedBy>
  <dcterms:modified xsi:type="dcterms:W3CDTF">2020-08-31T12:21:55Z</dcterms:modified>
  <cp:revision>347</cp:revision>
  <dc:subject/>
  <dc:title>Slide 1</dc:title>
</cp:coreProperties>
</file>