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36FE-FD9D-4DB3-92FB-7B22E40DE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0A72-BB56-438B-892B-FDF69E2EE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7D76-C33A-4FFA-808C-68B886BFC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278B-9914-45D3-9CDB-D2ABE1006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C7B2-8F7F-4BCA-97F6-14F3032D4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79E2-90B0-442F-804F-F83F2EECD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AFE6-8713-4852-86E7-890314122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F15E-CD17-4A45-81CD-F6A09E06D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75D2-FD23-4953-ADA8-B13455201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BBA0-C489-499C-B0C1-9BBBC47D2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1F94D-0FFF-4064-8F55-5D390240A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AB11-0934-4055-93C3-CB6FA9973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CC0B-6B91-4AD5-9F6E-C6E0EA351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3CA9-A495-4AE1-9C4B-8215BB912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F15F-04FA-4562-9B00-74F06F070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56EC-867C-45FF-9E1C-D3CD8E993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F968-89CB-42B6-BD95-AFDED5FD3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F71C-58D2-48E1-BB11-72D347E62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44A6-E7B8-46DA-89D4-78961D974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C624-72F0-4166-86EC-AEB969FB0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45B3-9D79-4FC4-8956-0B6748074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263B-38B5-4BC6-8EAC-C200670E6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0B94-E5FE-44C0-865B-8DAE921E5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4475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LSH POET WROTE "DO NOT GO GENTLE INTO THAT GOOD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762120" y="762120"/>
            <a:ext cx="7619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IS THE LARGEST PRODUCER OF FRUITS AND VEGETAB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OOPING  C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680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ALLEST NORTH AMERICAN BI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DEN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AKE ME HOME, COUNTRY ROA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5029200"/>
            <a:ext cx="441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91440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ED AT THE BOTTOM OF THIS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4" descr=""/>
          <p:cNvPicPr/>
          <p:nvPr/>
        </p:nvPicPr>
        <p:blipFill>
          <a:blip r:embed="rId1"/>
          <a:stretch/>
        </p:blipFill>
        <p:spPr>
          <a:xfrm>
            <a:off x="4876920" y="533520"/>
            <a:ext cx="3822480" cy="488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B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UITAR COMPANY MAKES THE LES PAUL, AND FILED FOR BANKRUPTCY IN 2018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952880"/>
            <a:ext cx="4267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EY  &amp; 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685800" y="838080"/>
            <a:ext cx="3429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FILM THIS DOG WAS I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/>
          <a:stretch/>
        </p:blipFill>
        <p:spPr>
          <a:xfrm>
            <a:off x="4876920" y="457200"/>
            <a:ext cx="3809880" cy="49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RACHEL'S BOYFRIEND ON "FRIE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IS THE LARGEST PRODUCER OF FRUITS AND VEGETAB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EV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57080"/>
            <a:ext cx="73152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APTAIN AMERICA IN 8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YLAN 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838080" y="762120"/>
            <a:ext cx="7467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LSH POET WROTE "DO NOT GO GENTLE INTO THAT GOOD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800280" y="4343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PEOPLE  NAMED  B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ALLEST NORTH AMERICAN BI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AKE ME HOME, COUNTRY ROA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28600" y="955800"/>
            <a:ext cx="4191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ED AT THE BOTTOM OF THIS PO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4876920" y="533520"/>
            <a:ext cx="3822480" cy="48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UITAR COMPANY MAKES THE LES PAUL, AND FILED FOR BANKRUPTCY IN 2018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520" y="9140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FILM THIS DOG WAS I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tretch/>
        </p:blipFill>
        <p:spPr>
          <a:xfrm>
            <a:off x="4876920" y="457200"/>
            <a:ext cx="38098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RACHEL'S BOYFRIEND ON "FRIE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APTAIN AMERICA IN 8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22:14Z</dcterms:modified>
  <cp:revision>336</cp:revision>
  <dc:subject/>
  <dc:title>Slide 1</dc:title>
</cp:coreProperties>
</file>