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E26-329A-44EA-98A6-50034225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6825-3D0D-4188-825A-7DBA20E0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9C3-B1E9-419B-BF51-5F81260C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849-70A5-4C06-8DFA-23DFE263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F69-E7CE-4D80-BCB1-83345A3B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95B-2FA6-45B2-8C11-D28CD70A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31BC-472B-42C4-8BA7-5BD5B845F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E3FF-3123-4F47-8C00-F9853079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B906-1927-461A-A78E-054E7BB6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0F43-389D-4126-B1C1-214B3DC2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CC1-EA33-4E93-A925-36D6DF4D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E73-EABA-47E4-A2AE-03C819C6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27C-CD54-47A4-A1CB-704A5741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6D4-D758-44B8-B68C-DB812ECB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CD7-FED7-4248-B50D-7E5DF691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C81F-38BB-4F44-B68B-9FB86DCF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143-9F84-4E4D-A7B5-0B8EBF9D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6CE-0525-46B1-AB82-0BE036CF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668-7965-4E28-A475-881898535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1CE-0E37-4FA9-82F6-24F118B9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6F1-0E52-4839-897F-0DE9E4DA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644-C1DB-493F-B198-49BD3F08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254-6E31-44AF-9688-E7F8D2A5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NG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680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50292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9144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838080"/>
            <a:ext cx="34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570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00280" y="4343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9558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14Z</dcterms:modified>
  <cp:revision>336</cp:revision>
  <dc:subject/>
  <dc:title>Slide 1</dc:title>
</cp:coreProperties>
</file>