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89D6-1744-4335-AA48-431A0626F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E16D-671F-45DF-8761-45ED52577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BF79-BFD4-4A1A-97E4-95B3173C0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39DF-B056-43B2-8F0B-888B01061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DBB4-1446-434D-9704-99CB2D4AA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042F-3D8A-4AE4-81C7-1F4DA208C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08CC-8EB1-4A99-8D97-B52B3A397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76C6-D312-49AB-8630-49039D480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7CCD-1DD4-44BA-AE12-4557A7433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7A6A-F95C-4B2E-B155-22FB52F91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9AF4-5EF4-49A3-B95F-0F030CF24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EB74-33B2-4511-90A5-D01BBC3CB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A93F-BD4F-439E-9ECA-A6E3C9CB6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91C8-1701-4EA7-BB81-28D7F4319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506A-6D2F-4A1F-93F1-9D499CD21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51EA-91CA-415C-AA04-F322A034D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C7A6-C297-4F84-B968-B30BBC8DA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26AD-AA8C-4A12-A959-AD492D62C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9731-4F6E-4D64-A861-FEE4CA899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62D8-EB66-4F63-B8FC-4D8D14D54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6C11-51A2-4B1D-BF20-E127E8825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335A-D699-4B38-A139-AB1390B9D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B439-C545-420E-BF7D-4454280C9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4475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SH POET WROTE "DO NOT GO GENTLE INTO THAT GOOD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IS THE LARGEST PRODUCER OF FRUITS AND VEGET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OPING  C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680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NORTH AMERICAN B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E HOME, COUNTRY ROA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5029200"/>
            <a:ext cx="441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91440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ED AT THE BOTTOM OF THIS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822480" cy="488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B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UITAR COMPANY MAKES THE LES PAUL, AND FILED FOR BANKRUPTCY IN 201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952880"/>
            <a:ext cx="4267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Y  &amp;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85800" y="838080"/>
            <a:ext cx="3429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ILM THIS DOG WAS I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80988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ACHEL'S BOYFRIEND ON "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IS THE LARGEST PRODUCER OF FRUITS AND VEGETAB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EV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57080"/>
            <a:ext cx="73152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APTAIN AMERICA IN 8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YLAN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SH POET WROTE "DO NOT GO GENTLE INTO THAT GOOD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800280" y="4343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PEOPLE  NAMED  B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NORTH AMERICAN BI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E HOME, COUNTRY ROA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955800"/>
            <a:ext cx="419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ED AT THE BOTTOM OF THIS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822480" cy="48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UITAR COMPANY MAKES THE LES PAUL, AND FILED FOR BANKRUPTCY IN 2018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ILM THIS DOG WAS I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8098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ACHEL'S BOYFRIEND ON "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APTAIN AMERICA IN 8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2:14Z</dcterms:modified>
  <cp:revision>336</cp:revision>
  <dc:subject/>
  <dc:title>Slide 1</dc:title>
</cp:coreProperties>
</file>