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499-67E7-48E9-AD88-40218F57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E481-E191-4E8C-B2A8-576AE56CC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C21B-6B7E-41B8-8E2B-611DB457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03FD-C411-41FE-9B32-9E8E171DF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C325-3A0A-4689-80CF-AAE212301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BCF-821A-42E9-8719-C7FBD415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25E-7187-43F5-8AC0-E118C677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8C42-796B-4506-928A-7ED74808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653B-73CA-4629-8DA6-F83A34F7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323A-7D7C-4E91-A92B-C0DF3230E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FC7-DD8B-4637-90E1-BA5E4D93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FC1A-2192-4E60-A4CE-A152169E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FC3-C6DF-4FAD-BEA8-4041F719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8BD-C203-44E8-A66D-96B2F8AF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DAA4-1CF9-4B29-8B35-0B72E0B2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304F-E34F-47B5-B5E6-02BFAF27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2CAF-A129-4935-8517-467AE3ACF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7B3-85F7-4879-BD8B-A1E8CFD6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585-E63C-488F-949F-EA5DE91E3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E01-0D1E-45A5-B7DE-63E8650A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213F-BDD5-40E3-A099-D59D4D41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ECB-C006-47F3-8B10-01E2B3ED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E45F-80BF-463E-8479-0308294C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NAME OF BUSTER POINDEXTER'S FIRST HIT SO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ARM, EAR, HIP, GUM, JAW, LEG, LIP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HIRDS OF THE U.S. PRESIDENTS SERVED IN WHAT BRANCH OF THE ARMED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NAME BESIDES CARDINALS IS SHARED BY A MLB FRANCHISE AND AN NFL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362320" y="487692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TML COMMAND TO GIVE METADATA FOR A DOC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GOLF CLUB HAVE LONGER SHAFTS AND ROUNDER HEA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RODUCT OF TWO 3-DIMENSIONAL VECTORS GIVES ANOTHER VECT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KEY ON MOST KEYBOARDS, BESIDES THE SPACE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ARM, EAR, HIP, GUM, JAW, LEG, LIP, RIB, TO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9080" y="762120"/>
            <a:ext cx="7305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SP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NAME OF BUSTER POINDEXTER'S FIRST HIT SO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66720" y="4800600"/>
            <a:ext cx="7810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RE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HIRDS OF THE U.S. PRESIDENTS SERVED IN WHAT BRANCH OF THE ARMED FOR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NAME BESIDES CARDINALS IS SHARED BY A MLB FRANCHISE AND AN NFL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TML COMMAND TO GIVE METADATA FOR A DOC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GOLF CLUB HAVE LONGER SHAFTS AND ROUNDER HEA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RODUCT OF TWO 3-DIMENSIONAL VECTORS GIVES ANOTHER VECT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KEY ON MOST KEYBOARDS, BESIDES THE SPACE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SP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32Z</dcterms:modified>
  <cp:revision>343</cp:revision>
  <dc:subject/>
  <dc:title>Slide 1</dc:title>
</cp:coreProperties>
</file>