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4A05-292F-439F-968F-9B31E675D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D85C-C68B-4B1F-AA3E-22D7B3B46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0F8E-87E5-4AD6-903B-0829871F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D519-0B67-498A-9212-FE9820503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BF54-86C2-42C6-82A4-D4ED21B01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92E8-5EC6-4554-90FA-9FF667B6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571F-890A-42CF-87B2-8279527A9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29B-411D-4C5C-A068-50897CDBC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0182-6B39-4E1B-9A33-9BA237E3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350A-C30C-4313-9183-374CD940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0C0C-415B-4C06-9D4C-069CEB472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7816-2FCB-4945-9945-5206BD0AA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E173-6BC3-4789-8960-F7015BF2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363E-64CB-4958-BAB8-2F4F23AD5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274C-EFFB-4913-8437-679FB00C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9064-72F8-41CE-9417-3EFBB904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454E-5CA0-4D98-8BB8-2C39B437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8C3D-862F-49E8-8613-3033F6545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ACE5-E6C6-4A38-B707-54896EF70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9516-FD47-49C2-9689-E5222F2B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56B3-33C7-430E-B19B-794E10230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FA30-C8DB-45C8-BFE4-6CF9B17F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A46F-00E4-47BC-93E5-335A0368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4475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NAME OF BUSTER POINDEXTER'S FIRST HIT SO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BODY PARTS WITH 3 LETTERS: ARM, EAR, HIP, GUM, JAW, LEG, LIP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HIRDS OF THE U.S. PRESIDENTS SERVED IN WHAT BRANCH OF THE ARMED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NAME BESIDES CARDINALS IS SHARED BY A MLB FRANCHISE AND AN NFL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362320" y="487692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&lt;HEAD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5480" y="76824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TML COMMAND TO GIVE METADATA FOR A DOC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GOLF CLUB HAVE LONGER SHAFTS AND ROUNDER HEA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RODUCT OF TWO 3-DIMENSIONAL VECTORS GIVES ANOTHER VECT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KEY ON MOST KEYBOARDS, BESIDES THE SPACE 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BODY PARTS WITH 3 LETTERS: ARM, EAR, HIP, GUM, JAW, LEG, LIP, RIB, TO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9080" y="762120"/>
            <a:ext cx="7305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SP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71640" y="762120"/>
            <a:ext cx="7200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NAME OF BUSTER POINDEXTER'S FIRST HIT SO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66720" y="4800600"/>
            <a:ext cx="7810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RE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HIRDS OF THE U.S. PRESIDENTS SERVED IN WHAT BRANCH OF THE ARMED FOR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NAME BESIDES CARDINALS IS SHARED BY A MLB FRANCHISE AND AN NFL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TML COMMAND TO GIVE METADATA FOR A DOC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GOLF CLUB HAVE LONGER SHAFTS AND ROUNDER HEA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38240" y="762120"/>
            <a:ext cx="706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RODUCT OF TWO 3-DIMENSIONAL VECTORS GIVES ANOTHER VECT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KEY ON MOST KEYBOARDS, BESIDES THE SPACE 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SP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2:32Z</dcterms:modified>
  <cp:revision>343</cp:revision>
  <dc:subject/>
  <dc:title>Slide 1</dc:title>
</cp:coreProperties>
</file>