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200D-C03E-457C-871C-8AFD40C1C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9359-F6F7-4053-8D4B-FCF8D8952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491C-9063-4D0E-9547-E8C592552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C0A5-5F4C-4382-BF5C-EBA8C1067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A09D-1475-4185-B21E-8D885063B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4407-6467-4723-BFC7-AD4D6AE71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2852-044E-4175-A78B-0DE27032D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A6BD-571A-4804-934D-548D50E4D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2F48-6191-4E58-8600-596082DC7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C802-5EE4-4A2A-AB30-5958C09DC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0B12-E774-48F0-A815-97C5EE4C2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1320-85DF-47D5-83FF-CE79141C0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6503-3562-49AE-84E9-97703E632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4413-327B-4861-B22E-DEFF0F8F4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1D6B-278E-451F-B956-966C34AB4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C497-6A44-4B29-A7BC-F39D9FC65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F858-A38E-4C55-9508-542A00369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1A1D-1EBD-4600-89C9-700ED892B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B4BB-BB3B-4BF0-B819-E694F16C2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7428-C908-48E5-A5EA-1C528743B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4989-177D-4909-B196-4E4CCE541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D2C1-9B31-42A8-A2F2-3651A5A1E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52DB-390A-4C1F-84DA-D91767D25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4475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NAME OF BUSTER POINDEXTER'S FIRST HIT SONG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 BODY PARTS WITH 3 LETTERS: ARM, EAR, HIP, GUM, JAW, LEG, LIP, RIB, TO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THIRDS OF THE U.S. PRESIDENTS SERVED IN WHAT BRANCH OF THE ARMED FO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NAME BESIDES CARDINALS IS SHARED BY A MLB FRANCHISE AND AN NFL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362320" y="487692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&lt;HEAD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95480" y="768240"/>
            <a:ext cx="69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TML COMMAND TO GIVE METADATA FOR A DOCU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GOLF CLUB HAVE LONGER SHAFTS AND ROUNDER HEA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PRODUCT OF TWO 3-DIMENSIONAL VECTORS GIVES ANOTHER VECT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KEY ON MOST KEYBOARDS, BESIDES THE SPACE B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 BODY PARTS WITH 3 LETTERS: ARM, EAR, HIP, GUM, JAW, LEG, LIP, RIB, TO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9080" y="762120"/>
            <a:ext cx="7305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TRADED SP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71640" y="762120"/>
            <a:ext cx="7200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NAME OF BUSTER POINDEXTER'S FIRST HIT SO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66720" y="4800600"/>
            <a:ext cx="7810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RE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THIRDS OF THE U.S. PRESIDENTS SERVED IN WHAT BRANCH OF THE ARMED FOR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NAME BESIDES CARDINALS IS SHARED BY A MLB FRANCHISE AND AN NFL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TML COMMAND TO GIVE METADATA FOR A DOC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GOLF CLUB HAVE LONGER SHAFTS AND ROUNDER HEAD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38240" y="762120"/>
            <a:ext cx="706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PRODUCT OF TWO 3-DIMENSIONAL VECTORS GIVES ANOTHER VECTO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KEY ON MOST KEYBOARDS, BESIDES THE SPACE B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MOST TRADED SP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2:32Z</dcterms:modified>
  <cp:revision>343</cp:revision>
  <dc:subject/>
  <dc:title>Slide 1</dc:title>
</cp:coreProperties>
</file>