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D6E-808B-4C9B-B7C1-FFFFD4A6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137E-32F4-4084-914A-C5D6C585F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8DB-C250-439A-B0F5-E20D543CB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891-2DFD-4476-8E21-60580CA6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1072-ACC3-4DB2-8EE4-6340FBF3F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57EA-33EB-4CDE-B403-CA0036D9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F6A-521C-4BC8-A70D-3CE7036A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DF50-0E4C-473D-A0E7-ABA10716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91A0-BDB5-444E-B19F-16DAADC1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BC33-1080-4F12-A61C-7809EDC6C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386F-2702-4B11-B083-03A63C9F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A4D8-E0C5-4BC5-A0FE-28F90908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D89-8118-4C1D-81CA-8DA16AA5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C1C-86F5-432D-AFF4-9A85614A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5DE-D2C1-4FBF-AD39-864FCA2F8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46E-E8C5-4618-B9B1-631CF4A62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910F-DA81-423C-B09D-38240A21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FAFE-615C-44A1-86F1-67DB3619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127-CE48-40F6-9946-0FD46768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0E20-FB1B-4F1B-85C5-83A6BA97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AE09-A4B3-45D2-823F-650ABD3A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FA2B-4678-4AB0-92FF-4F9FB6D6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E016-2347-4E63-A180-CF55D1B0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BEST DIRECTOR OSCARS, FOR "YOU CAN'T TAKE IT WITH YOU", "IT HAPPENED ONE NIGHT", AND   "MR. DEEDS GOES TO 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HALLOW HAL", "SCHOOL OF ROCK", AND "NACHO LIBR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WKEYE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A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RTOONIST DREW "LI'L ABNER" FOR 4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  BR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52480" y="757080"/>
            <a:ext cx="5639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J.D."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CHAP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MONTY PYTHON PLAYED THE LEAD ROLE IN BOTH "HOLY GRAIL" AND "LIFE OF BR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ZAP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-CONFORMIST MUSICIAN PUT OUT OVER 60 ALBUMS, BOTH SOLO AND WITH HIS BAND, THE MOTHERS OF INVEN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HALLOW HAL", "SCHOOL OF ROCK", AND "NACHO LIBR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CSN&amp;Y WAS A MEMBER OF THE HOLLIES BEFORE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CA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BEST DIRECTOR OSCARS, FOR "YOU CAN'T TAKE IT WITH YOU", "IT HAPPENED ONE NIGHT", AND   "MR. DEEDS GOES TO 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 THEIR  NAMES  IS  "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WKEYE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RTOONIST DREW "LI'L ABNER" FOR 4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76520" y="761760"/>
            <a:ext cx="5790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J.D." ON "SCRU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MONTY PYTHON PLAYED THE LEAD ROLE IN BOTH "HOLY GRAIL" AND "LIFE OF BR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-CONFORMIST MUSICIAN PUT OUT OVER 60 ALBUMS, BOTH SOLO AND WITH HIS BAND, THE MOTHERS OF INVEN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CSN&amp;Y WAS A MEMBER OF THE HOLLIES BEFORE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2:32:42Z</dcterms:created>
  <dc:creator>Jennifer Budzinski</dc:creator>
  <dc:description/>
  <dc:language>en-US</dc:language>
  <cp:lastModifiedBy>Erich Friedman</cp:lastModifiedBy>
  <dcterms:modified xsi:type="dcterms:W3CDTF">2020-08-24T14:01:33Z</dcterms:modified>
  <cp:revision>385</cp:revision>
  <dc:subject/>
  <dc:title>Slide 1</dc:title>
</cp:coreProperties>
</file>