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7AA3-A28D-4CC8-93AF-5CCEB4144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1B03-8A64-41B6-B6A5-2EB11CE2C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1A65-0FB5-4669-A930-D2BF56CE2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EF1C-E057-40E3-AB37-9BDC87027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AF2C-B90D-4313-94F0-8E68FC9C8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9381-C943-414C-B287-854834FEC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EA91-DBD0-435A-9352-5EA5103E0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B4BA-D588-4192-9694-B79212472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705D-679E-41A0-AEF1-3F2BDE0CC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5A32-15CF-49C1-BCDB-F75BB2215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202F-A4C6-43DF-9AD7-2E3658729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2BDA-36C8-468A-AB5D-F3F4CF3CD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C4E8-736D-4AEE-9D4F-A6EFCA972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32E2-E52D-4F50-9887-E8173D263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D2D2-3059-46E2-86F5-BB9B6CD55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888E-933E-4B12-AFF7-8F8A86C47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630E-F7E8-4E28-8F18-6ECE6D528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9CA9-8870-4C6D-8B42-43781C15F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DCD3-B283-4054-9518-D9AC69F9C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C389-EF1D-4501-8125-E49306B77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9800-C028-4FA3-B042-54F415248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4CAC-EF81-4416-873A-7DE28C1F8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D387C-049C-4D6A-8EE5-C046CE425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0666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3 BEST DIRECTOR OSCARS, FOR "YOU CAN'T TAKE IT WITH YOU", "IT HAPPENED ONE NIGHT", AND   "MR. DEEDS GOES TO TOW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SHALLOW HAL", "SCHOOL OF ROCK", AND "NACHO LIBRE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N  AL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295280" y="762120"/>
            <a:ext cx="6553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HAWKEYE ON TV'S "M*A*S*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  SAJ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562040" y="762120"/>
            <a:ext cx="6019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S "WHEEL OF FORTU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  CA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RTOONIST DREW "LI'L ABNER" FOR 43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ACH  BR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752480" y="757080"/>
            <a:ext cx="56390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J.D." ON "SCRUB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HAM  CHAP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EMBER OF MONTY PYTHON PLAYED THE LEAD ROLE IN BOTH "HOLY GRAIL" AND "LIFE OF BRI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  ZAP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N-CONFORMIST MUSICIAN PUT OUT OVER 60 ALBUMS, BOTH SOLO AND WITH HIS BAND, THE MOTHERS OF INVENT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SHALLOW HAL", "SCHOOL OF ROCK", AND "NACHO LIBRE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HAM  N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EMBER OF CSN&amp;Y WAS A MEMBER OF THE HOLLIES BEFOREH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  CAP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3 BEST DIRECTOR OSCARS, FOR "YOU CAN'T TAKE IT WITH YOU", "IT HAPPENED ONE NIGHT", AND   "MR. DEEDS GOES TO TOW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09760" y="4343400"/>
            <a:ext cx="6324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ONLY  VOWEL  IN   THEIR  NAMES  IS  "A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2396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HAWKEYE ON TV'S "M*A*S*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447920" y="762120"/>
            <a:ext cx="6248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S "WHEEL OF FORTU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RTOONIST DREW "LI'L ABNER" FOR 43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676520" y="761760"/>
            <a:ext cx="5790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J.D." ON "SCRUB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EMBER OF MONTY PYTHON PLAYED THE LEAD ROLE IN BOTH "HOLY GRAIL" AND "LIFE OF BRI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N-CONFORMIST MUSICIAN PUT OUT OVER 60 ALBUMS, BOTH SOLO AND WITH HIS BAND, THE MOTHERS OF INVENTIO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EMBER OF CSN&amp;Y WAS A MEMBER OF THE HOLLIES BEFOREH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12:32:42Z</dcterms:created>
  <dc:creator>Jennifer Budzinski</dc:creator>
  <dc:description/>
  <dc:language>en-US</dc:language>
  <cp:lastModifiedBy>Erich Friedman</cp:lastModifiedBy>
  <dcterms:modified xsi:type="dcterms:W3CDTF">2020-08-24T14:01:33Z</dcterms:modified>
  <cp:revision>385</cp:revision>
  <dc:subject/>
  <dc:title>Slide 1</dc:title>
</cp:coreProperties>
</file>