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6C8D-B76F-4AA5-A020-17B6A1CE1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C75B-DF96-4DF0-B1FE-27C8FE5C9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DE27-2CD3-4092-883D-064460873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94B6-03F6-4870-A58C-9BD9DF3F8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204B-C78A-497E-85F1-B99CEC632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82B5-798C-47E5-98FA-E09CAF3C9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66AE-5D88-404B-B881-1A64972B4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DD3F-E72A-49EE-8832-F1FEE01AD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D496-744D-4B11-9923-62AFD6BDB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0F45-235C-43DB-BCF4-B77FEF68D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71B2-F55F-458C-8F4A-D0D8FDBA6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F3CD-0EB4-410A-8C10-D295FD690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E612-48B2-40BB-90A6-60E12727F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F68B-A010-44F0-9DCA-9BD5EF45E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CC95-24F0-4F74-A262-17727F43E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A036-1C9E-47E2-B7FF-71222C03D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A39D-C645-46A6-810D-1A7FB5024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A406-EF1E-4505-8078-F36150BF1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B24A-CBD3-4681-9EAA-4A010CF80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673B-531C-4DFB-A8C8-0F7EE966D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B9FB-EBB1-4194-8DF6-B89A7B0BD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4A41-1ADE-4BD8-93F1-A45506563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A389-DC54-429E-8A36-4A2B746F6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BEST DIRECTOR OSCARS, FOR "YOU CAN'T TAKE IT WITH YOU", "IT HAPPENED ONE NIGHT", AND   "MR. DEEDS GOES TO T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HALLOW HAL", "SCHOOL OF ROCK", AND "NACHO LIBR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AL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AWKEYE ON TV'S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SAJ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62040" y="762120"/>
            <a:ext cx="60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"WHEEL OF FORTU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CA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RTOONIST DREW "LI'L ABNER" FOR 43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CH  BR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52480" y="757080"/>
            <a:ext cx="56390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J.D." ON "SCRU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HAM  CHAP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MONTY PYTHON PLAYED THE LEAD ROLE IN BOTH "HOLY GRAIL" AND "LIFE OF BRI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ZAP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N-CONFORMIST MUSICIAN PUT OUT OVER 60 ALBUMS, BOTH SOLO AND WITH HIS BAND, THE MOTHERS OF INVEN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HALLOW HAL", "SCHOOL OF ROCK", AND "NACHO LIBR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HAM  N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CSN&amp;Y WAS A MEMBER OF THE HOLLIES BEFOREH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CA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BEST DIRECTOR OSCARS, FOR "YOU CAN'T TAKE IT WITH YOU", "IT HAPPENED ONE NIGHT", AND   "MR. DEEDS GOES TO T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3434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VOWEL  IN   THEIR  NAMES  IS  "A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AWKEYE ON TV'S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"WHEEL OF FORTU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RTOONIST DREW "LI'L ABNER" FOR 43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76520" y="761760"/>
            <a:ext cx="5790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J.D." ON "SCRUB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MONTY PYTHON PLAYED THE LEAD ROLE IN BOTH "HOLY GRAIL" AND "LIFE OF BRI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N-CONFORMIST MUSICIAN PUT OUT OVER 60 ALBUMS, BOTH SOLO AND WITH HIS BAND, THE MOTHERS OF INVEN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CSN&amp;Y WAS A MEMBER OF THE HOLLIES BEFOREH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12:32:42Z</dcterms:created>
  <dc:creator>Jennifer Budzinski</dc:creator>
  <dc:description/>
  <dc:language>en-US</dc:language>
  <cp:lastModifiedBy>Erich Friedman</cp:lastModifiedBy>
  <dcterms:modified xsi:type="dcterms:W3CDTF">2020-08-24T14:01:33Z</dcterms:modified>
  <cp:revision>385</cp:revision>
  <dc:subject/>
  <dc:title>Slide 1</dc:title>
</cp:coreProperties>
</file>