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CA44-BA52-435E-A088-80660C0FB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5133-B2C6-4CE3-B6B5-26C3119CA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EEF6-D381-404C-A7EF-320B48B4D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0334-D53B-4420-8F75-D6615B77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19A-AA1F-45CF-8D5D-2F4A2101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0975-CDEF-4F84-A9DA-488E4428C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4C0B-0E80-44D6-B985-201F2CF54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48DB-9BD8-40FE-A28B-89670968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5480-B420-4010-BB27-99E6F1519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E68E-FC0B-4848-B457-892D71AD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78DB-8C04-4481-8200-757FD34F1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ACE1-7D41-4B0B-9268-886E2A970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7645-2A37-491A-A64D-2176F3DE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5169-ECCE-474B-B156-A7D01CB99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1B20-E291-4915-A7F2-FAF05B09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4073-1F5B-41B0-94C2-F66306F9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16DD-65B5-48BD-9AC3-ED2DD612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9E6E-475D-423D-B6FA-C2FF57F28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7E7-698C-4453-A5B3-85B566A74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425D-DAB1-4C0C-8C2C-72E5AD4B5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E7CF-AAC7-4512-9D20-9BE85A95B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BC57-D585-4051-9DF9-10B2E220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4898-B413-4F66-BDBD-C7E13E8FF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66720" y="1066680"/>
            <a:ext cx="7810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YOUTH INTERNATIONAL PARTY (OR "YIPPIES") WITH JERRY RUBI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SINGER'S NAME IS A JUXTAPOSITION OF A 50'S SEX SYMBOL AND A 60'S CULT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R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C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RAZY AND UNPREDICTABLE AFRICAN-AMERICAN ON THE TV SHOW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362320" y="487692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THE WORLD ACCORDING TO GARP" AND "MRS. DOUBT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POLICE SQUAD!" AND "THE NAKED GUN" FRANCHISE BASED ON THAT TV SH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SEY  BUCKING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GUITARIST FOR FLEETWOOD MAC WAS FIRED BY THE BAND IN 20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  O'CON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RCHIE BUN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SINGER'S NAME IS A JUXTAPOSITION OF A 50'S SEX SYMBOL AND A 60'S CULT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LYN  WA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945 NOVEL "BRIDESHEAD REVISI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IE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YOUTH INTERNATIONAL PARTY (OR "YIPPIES") WITH JERRY RUB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WHO  HAVE  WOMEN'S  FIRST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R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RAZY AND UNPREDICTABLE AFRICAN-AMERICAN ON THE TV SHOW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THE WORLD ACCORDING TO GARP" AND "MRS. DOUBT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POLICE SQUAD!" AND "THE NAKED GUN" FRANCHISE BASED ON THAT TV S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GUITARIST FOR FLEETWOOD MAC WAS FIRED BY THE BAND IN 201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RCHIE BUN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945 NOVEL "BRIDESHEAD REVISI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2:59Z</dcterms:modified>
  <cp:revision>338</cp:revision>
  <dc:subject/>
  <dc:title>Slide 1</dc:title>
</cp:coreProperties>
</file>