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2792-80F4-4B34-BFCA-7812B627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60CB-7930-40DA-B91F-55D0F0AF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8A14-3892-4EE2-A367-A1B63CE6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6C9C-9CD4-4D2C-8EDA-9EE2A8A9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8FA7-1DC6-4DCA-BCF5-853A8658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DD6-1834-46BD-9CDD-D860A3DB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DE7C-C213-4A3B-913C-4676C8B2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0371-F4A1-40B5-95DD-716F6DC8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831-47C6-4C69-A146-BF4084B2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CDE-D29D-42E4-8269-A132EBDE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A3B5-1B05-4955-9C40-2E25A3DD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9DA-E770-48BA-AC1E-603D18E6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617-2AC7-4EB8-A80A-5CE00A25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8B65-5C0A-4A85-9C6F-A042079C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2D4C-407D-49B4-BC94-6A0DC6D0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752-9D31-43FA-A7F5-D7D9E5AF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60A3-28F3-418D-B0C0-8C313FDB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69F9-196A-4105-BA21-E1315168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487-328F-4ED5-880E-CFA4F490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C468-5251-41A9-9ED3-21D1097F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2A7-237E-4149-9609-EE57957D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0CC-0D4F-4077-B258-4670B944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354D-49C0-43C6-994C-0122CD0C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66720" y="10666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YOUTH INTERNATIONAL PARTY (OR "YIPPIES") WITH JERRY RUB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SINGER'S NAME IS A JUXTAPOSITION OF A 50'S SEX SYMBOL AND A 60'S CULT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R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RAZY AND UNPREDICTABLE AFRICAN-AMERICAN ON THE TV SHOW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362320" y="487692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THE WORLD ACCORDING TO GARP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POLICE SQUAD!" AND "THE NAKED GUN" FRANCHISE BASED ON THAT TV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EY  BUCK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GUITARIST FOR FLEETWOOD MAC WAS FIRED BY THE BAND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RCHIE BUN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SINGER'S NAME IS A JUXTAPOSITION OF A 50'S SEX SYMBOL AND A 60'S CULT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LYN  WA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945 NOVEL "BRIDESHEAD REVIS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IE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YOUTH INTERNATIONAL PARTY (OR "YIPPIES") WITH JERRY RUB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WHO  HAVE  WOMEN'S  FIRS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R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RAZY AND UNPREDICTABLE AFRICAN-AMERICAN ON THE TV SHOW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THE WORLD ACCORDING TO GARP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POLICE SQUAD!" AND "THE NAKED GUN" FRANCHISE BASED ON THAT TV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GUITARIST FOR FLEETWOOD MAC WAS FIRED BY THE BAND IN 20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RCHIE BUN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945 NOVEL "BRIDESHEAD REVIS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59Z</dcterms:modified>
  <cp:revision>338</cp:revision>
  <dc:subject/>
  <dc:title>Slide 1</dc:title>
</cp:coreProperties>
</file>