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6ABA-3709-47C8-9C18-A972C28AD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698D-D13E-44DF-9CD7-63EF256CA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FFEC-42EE-42B9-8F7A-8AD67090C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2457-4584-4E12-B9F8-1812DC562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B678-7CB6-4CB2-9DB9-21E10BA43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68D4-E81D-4318-AEBA-2F6C4F26BE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C7D2-63C6-472D-88CA-BDDD0BBA8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E95D-3277-4EBE-B9EF-CE173F087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CB9B-86E2-4694-B1D7-055E46B70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2BB7-2D5F-4476-A5E5-B54463DBE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E529C-04D2-41F6-ABB2-7CE40C297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2913-229D-4F14-A639-7D37864A1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3FA8E-3032-49EC-842F-54C38E36E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0745B-4868-4588-B245-104B430B8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989ED-C627-4B4F-9478-F6AA78379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F165-85D9-4828-806E-2A45AB3B4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B9B5-28E5-4D6D-B3A3-ACAB618E7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A5B8D-2352-4CE3-925F-6528ADCAE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3070-7E03-493E-A061-3D1200BB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FDF-956D-4E93-9E5F-27A843CFF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F861-2D12-4A01-BF4C-66C4B4784C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11B1-5C50-4726-A6D5-4104684FD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021C-1938-457C-84A0-98CAE127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666720" y="1066680"/>
            <a:ext cx="7810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YOUTH INTERNATIONAL PARTY (OR "YIPPIES") WITH JERRY RUBI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LYN  MAN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SINGER'S NAME IS A JUXTAPOSITION OF A 50'S SEX SYMBOL AND A 60'S CULT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R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ACY  MORG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RAZY AND UNPREDICTABLE AFRICAN-AMERICAN ON THE TV SHOW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362320" y="4876920"/>
            <a:ext cx="4419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IN  WILLI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THE WORLD ACCORDING TO GARP" AND "MRS. DOUBTFI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LIE  NIELS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POLICE SQUAD!" AND "THE NAKED GUN" FRANCHISE BASED ON THAT TV SH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NDSEY  BUCKING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GUITARIST FOR FLEETWOOD MAC WAS FIRED BY THE BAND IN 2018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OL  O'CONN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RCHIE BUN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EAVY METAL SINGER'S NAME IS A JUXTAPOSITION OF A 50'S SEX SYMBOL AND A 60'S CULT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VELYN  WAU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09760" y="762120"/>
            <a:ext cx="6324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945 NOVEL "BRIDESHEAD REVISITE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BIE  HOFF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FOUNDED THE YOUTH INTERNATIONAL PARTY (OR "YIPPIES") WITH JERRY RUBI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09760" y="4343400"/>
            <a:ext cx="6324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WHO  HAVE  WOMEN'S  FIRST  N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AN OSCAR FOR BEST ACTOR FOR "R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CRAZY AND UNPREDICTABLE AFRICAN-AMERICAN ON THE TV SHOW "30 ROC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ROLES IN "THE WORLD ACCORDING TO GARP" AND "MRS. DOUBTFI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POLICE SQUAD!" AND "THE NAKED GUN" FRANCHISE BASED ON THAT TV SHOW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28560" y="762120"/>
            <a:ext cx="7886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 GUITARIST FOR FLEETWOOD MAC WAS FIRED BY THE BAND IN 2018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ARCHIE BUN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1945 NOVEL "BRIDESHEAD REVISITE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1T12:22:59Z</dcterms:modified>
  <cp:revision>338</cp:revision>
  <dc:subject/>
  <dc:title>Slide 1</dc:title>
</cp:coreProperties>
</file>