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CEC-5BBD-47E1-8A50-9272169E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36D-13C2-4524-988E-31A00D41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7F8-AA3C-412F-9DB4-CCF285AF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1FC-C718-4E57-88D6-9DA3F4F8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D5E-8F53-4638-A88A-6C1D0C41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961-236F-4DDB-9AF3-CAB831141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00A-8FE5-4233-AFB3-83E69C0D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AD0-7282-4635-9311-1A2B5CAF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1F9-D2D8-40BF-83C4-74E0B2B1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299-66DE-449F-B577-F1DB9311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D19A-F13A-4EE7-96FB-DFC96396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157-57F9-4F71-8E06-E8527ADC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06C0-BBEE-4584-8ED3-F1E00031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F93-5AB9-4710-B7F4-AFF59018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BEBA-8A64-4A43-BB91-8B1441F7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8E3B-BB03-4E39-8293-E76AE2CE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838-A33B-4C2E-8DA1-8FBE7506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EED-C9AA-4C89-9534-139B0677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088-3E85-4BAE-9863-1C76543C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696-66F4-4929-9B4F-14B88211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A79-885B-4148-83DD-56C083FB8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186-63AA-40F6-B14B-6C7A512F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A72-725C-409C-9A79-1E452DAC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833560" y="2602080"/>
            <a:ext cx="347688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2209680" y="487692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6560" y="762120"/>
            <a:ext cx="8210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952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APITALS  BEGIN  WITH  "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2771640" y="251460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6:53Z</dcterms:modified>
  <cp:revision>358</cp:revision>
  <dc:subject/>
  <dc:title>Slide 1</dc:title>
</cp:coreProperties>
</file>