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01D8-3C1A-4A60-A6A7-8E0488F13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668-3514-4F15-A3BD-8C3DFF176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B84A-626D-41DA-B24E-E4C8F7CC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AADE-5EE1-4502-9005-A32A79E5C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B9FA-76E0-4D68-815A-66BA0BCD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A57C-A037-4255-81F4-92D54D83E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8DD0-9492-4E5E-88C2-76EF11C5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70DF-2F33-4A93-9F76-D20C7244B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C82-9C47-4857-83BE-BA95CC764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55CE-6591-4A2A-942F-1A93870C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E50B-F81A-4E64-B514-47A8C33FC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89FC-0C46-44D2-A068-E0CD94EF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8A6F-641F-47C4-98B5-B82907C28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BEB-7663-46F5-A331-9BCDEF29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F16-6DDB-4AC2-9BD5-536D87BD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9E3C-2D9B-42CE-BB36-05EB5C1FA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04C9-C3F3-4ADE-B7AE-A142634A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039C-E860-4EFD-A93B-92ABFB01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9CED-E8A1-4000-85FA-A6D2C1E3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B9D7-1B2B-4073-A8CE-ABE6AE95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1A7-837C-4E3D-BE50-31E7DFA6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77E6-0043-458B-AC2C-85D83F7C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6C5D-0CE0-4101-AD5F-9CFF9BB5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DOES THE PLAY AND FILM "EVITA"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OUTHEAST ASIAN COUNTRY THAT AVOIDED DIRECT WESTERN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DLE EASTERN COUNTRY HAS THI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833560" y="2602080"/>
            <a:ext cx="347688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BI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UGOSLAVIA BECAME  BOSNIA AND HERZEGOVINA, CROATIA, MACEDONIA, MONTENEGRO, SLOVENIA, AND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2209680" y="487692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4320" y="762120"/>
            <a:ext cx="75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GDP, AFTER THE U.S., CHINA, AND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A HISTORY OF ARMED NEUTRALITY, AND DIDN'T EVEN JOIN THE U.N. UNTIL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6560" y="762120"/>
            <a:ext cx="8210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OUTH AMERICAN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Y OF TRA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8640" y="762120"/>
            <a:ext cx="714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OUTHEAST ASIAN COUNTRY THAT AVOIDED DIRECT WESTERN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UKRAINE AND SLOVE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DOES THE PLAY AND FILM "EVITA" TAKE PLA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0" y="4952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CAPITALS  BEGIN  WITH  "B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DLE EASTERN COUNTRY HAS THI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2771640" y="251460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UGOSLAVIA BECAME  BOSNIA AND HERZEGOVINA, CROATIA, MACEDONIA, MONTENEGRO, SLOVENIA, AND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GDP, AFTER THE U.S., CHINA, AND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A HISTORY OF ARMED NEUTRALITY, AND DIDN'T EVEN JOIN THE U.N. UNTIL 200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OUTH AMERICAN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Y OF TRANSYLV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UKRAINE AND SLOVE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6:53Z</dcterms:modified>
  <cp:revision>358</cp:revision>
  <dc:subject/>
  <dc:title>Slide 1</dc:title>
</cp:coreProperties>
</file>