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F89A-0C50-4678-B70F-E36F95C3D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EBBE-5A44-496A-A2FA-970EB719D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6AEE-B35D-47E0-BBC6-A2801225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40F9-5E6E-45A0-8E3A-5E84EDC15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B24-E16B-4949-A6CA-B834B62D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1421-0784-4B00-8FE6-1D188EC2E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CBAA-884C-4CD2-8212-49115A9D5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1A14-37ED-4543-AD95-C84EE817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4704-C350-4FB7-AA09-FEC0B95B4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D60A-D018-4550-B874-F86AF8F82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E369-A5C3-408F-8841-3BEF13D8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ECE2-D5F5-4879-B7E2-1B5103C3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42FF-A116-4E7D-8AC8-E4B5CDCF0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550A-7AD7-4630-86AE-F9D05F7BC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7B01-9096-4079-916F-B819A3501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2705-42E5-4302-8016-9FADD595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3B2E-FC93-4A80-9D4E-44A66738C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869D-C98A-4B5D-8F44-BC2E0A5E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2357-E852-4BC6-9580-AA55BA86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EAE9-A1C2-4376-81EA-CF4478BA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A8D-5ACB-412F-B654-B3C76A5A1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E0E8-0599-4D18-802E-D403F319A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6F4F-4E59-4B43-874C-853E3604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DOES THE PLAY AND FILM "EVITA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OUTHEAST ASIAN COUNTRY THAT AVOIDED DIRECT WESTERN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DLE EASTERN COUNTRY HAS THI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833560" y="2602080"/>
            <a:ext cx="347688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BI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UGOSLAVIA BECAME  BOSNIA AND HERZEGOVINA, CROATIA, MACEDONIA, MONTENEGRO, SLOVENIA, AND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2209680" y="487692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4320" y="76212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GDP, AFTER THE U.S., CHINA, AND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A HISTORY OF ARMED NEUTRALITY, AND DIDN'T EVEN JOIN THE U.N. UNTIL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6560" y="762120"/>
            <a:ext cx="8210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OUTH AMERICAN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Y OF TRA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OUTHEAST ASIAN COUNTRY THAT AVOIDED DIRECT WESTERN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UKRAINE AND SLOVE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DOES THE PLAY AND FILM "EVITA" TAKE PLA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952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CAPITALS  BEGIN  WITH  "B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DLE EASTERN COUNTRY HAS THI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2771640" y="2514600"/>
            <a:ext cx="3600720" cy="24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UGOSLAVIA BECAME  BOSNIA AND HERZEGOVINA, CROATIA, MACEDONIA, MONTENEGRO, SLOVENIA, AND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GDP, AFTER THE U.S., CHINA, AND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A HISTORY OF ARMED NEUTRALITY, AND DIDN'T EVEN JOIN THE U.N. UNTIL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OUTH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Y OF TRANSYLV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UKRAINE AND SLOVE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6:53Z</dcterms:modified>
  <cp:revision>358</cp:revision>
  <dc:subject/>
  <dc:title>Slide 1</dc:title>
</cp:coreProperties>
</file>