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3BF-D6C0-4921-9D63-1450356E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6EA-4E99-4F35-A72B-2947EF71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ED6-EB1A-4BEA-B1F9-DB22651B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426-985D-4BBB-9944-2226E9F2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A951-C317-4D67-BB1D-FF7B213C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819-36C5-4F86-B408-D2846A2D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E03-2FA1-4C60-B9EB-2DEC2E94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AEFD-9D5F-4B79-9F8C-3F4FBA67B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29A5-4712-4DA3-9E21-A85E4ACF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224-09F0-4E90-9B6A-C36FF0B5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1AB-92C4-4150-A1C3-D8B90862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319-7268-4E3F-93C6-401C2A56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93E1-6409-4015-BD71-7AA9035B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207-848B-4ADB-AB8A-858DB30C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0EC-CFDB-4E84-AA10-CC4F9EF8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D97-350C-42CD-B52B-70008CD9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0188-CDD6-491A-B464-C8C5FD01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0AF1-9AB5-4F9B-9F0D-ECEA96E7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715-455E-4F0C-AC87-D7CBC1B9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0A4-7EAF-4513-8D11-BEF56278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915-79DC-4363-862C-3C0894C4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467-DB0A-4978-A474-459FAD0D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2138-5690-4B85-8214-9C86423F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43040" y="990360"/>
            <a:ext cx="765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E  KI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685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AY  LOH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U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68580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8640" y="762120"/>
            <a:ext cx="7686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EDM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3400" y="685800"/>
            <a:ext cx="7477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NATURALLY  RED 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6720" y="762120"/>
            <a:ext cx="7628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7:19Z</dcterms:modified>
  <cp:revision>362</cp:revision>
  <dc:subject/>
  <dc:title>Slide 1</dc:title>
</cp:coreProperties>
</file>