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76FE-D251-48A3-A648-2F239AFDC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5C1C-B831-42FC-9BBF-7EC29ADA6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47BB-A2DB-410A-ADA2-52F3EEDD7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4A25-2DA9-4BB9-A999-377D275C3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76DC-7CC7-4275-9BA1-D66A96009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5111-3E2D-4439-8BDF-27159FF99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EAC6-67C8-402E-8E13-2AE8164CE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577B-A523-47CC-9654-03564F999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9424-4CE8-4B4C-ACD7-F8E5EAA1B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C977-33FF-449C-A0B7-C656E0847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758B-5304-4B99-AA55-E136653A3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C522-864E-486C-BADF-D45CB33DB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583C-D680-471B-8450-5A16DC9E3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B36D-70AB-41E5-8A0C-479202AA7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233B-1CF2-4557-BD14-1929293AD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BC3A-F7D1-427D-9083-A9653F8A1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F71C-96C6-46E1-95BA-83E7D607B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B517-A403-4C80-B08B-62FFCB0B8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5505-55FA-411C-840D-9AFF2D29A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0816-FEC4-4153-8DA1-1F904CDEF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B6F8-C29E-4D10-99EF-C064EBAB5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CFD5-CD0A-4896-9B4B-184633ADF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03E4-20FE-4001-9009-61121E121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43040" y="990360"/>
            <a:ext cx="7657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36640" y="761760"/>
            <a:ext cx="747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OR FOR "THE THEORY OF EVERYTH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OLE  KID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19320" y="762120"/>
            <a:ext cx="67053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RESS FOR "THE HOU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CE  HA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68580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MARRIED ACTRESS MEGHAN MARK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609480" y="4876920"/>
            <a:ext cx="7925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DSAY  LOHA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68580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 ACTOR STARRED IN "FREAKY FRIDAY", "MEAN GIRLS", AND "HERBIE: FULLY LOAD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2209680" y="4896000"/>
            <a:ext cx="47246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UN 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14320" y="762120"/>
            <a:ext cx="751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NOWBOARDER HAS WON THE MOST OLYMPIC GOLD MEDALS AND MOST X-GAMES GOLD MED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ANNE  MO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99960" y="685800"/>
            <a:ext cx="83440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RESS FOR "STILL AL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752480" y="4876920"/>
            <a:ext cx="5639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AN  O'BRI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8640" y="762120"/>
            <a:ext cx="76867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LATE NIGHT TALK SHOW HOST HAS BEEN A TALK SHOW HOST FOR THE LONGES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SSICA  CHAST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28560" y="762120"/>
            <a:ext cx="7886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AS OSCAR-NOMINATED FOR "THE HELP" AND "ZERO DARK THIR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24000" y="762120"/>
            <a:ext cx="6696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RESS FOR "THE HOU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EDICT  CUMBERB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34920" y="762120"/>
            <a:ext cx="727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S THE TITLE ROLE IN "SHERLO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DIE  REDMAY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3400" y="685800"/>
            <a:ext cx="7477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OR FOR "THE THEORY OF EVERYTHING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76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HAVE  NATURALLY  RED  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43040" y="761760"/>
            <a:ext cx="7657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MARRIED ACTRESS MEGHAN MARK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66720" y="762120"/>
            <a:ext cx="7810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 ACTOR STARRED IN "FREAKY FRIDAY", "MEAN GIRLS", AND "HERBIE: FULLY LOAD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NOWBOARDER HAS WON THE MOST OLYMPIC GOLD MEDALS AND MOST X-GAMES GOLD MED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61800" y="762120"/>
            <a:ext cx="8420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RESS FOR "STILL ALI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56720" y="762120"/>
            <a:ext cx="7628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LATE NIGHT TALK SHOW HOST HAS BEEN A TALK SHOW HOST FOR THE LONGES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81040" y="761760"/>
            <a:ext cx="7981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AS OSCAR-NOMINATED FOR "THE HELP" AND "ZERO DARK THIR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S THE TITLE ROLE IN "SHERLO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1T12:27:19Z</dcterms:modified>
  <cp:revision>362</cp:revision>
  <dc:subject/>
  <dc:title>Slide 1</dc:title>
</cp:coreProperties>
</file>