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911B-A01D-4B26-ADF6-EA48E116A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3225-90DA-48D4-97A7-4447D3F4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3E27-DADD-4272-A9FF-EC248D50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E59-3BD5-41BF-B76A-3FE298FF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E396-AC17-44A4-A078-D6634F90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C80-D022-485E-A861-8FF2CDBE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8FA9-A13B-4757-AF85-5B4716C2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DE0-284A-456C-96C6-A7D39BF1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29E-0530-46C2-9DB9-92253AE9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FE32-C000-45AC-AC4B-1A7F2A39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1CB9-0B15-473F-A6EA-5E25AA70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DEB3-CEEE-43A6-823A-EAEF750A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004-7D27-4651-8CF2-BA133CDC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74E-B18F-4F9E-AB49-6BE60191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7CC-2B40-4F5E-9C7B-BCFAF40E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34D0-AD24-4937-A3A8-713E4F68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83A-DA3F-41B5-B8ED-DEB28AB2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59C-13C2-42C5-B6D9-4354F4EC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471F-AB5E-48C1-8045-CD0A83C9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021-7101-4965-91B7-85F9F259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6F9-FE2A-470C-9090-1301EFE7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9809-CC41-48AA-8476-6E78EDC9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B11-B335-443F-BAAF-DD44AF4F1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43040" y="990360"/>
            <a:ext cx="765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THE THEORY OF EVER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OLE  KI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THE H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685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ACTRESS MEGHAN MARK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AY  LOH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FREAKY FRIDAY", "MEAN GIRLS", AND "HERBIE: FULLY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U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14320" y="76212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THE MOST OLYMPIC GOLD MEDALS AND MOST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9960" y="68580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8640" y="762120"/>
            <a:ext cx="7686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LATE NIGHT TALK SHOW HOST HAS BEEN A TALK SHOW HOST FOR THE LONGE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CHA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HELP" AND "ZERO DARK THI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THE H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THE TITLE ROLE IN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EDM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3400" y="685800"/>
            <a:ext cx="7477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THE THEORY OF EVERYTHING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NATURALLY  RED 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ACTRESS MEGHAN MARK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FREAKY FRIDAY", "MEAN GIRLS", AND "HERBIE: FULLY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THE MOST OLYMPIC GOLD MEDALS AND MOST X-GAMES GOLD MED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6720" y="762120"/>
            <a:ext cx="7628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LATE NIGHT TALK SHOW HOST HAS BEEN A TALK SHOW HOST FOR THE LONGES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HELP" AND "ZERO DARK THI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THE TITLE ROLE IN "SHER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7:19Z</dcterms:modified>
  <cp:revision>362</cp:revision>
  <dc:subject/>
  <dc:title>Slide 1</dc:title>
</cp:coreProperties>
</file>