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BAA0-58B9-42AC-95BE-1AED1102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136B-E245-47C4-97DD-41C88F16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11F-B31F-4C56-B8C0-77D30396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2F7-33EF-42C8-9397-C53127F9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ED2C-1C64-4D64-ADC3-B045910A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276A-BE9B-4AB4-AED0-D54C3F84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5B0-18AC-4EA5-973E-7681E695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D5DD-9A1B-471D-B578-95FD07930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A16-7B79-4C07-B98D-DB7B6178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3BB4-21D7-4718-A0B6-691B6C85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8E4-8D1B-450F-91A7-FDAC956B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1D7D-6C43-418E-8786-E2D7F744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551C-DDBF-4598-B98D-965C1D2C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EA41-9DAC-4BB4-B2D7-8AE1A994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4A9D-2C75-4190-A1B1-CDAE1B54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116-86FB-4ACB-BEE9-F1BE26AD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9E8E-A8B3-4CBA-83B9-9E4EE448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7FA-8695-4F32-850F-2662E76F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6FBC-75CA-4B9E-9861-AD81D024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329B-B9C5-4C62-A864-FA97C9E5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B685-4AF2-4412-9FB6-48842206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EE5-DD92-4418-805F-4980C9EF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5C4-2DDC-4D38-B52E-890E1459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2 "MR. BEAN" FILMS AND 3 "JOHNNY ENGLISH" FIL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CAD IN "BRIDGET JONES'S DIARY", "ABOUT A BOY", AND "AMERICAN DREAM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M  NEE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"TAKEN" FILM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F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LI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68580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AN OSCAR FOR "YOU CAN COUNT ON ME", "THE SAVAGES", AND "KIN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OSCARS FOR BOTH ACTING ("HOWARD'S END") AND WRITING ("SENSE AND SENSIBILITY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R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VILLAIN IN    "DIE HARD", "ROBIN HOOD: PRINCE OF THIEVES", AND THE "HARRY POTTER" FRANCHISE (UNTIL THE LAST FIL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RA  KNIGH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84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EROINES OF THE PERIOD FILMS "PRIDE &amp; PREJUDICE",  "ATONEMENT", "SILK", AND  "ANNA KARENI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CAD IN "BRIDGET JONES'S DIARY", "ABOUT A BOY", AND "AMERICAN DREAM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NIG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Y JONES IN 2 "PIRATES OF THE CARIBBEAN" FILMS AND VIKTOR IN 3 "UNDERWORL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WAN  AT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2 "MR. BEAN" FILMS AND 3 "JOHNNY ENGLISH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62040" y="43434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ED  IN  THE  FILM  "LOVE  ACTUAL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AN OSCAR FOR "YOU CAN COUNT ON ME", "THE SAVAGES", AND "KIN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OSCARS FOR BOTH ACTING ("HOWARD'S END") AND WRITING ("SENSE AND SENSIBILITY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VILLAIN IN    "DIE HARD", "ROBIN HOOD: PRINCE OF THIEVES", AND THE "HARRY POTTER" FRANCHISE (UNTIL THE LAST FIL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EROINES OF THE PERIOD FILMS "PRIDE &amp; PREJUDICE",  "ATONEMENT", "SILK", AND  "ANNA KARENI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Y JONES IN 2 "PIRATES OF THE CARIBBEAN" FILMS AND VIKTOR IN 3 "UNDERWORL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7:49:26Z</dcterms:created>
  <dc:creator>Jennifer Budzinski</dc:creator>
  <dc:description/>
  <dc:language>en-US</dc:language>
  <cp:lastModifiedBy>Erich Friedman</cp:lastModifiedBy>
  <dcterms:modified xsi:type="dcterms:W3CDTF">2020-08-31T12:27:39Z</dcterms:modified>
  <cp:revision>460</cp:revision>
  <dc:subject/>
  <dc:title>Slide 1</dc:title>
</cp:coreProperties>
</file>