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5844-5847-4C10-A52C-3DFF1EA6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1BD6-1F76-4963-A902-59C314206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F6C2-FC7C-4F34-B15C-5BFC2C46E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C13B-BAF1-4AE5-8D9A-EE939F39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E016-7BE0-4BA0-967F-383ABEC40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C104-95BA-4C16-A1D8-3E39659B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2176-2510-44E1-848E-992FEE04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5943-8990-46C5-A19A-B8F16C821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7855-E34B-4567-AD0C-7C2698F96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900-30B6-44A2-A7F7-1DBF701D2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E4B3-39B1-4B80-8C20-F8E95EB82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01EB-0EFD-4693-8DCA-CFDAFE77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B60-1E95-4602-8D25-26FF9BAC6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917-146B-4DA1-9C18-4F93265BB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5283-4E2A-428E-8649-23BFD45C8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3FC8-9427-43E6-8288-581EDD871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A11E-1F59-4D09-A039-0D4D5B4E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0300-230B-4912-BCF7-01BE2E1B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8B5-5E1A-470C-ADB5-3DE38D66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0DE2-E0B6-4E65-82CF-A0BCBF89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F0D2-2924-4CC4-9590-5B519AD55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FA70-4507-4E9F-8C1D-FB9F6C44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E60D-89C7-4462-9104-51CE99ED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M  NEE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"TAKEN" FILM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F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  LIN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68580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THO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RI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38080" y="48769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IRA  KNIGHT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84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CAD IN "BRIDGET JONES'S DIARY", "ABOUT A BOY", AND "AMERICAN DREAM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NIG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WAN  AT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2 "MR. BEAN" FILMS AND 3 "JOHNNY ENGLISH" FILM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62040" y="43434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ED  IN  THE  FILM  "LOVE  ACTUALL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STARRED SANDRA BULLOCK, TOM HANKS, AND THOMAS HORN AS AN AUTISTIC CHI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NOMINATED FOR AN OSCAR FOR "YOU CAN COUNT ON ME", "THE SAVAGES", AND "KINS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PERSON TO WIN OSCARS FOR BOTH ACTING ("HOWARD'S END") AND WRITING ("SENSE AND SENSIBILITY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 VILLAIN IN    "DIE HARD", "ROBIN HOOD: PRINCE OF THIEVES", AND THE "HARRY POTTER" FRANCHISE (UNTIL THE LAST FILM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EROINES OF THE PERIOD FILMS "PRIDE &amp; PREJUDICE",  "ATONEMENT", "SILK", AND  "ANNA KARENI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AVY JONES IN 2 "PIRATES OF THE CARIBBEAN" FILMS AND VIKTOR IN 3 "UNDERWORL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2T17:49:26Z</dcterms:created>
  <dc:creator>Jennifer Budzinski</dc:creator>
  <dc:description/>
  <dc:language>en-US</dc:language>
  <cp:lastModifiedBy>Erich Friedman</cp:lastModifiedBy>
  <dcterms:modified xsi:type="dcterms:W3CDTF">2020-08-31T12:27:39Z</dcterms:modified>
  <cp:revision>460</cp:revision>
  <dc:subject/>
  <dc:title>Slide 1</dc:title>
</cp:coreProperties>
</file>