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71B2-6DDC-4F3D-B722-C9FE1F74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B642-3C30-424E-8FB3-50EC79CD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64D1-2F66-44F4-9008-94966DA72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8CD5-3840-442C-82DF-2AC21DE29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B4C-9B75-4EFE-8660-16B9EDA7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F00-CA6C-41E7-93FB-5D5034BF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4F9-EE2B-4308-9202-E4A1BE14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286-8136-41F7-B577-4EA3EE58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C142-6292-470A-A71D-CCC62589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836F-6987-4EBA-807F-A8159C9F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464E-7469-40D0-BB6A-6DF391B5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CC8-33BF-4549-80B1-E94F6EF63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5A2A-F894-4BD9-82A6-2FD551E2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DAB-770D-4E8D-93F8-AA2F5812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77F8-BFB1-4A2A-BC32-AC6ED96A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E155-333E-4A0F-9076-27C87145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695-F4D2-4B78-AC3E-A4C15C54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6CD-3B32-4E92-B59B-EE98A6AF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944E-5A7F-47AA-849F-5F98D1CA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83BA-4AD0-4BEF-9E32-E2DAAD59D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1DA7-6C16-4904-89C8-FD00B401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7CF-146A-46E8-AFDE-FC72236D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640-36FA-4C10-B8E4-48E8320E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2 "MR. BEAN" FILMS AND 3 "JOHNNY ENGLISH" FIL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CAD IN "BRIDGET JONES'S DIARY", "ABOUT A BOY", AND "AMERICAN DREAM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M  NEE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"TAKEN" FILM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F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LI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68580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AN OSCAR FOR "YOU CAN COUNT ON ME", "THE SAVAGES", AND "KIN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OSCARS FOR BOTH ACTING ("HOWARD'S END") AND WRITING ("SENSE AND SENSIBILITY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R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VILLAIN IN    "DIE HARD", "ROBIN HOOD: PRINCE OF THIEVES", AND THE "HARRY POTTER" FRANCHISE (UNTIL THE LAST FIL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RA  KNIGH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84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EROINES OF THE PERIOD FILMS "PRIDE &amp; PREJUDICE",  "ATONEMENT", "SILK", AND  "ANNA KARENI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CAD IN "BRIDGET JONES'S DIARY", "ABOUT A BOY", AND "AMERICAN DREAM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NIG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Y JONES IN 2 "PIRATES OF THE CARIBBEAN" FILMS AND VIKTOR IN 3 "UNDERWORL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WAN  AT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2 "MR. BEAN" FILMS AND 3 "JOHNNY ENGLISH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62040" y="43434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ED  IN  THE  FILM  "LOVE  ACTUAL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AN OSCAR FOR "YOU CAN COUNT ON ME", "THE SAVAGES", AND "KIN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OSCARS FOR BOTH ACTING ("HOWARD'S END") AND WRITING ("SENSE AND SENSIBILITY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VILLAIN IN    "DIE HARD", "ROBIN HOOD: PRINCE OF THIEVES", AND THE "HARRY POTTER" FRANCHISE (UNTIL THE LAST FIL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EROINES OF THE PERIOD FILMS "PRIDE &amp; PREJUDICE",  "ATONEMENT", "SILK", AND  "ANNA KARENI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Y JONES IN 2 "PIRATES OF THE CARIBBEAN" FILMS AND VIKTOR IN 3 "UNDERWORL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7:49:26Z</dcterms:created>
  <dc:creator>Jennifer Budzinski</dc:creator>
  <dc:description/>
  <dc:language>en-US</dc:language>
  <cp:lastModifiedBy>Erich Friedman</cp:lastModifiedBy>
  <dcterms:modified xsi:type="dcterms:W3CDTF">2020-08-31T12:27:39Z</dcterms:modified>
  <cp:revision>460</cp:revision>
  <dc:subject/>
  <dc:title>Slide 1</dc:title>
</cp:coreProperties>
</file>